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976-F72C-465C-A3F5-4AC91FAC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647676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5967000"/>
            <a:ext cx="647676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C53-41E3-45D7-9B75-E70CF60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286236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596700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596700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995-24EB-4C20-9E69-F43D2A28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208512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2862360"/>
            <a:ext cx="208512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2862360"/>
            <a:ext cx="208512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5967000"/>
            <a:ext cx="208512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5967000"/>
            <a:ext cx="208512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5967000"/>
            <a:ext cx="208512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788-541E-4022-9820-7F5B7542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2862360"/>
            <a:ext cx="64767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647-960A-4269-BAE4-B7A1D1EC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6476760" cy="5943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1CD-D7F5-431B-8A33-24D3EDC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3160440" cy="5943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2862360"/>
            <a:ext cx="3160440" cy="5943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EE0-92F4-4E66-BB33-F2947C0A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136-D8BD-4C47-A16E-46226C2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880560"/>
            <a:ext cx="647676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8AF-89FD-4746-BF42-543848DB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2862360"/>
            <a:ext cx="3160440" cy="5943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596700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94E-DE27-4731-9080-5B03F540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3160440" cy="5943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286236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596700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A81-253E-437F-876F-B34B205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286236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2862360"/>
            <a:ext cx="316044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5967000"/>
            <a:ext cx="6476760" cy="28350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C4B-6D8F-458C-B327-3553D536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880560"/>
            <a:ext cx="6476760" cy="165132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862360"/>
            <a:ext cx="6476760" cy="5943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rmAutofit fontScale="95000"/>
          </a:bodyPr>
          <a:p>
            <a:pPr marL="392040" indent="-39204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0320" indent="-3272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716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0600" indent="-2602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404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404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404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9024480"/>
            <a:ext cx="1587240" cy="660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9024480"/>
            <a:ext cx="2413080" cy="660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9024480"/>
            <a:ext cx="1587600" cy="66060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1600"/>
                <a:tab algn="l" pos="2203560"/>
                <a:tab algn="l" pos="3305160"/>
                <a:tab algn="l" pos="4406760"/>
                <a:tab algn="l" pos="5508720"/>
                <a:tab algn="l" pos="6610320"/>
                <a:tab algn="l" pos="7711920"/>
                <a:tab algn="l" pos="8813880"/>
                <a:tab algn="l" pos="9915480"/>
              </a:tabLst>
            </a:pPr>
            <a:fld id="{BCF81E6A-44E2-4BD7-A77D-570F69F9BAFE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6520" y="812484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8360" y="799164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717228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709596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609300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6840" y="293832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90840" y="434340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40056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00560" y="322884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05560" y="275256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67400" y="260028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6480" y="170172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58040" y="157788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23040" y="160956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71920" y="170964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21520" y="1986120"/>
            <a:ext cx="49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38800" y="158256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03440" y="156852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1400" y="156852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1160" y="1849320"/>
            <a:ext cx="49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87440" y="156852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57560" y="1852560"/>
            <a:ext cx="49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0600" y="159084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5240"/>
            <a:ext cx="710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65240"/>
            <a:ext cx="0" cy="949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34280" y="165240"/>
            <a:ext cx="0" cy="949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43080" y="165240"/>
            <a:ext cx="1440" cy="9491400"/>
          </a:xfrm>
          <a:custGeom>
            <a:avLst/>
            <a:gdLst/>
            <a:ahLst/>
            <a:rect l="l" t="t" r="r" b="b"/>
            <a:pathLst>
              <a:path w="1" h="5979">
                <a:moveTo>
                  <a:pt x="0" y="0"/>
                </a:moveTo>
                <a:lnTo>
                  <a:pt x="0" y="59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54320" y="165240"/>
            <a:ext cx="1440" cy="9491400"/>
          </a:xfrm>
          <a:custGeom>
            <a:avLst/>
            <a:gdLst/>
            <a:ahLst/>
            <a:rect l="l" t="t" r="r" b="b"/>
            <a:pathLst>
              <a:path w="1" h="5979">
                <a:moveTo>
                  <a:pt x="0" y="0"/>
                </a:moveTo>
                <a:lnTo>
                  <a:pt x="1" y="59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4680" y="169920"/>
            <a:ext cx="1800" cy="9486720"/>
          </a:xfrm>
          <a:custGeom>
            <a:avLst/>
            <a:gdLst/>
            <a:ahLst/>
            <a:rect l="l" t="t" r="r" b="b"/>
            <a:pathLst>
              <a:path w="1" h="5976">
                <a:moveTo>
                  <a:pt x="0" y="0"/>
                </a:moveTo>
                <a:lnTo>
                  <a:pt x="1" y="59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66680"/>
            <a:ext cx="1800" cy="9489960"/>
          </a:xfrm>
          <a:custGeom>
            <a:avLst/>
            <a:gdLst/>
            <a:ahLst/>
            <a:rect l="l" t="t" r="r" b="b"/>
            <a:pathLst>
              <a:path w="1" h="5978">
                <a:moveTo>
                  <a:pt x="0" y="0"/>
                </a:moveTo>
                <a:lnTo>
                  <a:pt x="0" y="59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6880" y="152280"/>
            <a:ext cx="1440" cy="9490320"/>
          </a:xfrm>
          <a:custGeom>
            <a:avLst/>
            <a:gdLst/>
            <a:ahLst/>
            <a:rect l="l" t="t" r="r" b="b"/>
            <a:pathLst>
              <a:path w="1" h="5978">
                <a:moveTo>
                  <a:pt x="1" y="0"/>
                </a:moveTo>
                <a:lnTo>
                  <a:pt x="0" y="59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92800" y="165240"/>
            <a:ext cx="1800" cy="9488520"/>
          </a:xfrm>
          <a:custGeom>
            <a:avLst/>
            <a:gdLst/>
            <a:ahLst/>
            <a:rect l="l" t="t" r="r" b="b"/>
            <a:pathLst>
              <a:path w="1" h="5977">
                <a:moveTo>
                  <a:pt x="0" y="0"/>
                </a:moveTo>
                <a:lnTo>
                  <a:pt x="1" y="59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825480"/>
            <a:ext cx="710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6200" y="30492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reas inter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e la S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12200" y="304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dministr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01840" y="30492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epto. Recu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an. y Hum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99840" y="241200"/>
            <a:ext cx="75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Oficina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b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393840"/>
            <a:ext cx="7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ndid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7720" y="241200"/>
            <a:ext cx="82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irec. G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e Recur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60400" y="24120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Secretaria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 Fu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19080"/>
            <a:ext cx="53352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80" y="1447920"/>
            <a:ext cx="761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nvío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 pa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trat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1" idx="2"/>
            <a:endCxn id="82" idx="0"/>
          </p:cNvCxnSpPr>
          <p:nvPr/>
        </p:nvCxnSpPr>
        <p:spPr>
          <a:xfrm>
            <a:off x="723960" y="1147680"/>
            <a:ext cx="3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73320" y="1862280"/>
            <a:ext cx="49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56880" y="128124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7200" y="14446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 pa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trat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ersonal y tur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1360" y="127800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63" idx="3"/>
            <a:endCxn id="86" idx="0"/>
          </p:cNvCxnSpPr>
          <p:nvPr/>
        </p:nvCxnSpPr>
        <p:spPr>
          <a:xfrm flipV="1">
            <a:off x="1152360" y="1444680"/>
            <a:ext cx="586440" cy="375120"/>
          </a:xfrm>
          <a:prstGeom prst="bentConnector4">
            <a:avLst>
              <a:gd name="adj1" fmla="val 204484"/>
              <a:gd name="adj2" fmla="val 1617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343240" y="1442880"/>
            <a:ext cx="761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 pa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trat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ersonal y tur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57040" y="127620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endCxn id="89" idx="0"/>
          </p:cNvCxnSpPr>
          <p:nvPr/>
        </p:nvCxnSpPr>
        <p:spPr>
          <a:xfrm flipH="1" flipV="1" rot="5400000">
            <a:off x="2261160" y="1334160"/>
            <a:ext cx="354600" cy="572040"/>
          </a:xfrm>
          <a:prstGeom prst="bentConnector3">
            <a:avLst>
              <a:gd name="adj1" fmla="val 1653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3352680" y="14428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6840" y="127620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2480" y="2252520"/>
            <a:ext cx="60948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8120" y="241920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Exist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plazas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endCxn id="92" idx="0"/>
          </p:cNvCxnSpPr>
          <p:nvPr/>
        </p:nvCxnSpPr>
        <p:spPr>
          <a:xfrm flipH="1" flipV="1" rot="5400000">
            <a:off x="3260160" y="1321200"/>
            <a:ext cx="352440" cy="595800"/>
          </a:xfrm>
          <a:prstGeom prst="bentConnector3">
            <a:avLst>
              <a:gd name="adj1" fmla="val 1657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333360" y="27874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Informe 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áre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a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9280" y="3211560"/>
            <a:ext cx="40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3120" y="261936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80" y="3809880"/>
            <a:ext cx="53352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endCxn id="100" idx="0"/>
          </p:cNvCxnSpPr>
          <p:nvPr/>
        </p:nvCxnSpPr>
        <p:spPr>
          <a:xfrm flipH="1">
            <a:off x="743040" y="3368520"/>
            <a:ext cx="4680" cy="44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4" idx="1"/>
            <a:endCxn id="97" idx="0"/>
          </p:cNvCxnSpPr>
          <p:nvPr/>
        </p:nvCxnSpPr>
        <p:spPr>
          <a:xfrm flipV="1" rot="10800000">
            <a:off x="714240" y="2557080"/>
            <a:ext cx="2748240" cy="230400"/>
          </a:xfrm>
          <a:prstGeom prst="bentConnector4">
            <a:avLst>
              <a:gd name="adj1" fmla="val 43115"/>
              <a:gd name="adj2" fmla="val -6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352680" y="309096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ocumentación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quisi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ormat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de Emple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64200" y="3511440"/>
            <a:ext cx="49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6840" y="292428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7040" y="28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7360" y="3639960"/>
            <a:ext cx="77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9360" y="2400480"/>
            <a:ext cx="3052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58760" y="2793960"/>
            <a:ext cx="256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1560" y="14428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ntrega d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2120" y="1843200"/>
            <a:ext cx="659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5360" y="127620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endCxn id="110" idx="0"/>
          </p:cNvCxnSpPr>
          <p:nvPr/>
        </p:nvCxnSpPr>
        <p:spPr>
          <a:xfrm flipH="1" rot="10800000">
            <a:off x="4190400" y="1442880"/>
            <a:ext cx="572400" cy="2100600"/>
          </a:xfrm>
          <a:prstGeom prst="bentConnector4">
            <a:avLst>
              <a:gd name="adj1" fmla="val -7174"/>
              <a:gd name="adj2" fmla="val 111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352680" y="41860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verifica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0" y="4592520"/>
            <a:ext cx="659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6840" y="401940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endCxn id="114" idx="0"/>
          </p:cNvCxnSpPr>
          <p:nvPr/>
        </p:nvCxnSpPr>
        <p:spPr>
          <a:xfrm rot="5400000">
            <a:off x="3262320" y="2619360"/>
            <a:ext cx="2038680" cy="1095480"/>
          </a:xfrm>
          <a:prstGeom prst="bentConnector3">
            <a:avLst>
              <a:gd name="adj1" fmla="val 44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467160" y="4997520"/>
            <a:ext cx="60948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68840" y="4781520"/>
            <a:ext cx="1440" cy="212760"/>
          </a:xfrm>
          <a:custGeom>
            <a:avLst/>
            <a:gdLst/>
            <a:ahLst/>
            <a:rect l="l" t="t" r="r" b="b"/>
            <a:pathLst>
              <a:path w="1" h="134">
                <a:moveTo>
                  <a:pt x="0" y="0"/>
                </a:moveTo>
                <a:lnTo>
                  <a:pt x="1" y="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80480" y="513396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Es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mplet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70520" y="546084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8" idx="3"/>
            <a:endCxn id="121" idx="0"/>
          </p:cNvCxnSpPr>
          <p:nvPr/>
        </p:nvCxnSpPr>
        <p:spPr>
          <a:xfrm>
            <a:off x="4076640" y="5302440"/>
            <a:ext cx="70560" cy="158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036680" y="5443560"/>
            <a:ext cx="22140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02120" y="1055520"/>
            <a:ext cx="15264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68640" y="1038240"/>
            <a:ext cx="22140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7844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85920" y="5116680"/>
            <a:ext cx="3052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90840" y="597060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stancia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 Inhabilit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98040" y="6386400"/>
            <a:ext cx="40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8" idx="2"/>
            <a:endCxn id="128" idx="0"/>
          </p:cNvCxnSpPr>
          <p:nvPr/>
        </p:nvCxnSpPr>
        <p:spPr>
          <a:xfrm>
            <a:off x="3772080" y="5607000"/>
            <a:ext cx="360" cy="36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531960" y="5530680"/>
            <a:ext cx="256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00320" y="5799240"/>
            <a:ext cx="2293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6320" y="14428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y enví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la Constan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No Inhabilit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52960" y="127152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endCxn id="133" idx="0"/>
          </p:cNvCxnSpPr>
          <p:nvPr/>
        </p:nvCxnSpPr>
        <p:spPr>
          <a:xfrm flipH="1" flipV="1" rot="5400000">
            <a:off x="2536560" y="3092040"/>
            <a:ext cx="4880520" cy="1582200"/>
          </a:xfrm>
          <a:prstGeom prst="bentConnector3">
            <a:avLst>
              <a:gd name="adj1" fmla="val 1047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386160" y="693432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stancia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 Inhabilit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7360" y="7350120"/>
            <a:ext cx="62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sta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0" y="676260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54" idx="2"/>
            <a:endCxn id="136" idx="0"/>
          </p:cNvCxnSpPr>
          <p:nvPr/>
        </p:nvCxnSpPr>
        <p:spPr>
          <a:xfrm rot="5400000">
            <a:off x="2338200" y="3468960"/>
            <a:ext cx="4894920" cy="2036880"/>
          </a:xfrm>
          <a:prstGeom prst="bentConnector3">
            <a:avLst>
              <a:gd name="adj1" fmla="val 502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28600" y="9655200"/>
            <a:ext cx="7112160" cy="1440"/>
          </a:xfrm>
          <a:custGeom>
            <a:avLst/>
            <a:gdLst/>
            <a:ahLst/>
            <a:rect l="l" t="t" r="r" b="b"/>
            <a:pathLst>
              <a:path w="4480" h="1">
                <a:moveTo>
                  <a:pt x="0" y="0"/>
                </a:moveTo>
                <a:lnTo>
                  <a:pt x="4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87600" y="78436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ficio para apli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xamen y enví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documen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p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3880" y="8278920"/>
            <a:ext cx="40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4600" y="767232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50960" y="8413920"/>
            <a:ext cx="51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4040" y="7524720"/>
            <a:ext cx="1800" cy="320760"/>
          </a:xfrm>
          <a:custGeom>
            <a:avLst/>
            <a:gdLst/>
            <a:ahLst/>
            <a:rect l="l" t="t" r="r" b="b"/>
            <a:pathLst>
              <a:path w="1" h="202">
                <a:moveTo>
                  <a:pt x="0" y="0"/>
                </a:moveTo>
                <a:lnTo>
                  <a:pt x="0" y="20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5480" y="143820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ficio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plic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xam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8800" y="1862280"/>
            <a:ext cx="40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2480" y="126684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62360" y="1981080"/>
            <a:ext cx="50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Exam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/>
          <p:nvPr/>
        </p:nvCxnSpPr>
        <p:spPr>
          <a:xfrm flipV="1">
            <a:off x="4267080" y="1447560"/>
            <a:ext cx="2548440" cy="6915600"/>
          </a:xfrm>
          <a:prstGeom prst="bentConnector4">
            <a:avLst>
              <a:gd name="adj1" fmla="val 81746"/>
              <a:gd name="adj2" fmla="val 1041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405480" y="245412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ofici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sultad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v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18800" y="2878200"/>
            <a:ext cx="40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72480" y="225432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3280" y="3019320"/>
            <a:ext cx="62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2139840"/>
            <a:ext cx="1440" cy="312840"/>
          </a:xfrm>
          <a:custGeom>
            <a:avLst/>
            <a:gdLst/>
            <a:ahLst/>
            <a:rect l="l" t="t" r="r" b="b"/>
            <a:pathLst>
              <a:path w="1" h="197">
                <a:moveTo>
                  <a:pt x="0" y="0"/>
                </a:moveTo>
                <a:lnTo>
                  <a:pt x="1" y="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08680" y="3535200"/>
            <a:ext cx="15264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5200" y="3517920"/>
            <a:ext cx="22140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81760" y="31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33440" y="700560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análisis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sultados d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andid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12560" y="7421400"/>
            <a:ext cx="62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0080" y="683424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8360" y="652140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4520" y="6504120"/>
            <a:ext cx="22140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14680" y="669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8200" y="7894800"/>
            <a:ext cx="60984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800568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¿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adecuad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89160" y="8661240"/>
            <a:ext cx="152280" cy="152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5320" y="8647200"/>
            <a:ext cx="22140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8040" y="8028000"/>
            <a:ext cx="3052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04600" y="8439120"/>
            <a:ext cx="25668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/>
          <p:nvPr/>
        </p:nvCxnSpPr>
        <p:spPr>
          <a:xfrm flipV="1" rot="10800000">
            <a:off x="1361520" y="8202240"/>
            <a:ext cx="7668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17600" y="2319480"/>
            <a:ext cx="152280" cy="1522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760" y="2305080"/>
            <a:ext cx="221400" cy="1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360" y="247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47800" y="7605720"/>
            <a:ext cx="1800" cy="290520"/>
          </a:xfrm>
          <a:custGeom>
            <a:avLst/>
            <a:gdLst/>
            <a:ahLst/>
            <a:rect l="l" t="t" r="r" b="b"/>
            <a:pathLst>
              <a:path w="1" h="183">
                <a:moveTo>
                  <a:pt x="0" y="0"/>
                </a:moveTo>
                <a:lnTo>
                  <a:pt x="0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3720" y="9229680"/>
            <a:ext cx="304920" cy="30492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43120" y="849960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0"/>
                </a:moveTo>
                <a:lnTo>
                  <a:pt x="0" y="45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3240" y="9247320"/>
            <a:ext cx="2430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9800" y="1857240"/>
            <a:ext cx="49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360" y="2003400"/>
            <a:ext cx="1440" cy="254160"/>
          </a:xfrm>
          <a:custGeom>
            <a:avLst/>
            <a:gdLst/>
            <a:ahLst/>
            <a:rect l="l" t="t" r="r" b="b"/>
            <a:pathLst>
              <a:path w="1" h="160">
                <a:moveTo>
                  <a:pt x="0" y="0"/>
                </a:moveTo>
                <a:lnTo>
                  <a:pt x="1" y="16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65440" y="1863720"/>
            <a:ext cx="62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Constanc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409920" y="544824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62240" y="424800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19880" y="312408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09920" y="2990880"/>
            <a:ext cx="76212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00560" y="1905120"/>
            <a:ext cx="761760" cy="457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65240"/>
            <a:ext cx="710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9658440"/>
            <a:ext cx="710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65240"/>
            <a:ext cx="0" cy="949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4280" y="165240"/>
            <a:ext cx="0" cy="949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43080" y="165240"/>
            <a:ext cx="1440" cy="9491400"/>
          </a:xfrm>
          <a:custGeom>
            <a:avLst/>
            <a:gdLst/>
            <a:ahLst/>
            <a:rect l="l" t="t" r="r" b="b"/>
            <a:pathLst>
              <a:path w="1" h="5979">
                <a:moveTo>
                  <a:pt x="0" y="0"/>
                </a:moveTo>
                <a:lnTo>
                  <a:pt x="0" y="59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54320" y="165240"/>
            <a:ext cx="1440" cy="9491400"/>
          </a:xfrm>
          <a:custGeom>
            <a:avLst/>
            <a:gdLst/>
            <a:ahLst/>
            <a:rect l="l" t="t" r="r" b="b"/>
            <a:pathLst>
              <a:path w="1" h="5979">
                <a:moveTo>
                  <a:pt x="0" y="0"/>
                </a:moveTo>
                <a:lnTo>
                  <a:pt x="1" y="59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4680" y="169920"/>
            <a:ext cx="1800" cy="9486720"/>
          </a:xfrm>
          <a:custGeom>
            <a:avLst/>
            <a:gdLst/>
            <a:ahLst/>
            <a:rect l="l" t="t" r="r" b="b"/>
            <a:pathLst>
              <a:path w="1" h="5976">
                <a:moveTo>
                  <a:pt x="0" y="0"/>
                </a:moveTo>
                <a:lnTo>
                  <a:pt x="1" y="59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166680"/>
            <a:ext cx="1800" cy="9489960"/>
          </a:xfrm>
          <a:custGeom>
            <a:avLst/>
            <a:gdLst/>
            <a:ahLst/>
            <a:rect l="l" t="t" r="r" b="b"/>
            <a:pathLst>
              <a:path w="1" h="5978">
                <a:moveTo>
                  <a:pt x="0" y="0"/>
                </a:moveTo>
                <a:lnTo>
                  <a:pt x="0" y="59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83360" y="166680"/>
            <a:ext cx="1440" cy="9489960"/>
          </a:xfrm>
          <a:custGeom>
            <a:avLst/>
            <a:gdLst/>
            <a:ahLst/>
            <a:rect l="l" t="t" r="r" b="b"/>
            <a:pathLst>
              <a:path w="1" h="5978">
                <a:moveTo>
                  <a:pt x="1" y="0"/>
                </a:moveTo>
                <a:lnTo>
                  <a:pt x="0" y="59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92800" y="165240"/>
            <a:ext cx="1800" cy="9488520"/>
          </a:xfrm>
          <a:custGeom>
            <a:avLst/>
            <a:gdLst/>
            <a:ahLst/>
            <a:rect l="l" t="t" r="r" b="b"/>
            <a:pathLst>
              <a:path w="1" h="5977">
                <a:moveTo>
                  <a:pt x="0" y="0"/>
                </a:moveTo>
                <a:lnTo>
                  <a:pt x="1" y="59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825480"/>
            <a:ext cx="710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6200" y="30492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reas inter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e la S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12200" y="304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dministr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1840" y="30492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epto. Recu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Finan. y Hum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99840" y="241200"/>
            <a:ext cx="75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Oficina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bo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27640" y="393840"/>
            <a:ext cx="7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ndid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17720" y="241200"/>
            <a:ext cx="82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irec. G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de Recur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60400" y="24120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Secretaria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 Fu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70320" y="173988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y trám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86880" y="2174760"/>
            <a:ext cx="40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36960" y="158760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76760" y="2322360"/>
            <a:ext cx="1440" cy="530280"/>
          </a:xfrm>
          <a:custGeom>
            <a:avLst/>
            <a:gdLst/>
            <a:ahLst/>
            <a:rect l="l" t="t" r="r" b="b"/>
            <a:pathLst>
              <a:path w="1" h="334">
                <a:moveTo>
                  <a:pt x="1" y="0"/>
                </a:moveTo>
                <a:lnTo>
                  <a:pt x="0" y="3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98920" y="896760"/>
            <a:ext cx="304920" cy="30492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8440" y="914400"/>
            <a:ext cx="2430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49760" y="12034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7080" y="284652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li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02720" y="3262320"/>
            <a:ext cx="40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Ofic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33720" y="269388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6400" y="297504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olicitud pa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labora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liación y env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62280" y="3400560"/>
            <a:ext cx="50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Fili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3400" y="274644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endCxn id="215" idx="1"/>
          </p:cNvCxnSpPr>
          <p:nvPr/>
        </p:nvCxnSpPr>
        <p:spPr>
          <a:xfrm>
            <a:off x="4162320" y="3198600"/>
            <a:ext cx="2224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1328760" y="4100400"/>
            <a:ext cx="76212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Recepción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Filiación y tur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15800" y="4516560"/>
            <a:ext cx="50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Fili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95400" y="387180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endCxn id="219" idx="0"/>
          </p:cNvCxnSpPr>
          <p:nvPr/>
        </p:nvCxnSpPr>
        <p:spPr>
          <a:xfrm rot="5400000">
            <a:off x="3979440" y="1279440"/>
            <a:ext cx="551520" cy="5091480"/>
          </a:xfrm>
          <a:prstGeom prst="bentConnector3">
            <a:avLst>
              <a:gd name="adj1" fmla="val 616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3365640" y="5243400"/>
            <a:ext cx="761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Contrat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de pers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47280" y="5670720"/>
            <a:ext cx="79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32280" y="5014800"/>
            <a:ext cx="2854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endCxn id="223" idx="0"/>
          </p:cNvCxnSpPr>
          <p:nvPr/>
        </p:nvCxnSpPr>
        <p:spPr>
          <a:xfrm flipH="1" rot="16200000">
            <a:off x="2459880" y="3957480"/>
            <a:ext cx="568800" cy="200412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3524400" y="6262560"/>
            <a:ext cx="53316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182" idx="2"/>
            <a:endCxn id="227" idx="0"/>
          </p:cNvCxnSpPr>
          <p:nvPr/>
        </p:nvCxnSpPr>
        <p:spPr>
          <a:xfrm>
            <a:off x="3790440" y="5880240"/>
            <a:ext cx="108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9:55:49Z</dcterms:created>
  <dc:creator>SECRETARIA DE SALUD</dc:creator>
  <dc:description/>
  <dc:language>en-US</dc:language>
  <cp:lastModifiedBy>xx</cp:lastModifiedBy>
  <cp:lastPrinted>2005-07-18T17:48:02Z</cp:lastPrinted>
  <dcterms:modified xsi:type="dcterms:W3CDTF">2005-10-29T21:50:08Z</dcterms:modified>
  <cp:revision>41</cp:revision>
  <dc:subject/>
  <dc:title>Presentación de PowerPoint</dc:title>
</cp:coreProperties>
</file>