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F710-D0F2-4574-A774-942C94295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55E6-5C9D-43B3-B379-EE6BAECCE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3331-5E5E-4F34-9FD8-DD4273CE1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138E-42E8-4324-A25F-62790701D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10E5-4843-47E1-A41D-D2BE037F8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ABDF-9F21-4491-8C9C-C4B12D735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FED1-5396-4712-B011-76CFDD184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2F38-E28A-474A-A9CF-91F78ECA0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350A-EEA9-4E11-9997-98B502C31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59AB-C921-4C1E-9360-92191491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2B73-5491-482B-A10B-CF6DC291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9026-BADB-4CF7-8DCC-1362ED02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8EFE0-4B54-45D8-ACFD-11C60E75F0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95800" y="7886880"/>
            <a:ext cx="1143000" cy="60948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73320" y="8178840"/>
            <a:ext cx="1143000" cy="60948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971800" y="7966080"/>
            <a:ext cx="1143000" cy="60948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921040" y="7810560"/>
            <a:ext cx="1143000" cy="60948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00280" y="7137360"/>
            <a:ext cx="1143000" cy="60948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933640" y="5156280"/>
            <a:ext cx="1143000" cy="60948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52720" y="2892600"/>
            <a:ext cx="1143000" cy="60948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014800" y="1844640"/>
            <a:ext cx="1143000" cy="60948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57400" y="1844640"/>
            <a:ext cx="1143000" cy="60948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66880" y="1806480"/>
            <a:ext cx="1143000" cy="60984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228600"/>
            <a:ext cx="6096240" cy="8610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24240" y="228600"/>
            <a:ext cx="0" cy="861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19720" y="228600"/>
            <a:ext cx="0" cy="861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685800"/>
            <a:ext cx="6096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05120" y="132084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35360" y="34128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Usu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15040" y="264960"/>
            <a:ext cx="1614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Responsable de compr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o personal asign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95440" y="325440"/>
            <a:ext cx="76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12880" y="762120"/>
            <a:ext cx="1066680" cy="4572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92240" y="871560"/>
            <a:ext cx="529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73280" y="1630440"/>
            <a:ext cx="1155600" cy="5778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81720" y="1690560"/>
            <a:ext cx="743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Solicitud 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producto y/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serv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44720" y="1630440"/>
            <a:ext cx="1155960" cy="5778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19600" y="1606680"/>
            <a:ext cx="99000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Revisión del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producto solicitado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selección d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Proveedor y emis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de orden de compr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941720" y="1639800"/>
            <a:ext cx="1155960" cy="5778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61600" y="1596960"/>
            <a:ext cx="9669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Recepción de orde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de compra,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verificación d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especificaciones 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entrega de pedid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47960" y="2671920"/>
            <a:ext cx="1155600" cy="5778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57680" y="266076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Recepción 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verificación d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produto y/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serv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967120" y="3679920"/>
            <a:ext cx="914400" cy="84132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37320" y="3882960"/>
            <a:ext cx="73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¿Cump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con lo espe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cificado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49400" y="7664400"/>
            <a:ext cx="1155960" cy="5778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954160" y="7845480"/>
            <a:ext cx="930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Emisión de P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10280" y="456264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10680" y="3924360"/>
            <a:ext cx="326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11360" y="6977160"/>
            <a:ext cx="1155600" cy="5778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5680" y="7097760"/>
            <a:ext cx="80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Recepción 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serv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57080" y="8013600"/>
            <a:ext cx="1067040" cy="4572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72000" y="8126280"/>
            <a:ext cx="65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TÉRMI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994280" y="7666200"/>
            <a:ext cx="1155600" cy="5778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66360" y="7721640"/>
            <a:ext cx="81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Corrección 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Conform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65080" y="143352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25720" y="142416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21280" y="142416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24280" y="249084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15760" y="676260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28960" y="748332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60880" y="748332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endCxn id="65" idx="0"/>
          </p:cNvCxnSpPr>
          <p:nvPr/>
        </p:nvCxnSpPr>
        <p:spPr>
          <a:xfrm flipH="1" flipV="1">
            <a:off x="5519880" y="1639800"/>
            <a:ext cx="729000" cy="6550200"/>
          </a:xfrm>
          <a:prstGeom prst="bentConnector4">
            <a:avLst>
              <a:gd name="adj1" fmla="val -11067"/>
              <a:gd name="adj2" fmla="val 10353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69" idx="3"/>
            <a:endCxn id="71" idx="0"/>
          </p:cNvCxnSpPr>
          <p:nvPr/>
        </p:nvCxnSpPr>
        <p:spPr>
          <a:xfrm flipH="1">
            <a:off x="3427560" y="4100760"/>
            <a:ext cx="454320" cy="3564000"/>
          </a:xfrm>
          <a:prstGeom prst="bentConnector4">
            <a:avLst>
              <a:gd name="adj1" fmla="val -51625"/>
              <a:gd name="adj2" fmla="val 5591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2852640" y="4937040"/>
            <a:ext cx="1155960" cy="5778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35080" y="474984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>
            <a:stCxn id="69" idx="2"/>
            <a:endCxn id="90" idx="0"/>
          </p:cNvCxnSpPr>
          <p:nvPr/>
        </p:nvCxnSpPr>
        <p:spPr>
          <a:xfrm>
            <a:off x="3424320" y="4521240"/>
            <a:ext cx="6840" cy="41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3044160" y="4994280"/>
            <a:ext cx="76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Evaluación 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entrega d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produc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7720" y="2182680"/>
            <a:ext cx="61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Solicitu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endCxn id="63" idx="0"/>
          </p:cNvCxnSpPr>
          <p:nvPr/>
        </p:nvCxnSpPr>
        <p:spPr>
          <a:xfrm flipH="1" flipV="1" rot="5400000">
            <a:off x="2473920" y="1161360"/>
            <a:ext cx="479880" cy="1418400"/>
          </a:xfrm>
          <a:prstGeom prst="bentConnector3">
            <a:avLst>
              <a:gd name="adj1" fmla="val 14834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2901600" y="2163600"/>
            <a:ext cx="1073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Orden de comp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endCxn id="65" idx="1"/>
          </p:cNvCxnSpPr>
          <p:nvPr/>
        </p:nvCxnSpPr>
        <p:spPr>
          <a:xfrm flipV="1">
            <a:off x="4102200" y="1928880"/>
            <a:ext cx="839880" cy="181080"/>
          </a:xfrm>
          <a:prstGeom prst="bentConnector3">
            <a:avLst>
              <a:gd name="adj1" fmla="val 361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4936680" y="2171880"/>
            <a:ext cx="1073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Orden de comp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12040" y="3227400"/>
            <a:ext cx="1163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Resultado de verificac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29000" y="3487680"/>
            <a:ext cx="1440" cy="208080"/>
          </a:xfrm>
          <a:custGeom>
            <a:avLst/>
            <a:gdLst/>
            <a:ahLst/>
            <a:rect l="l" t="t" r="r" b="b"/>
            <a:pathLst>
              <a:path w="1" h="131">
                <a:moveTo>
                  <a:pt x="0" y="0"/>
                </a:moveTo>
                <a:lnTo>
                  <a:pt x="0" y="131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908080" y="5506920"/>
            <a:ext cx="854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Entrega product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12760" y="8236080"/>
            <a:ext cx="503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Bitácor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980440" y="8388360"/>
            <a:ext cx="636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Notificac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20400" y="8534520"/>
            <a:ext cx="1110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Solicitud de adecuac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42" idx="3"/>
            <a:endCxn id="79" idx="1"/>
          </p:cNvCxnSpPr>
          <p:nvPr/>
        </p:nvCxnSpPr>
        <p:spPr>
          <a:xfrm flipV="1">
            <a:off x="4216320" y="7955280"/>
            <a:ext cx="778320" cy="528840"/>
          </a:xfrm>
          <a:prstGeom prst="bentConnector3">
            <a:avLst>
              <a:gd name="adj1" fmla="val 5002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5061240" y="8247240"/>
            <a:ext cx="845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Corrige Product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39080" y="7537320"/>
            <a:ext cx="557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Product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89160" y="7723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" name=""/>
          <p:cNvCxnSpPr>
            <a:stCxn id="48" idx="2"/>
            <a:endCxn id="47" idx="3"/>
          </p:cNvCxnSpPr>
          <p:nvPr/>
        </p:nvCxnSpPr>
        <p:spPr>
          <a:xfrm rot="5400000">
            <a:off x="4451040" y="2062440"/>
            <a:ext cx="779760" cy="1491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0" name=""/>
          <p:cNvSpPr/>
          <p:nvPr/>
        </p:nvSpPr>
        <p:spPr>
          <a:xfrm>
            <a:off x="3057120" y="6180120"/>
            <a:ext cx="72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¿Cump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con 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evaluación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69120" y="623556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61640" y="6226200"/>
            <a:ext cx="326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19640" y="5748480"/>
            <a:ext cx="1440" cy="280800"/>
          </a:xfrm>
          <a:custGeom>
            <a:avLst/>
            <a:gdLst/>
            <a:ahLst/>
            <a:rect l="l" t="t" r="r" b="b"/>
            <a:pathLst>
              <a:path w="1" h="177">
                <a:moveTo>
                  <a:pt x="0" y="0"/>
                </a:moveTo>
                <a:lnTo>
                  <a:pt x="0" y="177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62440" y="6021360"/>
            <a:ext cx="914400" cy="84132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14" idx="1"/>
            <a:endCxn id="75" idx="0"/>
          </p:cNvCxnSpPr>
          <p:nvPr/>
        </p:nvCxnSpPr>
        <p:spPr>
          <a:xfrm flipV="1" rot="10800000">
            <a:off x="1289160" y="6442200"/>
            <a:ext cx="1673640" cy="535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59" idx="2"/>
            <a:endCxn id="61" idx="0"/>
          </p:cNvCxnSpPr>
          <p:nvPr/>
        </p:nvCxnSpPr>
        <p:spPr>
          <a:xfrm>
            <a:off x="1346400" y="1219320"/>
            <a:ext cx="5040" cy="41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3882960" y="6445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24160" y="6372360"/>
            <a:ext cx="152640" cy="15228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8080" y="633096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8120" y="7089840"/>
            <a:ext cx="152280" cy="15228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01680" y="704844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72770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23:33:22Z</dcterms:created>
  <dc:creator>SSA</dc:creator>
  <dc:description/>
  <dc:language>en-US</dc:language>
  <cp:lastModifiedBy>SECRETARIA DE SALUD</cp:lastModifiedBy>
  <dcterms:modified xsi:type="dcterms:W3CDTF">2005-10-28T00:11:22Z</dcterms:modified>
  <cp:revision>24</cp:revision>
  <dc:subject/>
  <dc:title>Sin título de diapositiva</dc:title>
</cp:coreProperties>
</file>