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3AF-81BA-4BBE-B6E0-F15A0A55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58E-D56D-48C4-8938-2F882F51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323-353B-46A4-9D56-F77ECF5A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D86-E7CE-44BE-8B8F-35191C41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A25-1457-4ADC-8B84-C357EC56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C7E-8C93-4DC1-8439-67789094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00C-CD82-45A2-97D3-83ED318A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98D-DAE8-40F3-877C-5E14AAEE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335-71BE-4AA5-AB2A-85555B66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9F0-B450-4CA4-9F36-2A62AA32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15A-2224-4574-8A6D-8D04C82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1A6-A63E-493D-B7F5-F2DA569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D9F3-A874-475D-91E3-8597E0ED3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208080"/>
            <a:ext cx="6096240" cy="8631000"/>
            <a:chOff x="380880" y="208080"/>
            <a:chExt cx="6096240" cy="8631000"/>
          </a:xfrm>
        </p:grpSpPr>
        <p:sp>
          <p:nvSpPr>
            <p:cNvPr id="42" name=""/>
            <p:cNvSpPr/>
            <p:nvPr/>
          </p:nvSpPr>
          <p:spPr>
            <a:xfrm>
              <a:off x="2181240" y="7159680"/>
              <a:ext cx="106668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54200" y="5819760"/>
              <a:ext cx="106668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77880" y="5705640"/>
              <a:ext cx="1066680" cy="685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38360" y="6362640"/>
              <a:ext cx="694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72120" y="6183360"/>
              <a:ext cx="559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.X.L.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09880" y="5819760"/>
              <a:ext cx="106704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05320" y="4476600"/>
              <a:ext cx="1067040" cy="685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43280" y="4305240"/>
              <a:ext cx="1066680" cy="685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33920" y="5705640"/>
              <a:ext cx="1066680" cy="685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9680" y="4295880"/>
              <a:ext cx="1067040" cy="685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4240" y="1800360"/>
              <a:ext cx="1067040" cy="685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14640" y="6988320"/>
              <a:ext cx="1066680" cy="7617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57800" y="4238640"/>
              <a:ext cx="106668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92080" y="6173640"/>
              <a:ext cx="1717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97280" y="6364440"/>
              <a:ext cx="706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decu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97280" y="4764240"/>
              <a:ext cx="434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9560" y="3138480"/>
              <a:ext cx="1066680" cy="6858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228600"/>
              <a:ext cx="6096240" cy="861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512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3548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685800"/>
              <a:ext cx="60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7680" y="1644480"/>
              <a:ext cx="1839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1880" y="277920"/>
              <a:ext cx="81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Oficina 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Presupues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0640" y="1706400"/>
              <a:ext cx="1090800" cy="609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2800" y="1789200"/>
              <a:ext cx="71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facturas y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odific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0560" y="781200"/>
              <a:ext cx="733320" cy="361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9640" y="844560"/>
              <a:ext cx="5216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0640" y="1152360"/>
              <a:ext cx="1440" cy="555840"/>
            </a:xfrm>
            <a:custGeom>
              <a:avLst/>
              <a:gdLst/>
              <a:ahLst/>
              <a:rect l="l" t="t" r="r" b="b"/>
              <a:pathLst>
                <a:path w="1" h="350">
                  <a:moveTo>
                    <a:pt x="0" y="0"/>
                  </a:moveTo>
                  <a:lnTo>
                    <a:pt x="1" y="3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41160" y="154296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0560" y="2508120"/>
              <a:ext cx="184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3880" y="2995560"/>
              <a:ext cx="109080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800" y="3095640"/>
              <a:ext cx="788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Verifica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resupuesto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4400" y="283068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2080" y="3821040"/>
              <a:ext cx="3240" cy="308160"/>
            </a:xfrm>
            <a:custGeom>
              <a:avLst/>
              <a:gdLst/>
              <a:ahLst/>
              <a:rect l="l" t="t" r="r" b="b"/>
              <a:pathLst>
                <a:path w="2" h="194">
                  <a:moveTo>
                    <a:pt x="2" y="0"/>
                  </a:moveTo>
                  <a:lnTo>
                    <a:pt x="0" y="1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4720" y="4129200"/>
              <a:ext cx="781200" cy="6919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3160" y="4246560"/>
              <a:ext cx="730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¿Exis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ficienci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esupuestaria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63600" y="208080"/>
              <a:ext cx="102924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Depto. Recurs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Financieros 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Human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5160" y="4173480"/>
              <a:ext cx="109080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9840" y="4219560"/>
              <a:ext cx="10670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decu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resupuestária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u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55920" y="4471920"/>
              <a:ext cx="571320" cy="1800"/>
            </a:xfrm>
            <a:custGeom>
              <a:avLst/>
              <a:gdLst/>
              <a:ahLst/>
              <a:rect l="l" t="t" r="r" b="b"/>
              <a:pathLst>
                <a:path w="360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66840" y="399744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58720" y="4276800"/>
              <a:ext cx="30528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2240" y="4724280"/>
              <a:ext cx="25668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65520" y="4172040"/>
              <a:ext cx="109080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7720" y="4172040"/>
              <a:ext cx="82368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visión, firma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enví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decu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resupuestár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97200" y="399564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59120" y="277920"/>
              <a:ext cx="895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Coordin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Administra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52480" y="349200"/>
              <a:ext cx="7444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D.G.P.O.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95880" y="4172040"/>
              <a:ext cx="109080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72560" y="4219560"/>
              <a:ext cx="9547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utorización y enví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e Adecu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resupuestár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27560" y="399564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480" y="5581800"/>
              <a:ext cx="109080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41160" y="541188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62280" y="5580000"/>
              <a:ext cx="1090800" cy="609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33920" y="5575320"/>
              <a:ext cx="94104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de ofic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e solicitud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decu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resupuestár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y tu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93960" y="540216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38320" y="6892920"/>
              <a:ext cx="109080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61720" y="6934320"/>
              <a:ext cx="10339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.X.L.C. y docum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oficial, revisa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u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0000" y="671364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7480" y="5567400"/>
              <a:ext cx="92124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decu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esupuestár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utorizada elabor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C.X.L.C. y document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oficial, revisa y turn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62080" y="4824360"/>
              <a:ext cx="4680" cy="757440"/>
            </a:xfrm>
            <a:custGeom>
              <a:avLst/>
              <a:gdLst/>
              <a:ahLst/>
              <a:rect l="l" t="t" r="r" b="b"/>
              <a:pathLst>
                <a:path w="3" h="477">
                  <a:moveTo>
                    <a:pt x="3" y="0"/>
                  </a:moveTo>
                  <a:lnTo>
                    <a:pt x="0" y="4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30280" y="4994280"/>
              <a:ext cx="152280" cy="15228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371800">
              <a:off x="1303920" y="5371200"/>
              <a:ext cx="398520" cy="2880"/>
            </a:xfrm>
            <a:custGeom>
              <a:avLst/>
              <a:gdLst/>
              <a:ahLst/>
              <a:rect l="l" t="t" r="r" b="b"/>
              <a:pathLst>
                <a:path w="251" h="2">
                  <a:moveTo>
                    <a:pt x="0" y="0"/>
                  </a:moveTo>
                  <a:lnTo>
                    <a:pt x="251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93560" y="497196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6160" y="2284560"/>
              <a:ext cx="570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Factu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5640" y="3592440"/>
              <a:ext cx="604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gistr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49640" y="4764240"/>
              <a:ext cx="434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/>
            <p:nvPr/>
          </p:nvCxnSpPr>
          <p:spPr>
            <a:xfrm flipV="1">
              <a:off x="3276360" y="4476240"/>
              <a:ext cx="399240" cy="16272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1" idx="1"/>
            </p:cNvCxnSpPr>
            <p:nvPr/>
          </p:nvCxnSpPr>
          <p:spPr>
            <a:xfrm flipV="1">
              <a:off x="4815000" y="4476960"/>
              <a:ext cx="381240" cy="162000"/>
            </a:xfrm>
            <a:prstGeom prst="bentConnector3">
              <a:avLst>
                <a:gd name="adj1" fmla="val 196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5256360" y="4800600"/>
              <a:ext cx="434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51560" y="6183360"/>
              <a:ext cx="434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Ofic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4962600"/>
              <a:ext cx="706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decu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27600" y="7521480"/>
              <a:ext cx="559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.X.L.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62080" y="2467080"/>
              <a:ext cx="1440" cy="530280"/>
            </a:xfrm>
            <a:custGeom>
              <a:avLst/>
              <a:gdLst/>
              <a:ahLst/>
              <a:rect l="l" t="t" r="r" b="b"/>
              <a:pathLst>
                <a:path w="1" h="334">
                  <a:moveTo>
                    <a:pt x="0" y="0"/>
                  </a:moveTo>
                  <a:lnTo>
                    <a:pt x="1" y="3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48" idx="2"/>
              <a:endCxn id="47" idx="3"/>
            </p:cNvCxnSpPr>
            <p:nvPr/>
          </p:nvCxnSpPr>
          <p:spPr>
            <a:xfrm rot="5400000">
              <a:off x="4818240" y="5180400"/>
              <a:ext cx="1079280" cy="962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96" idx="1"/>
              <a:endCxn id="43" idx="3"/>
            </p:cNvCxnSpPr>
            <p:nvPr/>
          </p:nvCxnSpPr>
          <p:spPr>
            <a:xfrm flipV="1" rot="10800000">
              <a:off x="1820520" y="5884920"/>
              <a:ext cx="1841760" cy="316440"/>
            </a:xfrm>
            <a:prstGeom prst="bentConnector3">
              <a:avLst>
                <a:gd name="adj1" fmla="val 500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" name=""/>
            <p:cNvSpPr/>
            <p:nvPr/>
          </p:nvSpPr>
          <p:spPr>
            <a:xfrm>
              <a:off x="2590920" y="7912080"/>
              <a:ext cx="1440" cy="282600"/>
            </a:xfrm>
            <a:custGeom>
              <a:avLst/>
              <a:gdLst/>
              <a:ahLst/>
              <a:rect l="l" t="t" r="r" b="b"/>
              <a:pathLst>
                <a:path w="1" h="178">
                  <a:moveTo>
                    <a:pt x="0" y="0"/>
                  </a:moveTo>
                  <a:lnTo>
                    <a:pt x="0" y="1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38280" y="8197920"/>
              <a:ext cx="304920" cy="336600"/>
            </a:xfrm>
            <a:prstGeom prst="flowChartOffpage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6080" y="8224920"/>
              <a:ext cx="2566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43" idx="2"/>
              <a:endCxn id="99" idx="0"/>
            </p:cNvCxnSpPr>
            <p:nvPr/>
          </p:nvCxnSpPr>
          <p:spPr>
            <a:xfrm flipH="1" rot="16200000">
              <a:off x="1757880" y="6066720"/>
              <a:ext cx="356400" cy="1296360"/>
            </a:xfrm>
            <a:prstGeom prst="bentConnector5">
              <a:avLst>
                <a:gd name="adj1" fmla="val 77755"/>
                <a:gd name="adj2" fmla="val -59055"/>
                <a:gd name="adj3" fmla="val -2665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/>
            <p:nvPr/>
          </p:nvSpPr>
          <p:spPr>
            <a:xfrm>
              <a:off x="2782800" y="6405480"/>
              <a:ext cx="152640" cy="15264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2840" y="638028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47960" y="6581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5680" y="7721640"/>
              <a:ext cx="694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80880" y="208080"/>
            <a:ext cx="6096240" cy="8631000"/>
            <a:chOff x="380880" y="208080"/>
            <a:chExt cx="6096240" cy="8631000"/>
          </a:xfrm>
        </p:grpSpPr>
        <p:sp>
          <p:nvSpPr>
            <p:cNvPr id="128" name=""/>
            <p:cNvSpPr/>
            <p:nvPr/>
          </p:nvSpPr>
          <p:spPr>
            <a:xfrm>
              <a:off x="685800" y="6881760"/>
              <a:ext cx="106668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21160" y="4268880"/>
              <a:ext cx="1067040" cy="7617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1474920"/>
              <a:ext cx="1067040" cy="7617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3320" y="3933720"/>
              <a:ext cx="106704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9600" y="2705040"/>
              <a:ext cx="106668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3240" y="6710400"/>
              <a:ext cx="106704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70400" y="4091040"/>
              <a:ext cx="106704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80" y="228600"/>
              <a:ext cx="6096240" cy="861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512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548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5288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880" y="685800"/>
              <a:ext cx="60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8200" y="277920"/>
              <a:ext cx="84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Oficina 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Presupues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54240" y="208080"/>
              <a:ext cx="104760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Depto. Recurs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Financieros 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Human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1760" y="277920"/>
              <a:ext cx="9500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Coordin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Administra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5080" y="349200"/>
              <a:ext cx="7200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D.G.P.O.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2600" y="6637320"/>
              <a:ext cx="109044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8800" y="6669000"/>
              <a:ext cx="106740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Verificación en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Registros de Concili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las C.X.L.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autorizadas 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elabora concentrad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22360" y="6472080"/>
              <a:ext cx="288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0200" y="8153280"/>
              <a:ext cx="838080" cy="3812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6160" y="8232840"/>
              <a:ext cx="6908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TÉRMIN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09520" y="7629480"/>
              <a:ext cx="1800" cy="528840"/>
            </a:xfrm>
            <a:custGeom>
              <a:avLst/>
              <a:gdLst/>
              <a:ahLst/>
              <a:rect l="l" t="t" r="r" b="b"/>
              <a:pathLst>
                <a:path w="1" h="333">
                  <a:moveTo>
                    <a:pt x="0" y="0"/>
                  </a:moveTo>
                  <a:lnTo>
                    <a:pt x="1" y="3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38640" y="4006800"/>
              <a:ext cx="109080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53040" y="4097160"/>
              <a:ext cx="10584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cepción de C.X.L.C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y documento ofici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analiza, tramita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autoriz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18120" y="3819600"/>
              <a:ext cx="288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84880" y="5477040"/>
              <a:ext cx="780840" cy="6919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10880" y="5670720"/>
              <a:ext cx="5065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¿Autoriz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C.X.L.C.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78240" y="5648400"/>
              <a:ext cx="30852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53160" y="6108840"/>
              <a:ext cx="25200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S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960" y="714240"/>
              <a:ext cx="304920" cy="336600"/>
            </a:xfrm>
            <a:prstGeom prst="flowChartOffpage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63200" y="741240"/>
              <a:ext cx="2534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Univers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76600" y="1049400"/>
              <a:ext cx="1440" cy="457200"/>
            </a:xfrm>
            <a:custGeom>
              <a:avLst/>
              <a:gdLst/>
              <a:ahLst/>
              <a:rect l="l" t="t" r="r" b="b"/>
              <a:pathLst>
                <a:path w="1" h="288">
                  <a:moveTo>
                    <a:pt x="0" y="0"/>
                  </a:moveTo>
                  <a:lnTo>
                    <a:pt x="0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83720" y="4611600"/>
              <a:ext cx="559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.X.L.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11600" y="5756400"/>
              <a:ext cx="152640" cy="15228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1640" y="573408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7880" y="7234200"/>
              <a:ext cx="722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ncili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6400" y="7419960"/>
              <a:ext cx="754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ncentr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781160" y="5826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6000" y="1508040"/>
              <a:ext cx="781200" cy="6922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0560" y="1771560"/>
              <a:ext cx="5475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¿Procede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8480" y="2610000"/>
              <a:ext cx="152280" cy="15228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28520" y="258768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2360" y="2543040"/>
              <a:ext cx="106668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2280" y="2455920"/>
              <a:ext cx="109080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1560" y="2502000"/>
              <a:ext cx="9331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.X.L.C.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ocumento, firm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y turna para trámi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46440" y="2286000"/>
              <a:ext cx="285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32480" y="3089160"/>
              <a:ext cx="559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.X.L.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66" idx="2"/>
              <a:endCxn id="171" idx="0"/>
            </p:cNvCxnSpPr>
            <p:nvPr/>
          </p:nvCxnSpPr>
          <p:spPr>
            <a:xfrm flipH="1" rot="16200000">
              <a:off x="3313800" y="1562040"/>
              <a:ext cx="255960" cy="1532520"/>
            </a:xfrm>
            <a:prstGeom prst="bentConnector3">
              <a:avLst>
                <a:gd name="adj1" fmla="val 4971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2058840" y="1665360"/>
              <a:ext cx="30528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880" y="1303200"/>
              <a:ext cx="1066680" cy="7621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6560" y="1208160"/>
              <a:ext cx="109080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4760" y="1249200"/>
              <a:ext cx="720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orrec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.X.L.C. ó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oficial y tu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98240" y="1028880"/>
              <a:ext cx="229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00" y="1836720"/>
              <a:ext cx="559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.X.L.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4280" y="2036880"/>
              <a:ext cx="694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3000" y="21906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92600" y="3259080"/>
              <a:ext cx="694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6440" y="3772080"/>
              <a:ext cx="1066680" cy="7617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6360" y="3684600"/>
              <a:ext cx="1090440" cy="6094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6120" y="3730680"/>
              <a:ext cx="99288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C.X.L.C.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ocumento, organiz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y env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60520" y="3514680"/>
              <a:ext cx="285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6560" y="4317840"/>
              <a:ext cx="559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.X.L.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6320" y="4487760"/>
              <a:ext cx="694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32" idx="2"/>
              <a:endCxn id="186" idx="0"/>
            </p:cNvCxnSpPr>
            <p:nvPr/>
          </p:nvCxnSpPr>
          <p:spPr>
            <a:xfrm rot="5400000">
              <a:off x="2606760" y="1938960"/>
              <a:ext cx="261000" cy="3231000"/>
            </a:xfrm>
            <a:prstGeom prst="bentConnector3">
              <a:avLst>
                <a:gd name="adj1" fmla="val 3591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31" idx="3"/>
              <a:endCxn id="150" idx="1"/>
            </p:cNvCxnSpPr>
            <p:nvPr/>
          </p:nvCxnSpPr>
          <p:spPr>
            <a:xfrm flipV="1">
              <a:off x="1800000" y="4311000"/>
              <a:ext cx="3339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66" idx="1"/>
              <a:endCxn id="130" idx="3"/>
            </p:cNvCxnSpPr>
            <p:nvPr/>
          </p:nvCxnSpPr>
          <p:spPr>
            <a:xfrm flipH="1">
              <a:off x="1675800" y="1854360"/>
              <a:ext cx="610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2673000" y="2151000"/>
              <a:ext cx="256680" cy="1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13240" y="4808520"/>
              <a:ext cx="694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76920" y="50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53" idx="2"/>
              <a:endCxn id="128" idx="3"/>
            </p:cNvCxnSpPr>
            <p:nvPr/>
          </p:nvCxnSpPr>
          <p:spPr>
            <a:xfrm rot="5400000">
              <a:off x="3216240" y="4704120"/>
              <a:ext cx="1094400" cy="4023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3:33:22Z</dcterms:created>
  <dc:creator>SSA</dc:creator>
  <dc:description/>
  <dc:language>en-US</dc:language>
  <cp:lastModifiedBy>usuario</cp:lastModifiedBy>
  <dcterms:modified xsi:type="dcterms:W3CDTF">2005-11-04T18:52:12Z</dcterms:modified>
  <cp:revision>29</cp:revision>
  <dc:subject/>
  <dc:title>Sin título de diapositiva</dc:title>
</cp:coreProperties>
</file>