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812088" cy="10134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CC2-1388-4C90-BD73-BFA09FA3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663912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5720" y="6104520"/>
            <a:ext cx="663912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2A1-0957-44C7-82FB-F4799F46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5720" y="610452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7720" y="610452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418-B788-48F6-BCE6-AAC3D779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30680" y="292860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5640" y="292860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5720" y="610452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30680" y="610452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5640" y="610452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D0F-84A9-442E-BDDD-38D54D48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5720" y="2928600"/>
            <a:ext cx="6639120" cy="60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D60-5764-4FE9-A4A2-BF5C531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663912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D5D-8D82-4CB9-A580-89061C1C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6D1-7E5E-4A20-A122-38683311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242-179A-4962-B842-4346ACDE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5720" y="901800"/>
            <a:ext cx="663912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721-9070-4853-9611-71392141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5720" y="610452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54B-2388-4628-AFF2-DD4331C4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7720" y="610452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E35-3AD5-46A7-8C99-65800BC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5720" y="6104520"/>
            <a:ext cx="663912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C87-F535-46F5-8574-9E40CA2A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5720" y="2928600"/>
            <a:ext cx="663912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46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6920" indent="-2206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5040" indent="-2188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3160" indent="-2188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3160" indent="-2188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3160" indent="-2188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5720" y="9232920"/>
            <a:ext cx="1627200" cy="6760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8680" y="9232920"/>
            <a:ext cx="2473200" cy="6760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97640" y="9232920"/>
            <a:ext cx="1627200" cy="6760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22DCD522-F8E6-4A7E-A2B3-53D1BD91D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240" y="331920"/>
            <a:ext cx="7173000" cy="9472320"/>
            <a:chOff x="318240" y="331920"/>
            <a:chExt cx="7173000" cy="9472320"/>
          </a:xfrm>
        </p:grpSpPr>
        <p:sp>
          <p:nvSpPr>
            <p:cNvPr id="42" name=""/>
            <p:cNvSpPr/>
            <p:nvPr/>
          </p:nvSpPr>
          <p:spPr>
            <a:xfrm>
              <a:off x="1616040" y="828036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07040" y="6975360"/>
              <a:ext cx="106668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81360" y="684864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1640" y="6192720"/>
              <a:ext cx="106704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38480" y="5738760"/>
              <a:ext cx="106704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1760" y="6611760"/>
              <a:ext cx="49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asaj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9960" y="6049800"/>
              <a:ext cx="106704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4120" y="589752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8240" y="6294600"/>
              <a:ext cx="792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ocument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6840" y="646596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Viátic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0080" y="6408720"/>
              <a:ext cx="18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22640" y="5586480"/>
              <a:ext cx="106704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95640" y="6024600"/>
              <a:ext cx="478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Info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05720" y="6154560"/>
              <a:ext cx="513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Finiqui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6097680"/>
              <a:ext cx="183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90960" y="546264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75120" y="531036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46680" y="5726160"/>
              <a:ext cx="45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arje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60360" y="5878440"/>
              <a:ext cx="506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Forma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81720" y="4414680"/>
              <a:ext cx="1066680" cy="60984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65880" y="426240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37800" y="4678200"/>
              <a:ext cx="478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Factu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48960" y="4830840"/>
              <a:ext cx="43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Bole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19400" y="3289320"/>
              <a:ext cx="106704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94200" y="316548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10040" y="145260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09800" y="1447920"/>
              <a:ext cx="106704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14600" y="144792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9680" y="1447920"/>
              <a:ext cx="1066680" cy="609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05280" y="338040"/>
              <a:ext cx="0" cy="9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85120" y="331920"/>
              <a:ext cx="0" cy="9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440" y="338040"/>
              <a:ext cx="0" cy="9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9720" y="338040"/>
              <a:ext cx="0" cy="9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343080"/>
              <a:ext cx="0" cy="9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27480" y="338040"/>
              <a:ext cx="0" cy="9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02520" y="344520"/>
              <a:ext cx="0" cy="9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8680" y="33660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8680" y="735120"/>
              <a:ext cx="71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5440" y="9791640"/>
              <a:ext cx="716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9720" y="1352520"/>
              <a:ext cx="107028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1520" y="884160"/>
              <a:ext cx="533160" cy="2286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06480" y="112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5840" y="1366920"/>
              <a:ext cx="8712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Envío de solicitu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e Viátic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Pasaj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81120" y="1353960"/>
              <a:ext cx="10699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66800" y="1328760"/>
              <a:ext cx="89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verifica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Viáticos y Pasaj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9920" y="906480"/>
              <a:ext cx="38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71640" y="1352520"/>
              <a:ext cx="107028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55520" y="1328760"/>
              <a:ext cx="89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 d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Viáticos y Pasaj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71880" y="1352520"/>
              <a:ext cx="10699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0240" y="1366920"/>
              <a:ext cx="6652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verific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e Viátic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06800" y="11955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960" y="120348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05480" y="12063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720" y="353880"/>
              <a:ext cx="92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Areas inter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de la SA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2560" y="347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Coordin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Administra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8600" y="36828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Depto. de Recu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Finan. y Human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93560" y="360360"/>
              <a:ext cx="82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Oficina 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Contabili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3000" y="430200"/>
              <a:ext cx="84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D.G. P. O. 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23200" y="419040"/>
              <a:ext cx="71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Arial"/>
                </a:rPr>
                <a:t>Proveed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6640" y="12081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3720" y="2306520"/>
              <a:ext cx="609480" cy="6098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8160" y="2408400"/>
              <a:ext cx="4885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¿Pue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otorgar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e?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9800" y="2454120"/>
              <a:ext cx="29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87240" y="2849400"/>
              <a:ext cx="25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5400" y="2041560"/>
              <a:ext cx="1440" cy="266760"/>
            </a:xfrm>
            <a:custGeom>
              <a:avLst/>
              <a:gdLst/>
              <a:ahLst/>
              <a:rect l="l" t="t" r="r" b="b"/>
              <a:pathLst>
                <a:path w="1" h="168">
                  <a:moveTo>
                    <a:pt x="0" y="0"/>
                  </a:move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65400" y="3121200"/>
              <a:ext cx="107028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36960" y="5253120"/>
              <a:ext cx="10699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3000" y="3078000"/>
              <a:ext cx="773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olicitud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Bolets de pasaj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 Proveed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termina tipo 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ervi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43560" y="4187880"/>
              <a:ext cx="10699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75360" y="6924600"/>
              <a:ext cx="10699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7880" y="6800760"/>
              <a:ext cx="10699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6920" y="6827760"/>
              <a:ext cx="7722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resupuestar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1120" y="8153280"/>
              <a:ext cx="10699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4840" y="8161200"/>
              <a:ext cx="1843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5840" y="8134200"/>
              <a:ext cx="79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resupuestaria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tu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81360" y="8826480"/>
              <a:ext cx="1069920" cy="4572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2680" y="8854920"/>
              <a:ext cx="1176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utorización y remisión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e Adecu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resupuestaria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21080" y="5821200"/>
              <a:ext cx="1843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7760" y="5730840"/>
              <a:ext cx="1069920" cy="457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5040" y="7020000"/>
              <a:ext cx="533520" cy="2286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800" y="678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000" y="5684760"/>
              <a:ext cx="7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ocument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e Viático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Pasaj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7040520"/>
              <a:ext cx="58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ÉRMI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02480" y="297324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59760" y="40212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85200" y="50911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60720" y="55767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65880" y="66387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47280" y="676116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43680" y="798336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47160" y="8666280"/>
              <a:ext cx="278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00480" y="4118040"/>
              <a:ext cx="609480" cy="6094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34400" y="4321080"/>
              <a:ext cx="351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ip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8920" y="3876840"/>
              <a:ext cx="1800" cy="242640"/>
            </a:xfrm>
            <a:custGeom>
              <a:avLst/>
              <a:gdLst/>
              <a:ahLst/>
              <a:rect l="l" t="t" r="r" b="b"/>
              <a:pathLst>
                <a:path w="1" h="153">
                  <a:moveTo>
                    <a:pt x="1" y="0"/>
                  </a:moveTo>
                  <a:lnTo>
                    <a:pt x="0" y="1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98960" y="952488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7520" y="953784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16320" y="9286920"/>
              <a:ext cx="1440" cy="225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70" idx="3"/>
              <a:endCxn id="85" idx="0"/>
            </p:cNvCxnSpPr>
            <p:nvPr/>
          </p:nvCxnSpPr>
          <p:spPr>
            <a:xfrm flipV="1">
              <a:off x="1476360" y="1353960"/>
              <a:ext cx="640080" cy="399240"/>
            </a:xfrm>
            <a:prstGeom prst="bentConnector4">
              <a:avLst>
                <a:gd name="adj1" fmla="val 219864"/>
                <a:gd name="adj2" fmla="val 15803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69" idx="3"/>
              <a:endCxn id="88" idx="0"/>
            </p:cNvCxnSpPr>
            <p:nvPr/>
          </p:nvCxnSpPr>
          <p:spPr>
            <a:xfrm flipV="1">
              <a:off x="2681280" y="1352520"/>
              <a:ext cx="626040" cy="400680"/>
            </a:xfrm>
            <a:prstGeom prst="bentConnector4">
              <a:avLst>
                <a:gd name="adj1" fmla="val 222497"/>
                <a:gd name="adj2" fmla="val 1578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68" idx="3"/>
              <a:endCxn id="90" idx="0"/>
            </p:cNvCxnSpPr>
            <p:nvPr/>
          </p:nvCxnSpPr>
          <p:spPr>
            <a:xfrm flipV="1">
              <a:off x="3876840" y="1352520"/>
              <a:ext cx="630360" cy="400680"/>
            </a:xfrm>
            <a:prstGeom prst="bentConnector4">
              <a:avLst>
                <a:gd name="adj1" fmla="val 221714"/>
                <a:gd name="adj2" fmla="val 1578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 flipH="1">
              <a:off x="3124080" y="442584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0280" y="431172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68840" y="432432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67000" y="254304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67360" y="25527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6800" y="507672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5360" y="508968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2720" y="5356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17560" y="261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3640" y="762012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27520" y="762948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4440" y="424188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Viátic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45360" y="4238640"/>
              <a:ext cx="49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Pasaj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6560" y="7770960"/>
              <a:ext cx="609480" cy="6094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>
              <a:off x="5716080" y="75549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205600" y="7897680"/>
              <a:ext cx="29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01680" y="8271000"/>
              <a:ext cx="259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2480" y="85248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31040" y="86508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49840" y="1128600"/>
              <a:ext cx="1440" cy="225360"/>
            </a:xfrm>
            <a:custGeom>
              <a:avLst/>
              <a:gdLst/>
              <a:ahLst/>
              <a:rect l="l" t="t" r="r" b="b"/>
              <a:pathLst>
                <a:path w="1" h="142">
                  <a:moveTo>
                    <a:pt x="0" y="0"/>
                  </a:moveTo>
                  <a:lnTo>
                    <a:pt x="0" y="1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90840" y="762012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84720" y="762948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69000" y="8074080"/>
              <a:ext cx="546120" cy="3240"/>
            </a:xfrm>
            <a:custGeom>
              <a:avLst/>
              <a:gdLst/>
              <a:ahLst/>
              <a:rect l="l" t="t" r="r" b="b"/>
              <a:pathLst>
                <a:path w="344" h="2">
                  <a:moveTo>
                    <a:pt x="344" y="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99000" y="796932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92880" y="797868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38520" y="787860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¿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utoriza?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5160" y="180648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30080" y="180648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84240" y="180648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8880" y="180648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08640" y="2908440"/>
              <a:ext cx="1440" cy="20952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6120" y="3571920"/>
              <a:ext cx="478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Factu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77280" y="3714840"/>
              <a:ext cx="43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Bole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33" idx="3"/>
              <a:endCxn id="110" idx="1"/>
            </p:cNvCxnSpPr>
            <p:nvPr/>
          </p:nvCxnSpPr>
          <p:spPr>
            <a:xfrm flipV="1">
              <a:off x="4809960" y="4416480"/>
              <a:ext cx="153396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405840" y="4149720"/>
              <a:ext cx="95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Recep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 de Pasaj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envía bolet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vión y factu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61" idx="2"/>
              <a:endCxn id="108" idx="0"/>
            </p:cNvCxnSpPr>
            <p:nvPr/>
          </p:nvCxnSpPr>
          <p:spPr>
            <a:xfrm rot="5400000">
              <a:off x="5560920" y="3899160"/>
              <a:ext cx="264960" cy="2443680"/>
            </a:xfrm>
            <a:prstGeom prst="bentConnector5">
              <a:avLst>
                <a:gd name="adj1" fmla="val 101360"/>
                <a:gd name="adj2" fmla="val 49963"/>
                <a:gd name="adj3" fmla="val 125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039920" y="5221440"/>
              <a:ext cx="851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Elabóración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documentación 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envío de Viátic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y Pasaj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9400" y="6249960"/>
              <a:ext cx="18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46" idx="2"/>
              <a:endCxn id="45" idx="3"/>
            </p:cNvCxnSpPr>
            <p:nvPr/>
          </p:nvCxnSpPr>
          <p:spPr>
            <a:xfrm rot="5400000">
              <a:off x="2942280" y="4868280"/>
              <a:ext cx="185760" cy="3073680"/>
            </a:xfrm>
            <a:prstGeom prst="bentConnector4">
              <a:avLst>
                <a:gd name="adj1" fmla="val 144466"/>
                <a:gd name="adj2" fmla="val 586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1" name=""/>
            <p:cNvSpPr/>
            <p:nvPr/>
          </p:nvSpPr>
          <p:spPr>
            <a:xfrm>
              <a:off x="2754000" y="725004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41960" y="688356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cepción de solicitu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e adecu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resupuestar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utorización y enví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505320" y="73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048120" y="7453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44" idx="3"/>
              <a:endCxn id="111" idx="1"/>
            </p:cNvCxnSpPr>
            <p:nvPr/>
          </p:nvCxnSpPr>
          <p:spPr>
            <a:xfrm flipV="1">
              <a:off x="3848040" y="7153200"/>
              <a:ext cx="132768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6" name=""/>
            <p:cNvSpPr/>
            <p:nvPr/>
          </p:nvSpPr>
          <p:spPr>
            <a:xfrm>
              <a:off x="5721480" y="8393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11680" y="871524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05920" y="872496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0040" y="7383600"/>
              <a:ext cx="514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Solicitu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21040" y="7521480"/>
              <a:ext cx="228600" cy="2286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4920" y="7531200"/>
              <a:ext cx="229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90120" y="868824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decua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42" idx="2"/>
              <a:endCxn id="117" idx="1"/>
            </p:cNvCxnSpPr>
            <p:nvPr/>
          </p:nvCxnSpPr>
          <p:spPr>
            <a:xfrm flipH="1" rot="16200000">
              <a:off x="2364840" y="8638200"/>
              <a:ext cx="201600" cy="632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2133720" y="7772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4:43:49Z</dcterms:created>
  <dc:creator>SECRETARIA DE SALUD</dc:creator>
  <dc:description/>
  <dc:language>en-US</dc:language>
  <cp:lastModifiedBy>Israel Torres Gutierrez</cp:lastModifiedBy>
  <cp:lastPrinted>2004-05-16T03:14:04Z</cp:lastPrinted>
  <dcterms:modified xsi:type="dcterms:W3CDTF">2006-02-03T17:53:52Z</dcterms:modified>
  <cp:revision>27</cp:revision>
  <dc:subject/>
  <dc:title>Presentación de PowerPoint</dc:title>
</cp:coreProperties>
</file>