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92E-E9CB-4C26-B3A3-1DE0AC93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E38-565F-41A1-83C3-EE4D1710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F469-4623-4720-A55F-0E8BB77C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D23-C1C8-4ADF-87FC-C68BD7DE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69A3-ED8F-4138-8580-5C30D725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BD8-D0E2-4692-B036-751FEC2F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E3B-7A7D-4E65-AF6B-5A69ED74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0E3F-029F-4378-9A73-48E7A9D0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3C7C-38C6-4512-BEF3-86D19258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6AD-314D-4836-A662-594D1F61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D684-EDDE-47D1-B350-983AB8B4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3F24-6BAA-4050-95D2-56B1277A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3153-28C1-489B-A0CB-14C6666E3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880" y="219240"/>
            <a:ext cx="6096240" cy="8619840"/>
            <a:chOff x="380880" y="219240"/>
            <a:chExt cx="6096240" cy="8619840"/>
          </a:xfrm>
        </p:grpSpPr>
        <p:sp>
          <p:nvSpPr>
            <p:cNvPr id="42" name=""/>
            <p:cNvSpPr/>
            <p:nvPr/>
          </p:nvSpPr>
          <p:spPr>
            <a:xfrm>
              <a:off x="662040" y="8096400"/>
              <a:ext cx="114300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48440" y="7496280"/>
              <a:ext cx="114300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165640" y="7891560"/>
              <a:ext cx="875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Concentrad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10280" y="7343640"/>
              <a:ext cx="1143000" cy="60984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138280" y="773892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Evalua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691080" y="6881760"/>
              <a:ext cx="114300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90480" y="3848040"/>
              <a:ext cx="1143000" cy="60984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52920" y="6729480"/>
              <a:ext cx="114300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79480" y="7124760"/>
              <a:ext cx="79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Evalua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14760" y="6576840"/>
              <a:ext cx="1143000" cy="60984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43480" y="6458040"/>
              <a:ext cx="1143000" cy="5522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2960" y="5605560"/>
              <a:ext cx="114300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24000" y="4729320"/>
              <a:ext cx="114300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3240" y="3695760"/>
              <a:ext cx="114300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3240" y="2400480"/>
              <a:ext cx="114300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71880" y="1371600"/>
              <a:ext cx="114300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70000" y="1450800"/>
              <a:ext cx="184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40920" y="1757520"/>
              <a:ext cx="52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Lista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9200" y="1371600"/>
              <a:ext cx="114300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880" y="228600"/>
              <a:ext cx="6096240" cy="861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05120" y="228600"/>
              <a:ext cx="0" cy="861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35480" y="228600"/>
              <a:ext cx="0" cy="861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52880" y="228600"/>
              <a:ext cx="0" cy="861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880" y="685800"/>
              <a:ext cx="609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7680" y="1450800"/>
              <a:ext cx="1839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22400" y="304920"/>
              <a:ext cx="9500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Coordina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Administrativ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5680" y="304920"/>
              <a:ext cx="1018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Responsable d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Capacita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7760" y="219240"/>
              <a:ext cx="128232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Jefe del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Departamento d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Rec. Fin. y  Human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82560" y="299880"/>
              <a:ext cx="11206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Áreas Internas d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la SA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8080" y="779400"/>
              <a:ext cx="609840" cy="2286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4640" y="765000"/>
              <a:ext cx="583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Univers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1680" y="1243080"/>
              <a:ext cx="1143000" cy="5522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6160" y="1209600"/>
              <a:ext cx="910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Elaboración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listado de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participantes qu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recibieron curs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de capacita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6240" y="2247840"/>
              <a:ext cx="722160" cy="6429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67000" y="2462040"/>
              <a:ext cx="598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¿Procede?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59680" y="2822400"/>
              <a:ext cx="28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S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29320" y="2362320"/>
              <a:ext cx="357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N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" name=""/>
            <p:cNvCxnSpPr>
              <a:stCxn id="72" idx="2"/>
              <a:endCxn id="73" idx="0"/>
            </p:cNvCxnSpPr>
            <p:nvPr/>
          </p:nvCxnSpPr>
          <p:spPr>
            <a:xfrm flipH="1">
              <a:off x="1143360" y="1011240"/>
              <a:ext cx="3240" cy="232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062080" y="144936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16080" y="1241280"/>
              <a:ext cx="1143000" cy="5526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32440" y="1316160"/>
              <a:ext cx="7279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Revisión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listad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participant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02120" y="108252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57720" y="108432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7680" y="2487600"/>
              <a:ext cx="18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1680" y="2286000"/>
              <a:ext cx="1143000" cy="5526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1240" y="2357280"/>
              <a:ext cx="63036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Correc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a l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listad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7720" y="212076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3000" y="2990880"/>
              <a:ext cx="1440" cy="152280"/>
            </a:xfrm>
            <a:custGeom>
              <a:avLst/>
              <a:gdLst/>
              <a:ahLst/>
              <a:rect l="l" t="t" r="r" b="b"/>
              <a:pathLst>
                <a:path w="1" h="96">
                  <a:moveTo>
                    <a:pt x="0" y="0"/>
                  </a:move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28880" y="31496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24200" y="31669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567160" y="766800"/>
              <a:ext cx="240840" cy="228600"/>
              <a:chOff x="2567160" y="766800"/>
              <a:chExt cx="240840" cy="228600"/>
            </a:xfrm>
          </p:grpSpPr>
          <p:sp>
            <p:nvSpPr>
              <p:cNvPr id="93" name=""/>
              <p:cNvSpPr/>
              <p:nvPr/>
            </p:nvSpPr>
            <p:spPr>
              <a:xfrm>
                <a:off x="2579400" y="766800"/>
                <a:ext cx="22860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567160" y="7779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571680" y="3591000"/>
              <a:ext cx="1143000" cy="5522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54480" y="343044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57400" y="4605480"/>
              <a:ext cx="1143000" cy="5522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35520" y="443556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25600" y="5810400"/>
              <a:ext cx="598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¿Procede?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37600" y="5700600"/>
              <a:ext cx="357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N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1680" y="5462640"/>
              <a:ext cx="1143000" cy="5522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63840" y="530712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stCxn id="104" idx="2"/>
              <a:endCxn id="52" idx="0"/>
            </p:cNvCxnSpPr>
            <p:nvPr/>
          </p:nvCxnSpPr>
          <p:spPr>
            <a:xfrm flipH="1" rot="16200000">
              <a:off x="3264480" y="5607360"/>
              <a:ext cx="224280" cy="1477800"/>
            </a:xfrm>
            <a:prstGeom prst="bentConnector5">
              <a:avLst>
                <a:gd name="adj1" fmla="val 104180"/>
                <a:gd name="adj2" fmla="val 42933"/>
                <a:gd name="adj3" fmla="val -33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5" name=""/>
            <p:cNvSpPr/>
            <p:nvPr/>
          </p:nvSpPr>
          <p:spPr>
            <a:xfrm>
              <a:off x="4530960" y="628812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680" y="7981920"/>
              <a:ext cx="1143000" cy="5526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44760" y="782172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53040" y="7224840"/>
              <a:ext cx="1143000" cy="5522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40880" y="705492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24760" y="6162840"/>
              <a:ext cx="28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S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6720" y="3594240"/>
              <a:ext cx="11530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Univers"/>
                </a:rPr>
                <a:t>Requisición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Univers"/>
                </a:rPr>
                <a:t>Evaluaciones de l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Univers"/>
                </a:rPr>
                <a:t>Efectividad, Concentrado y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Univers"/>
                </a:rPr>
                <a:t>elaboración 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Univers"/>
                </a:rPr>
                <a:t>comunicados ofi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21560" y="4626000"/>
              <a:ext cx="80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Recepción 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revisión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comunicados 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turn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1760" y="5535720"/>
              <a:ext cx="7567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Adecuacio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a l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comunicad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3640" y="7997760"/>
              <a:ext cx="73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Recepción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comunicad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oficiales, 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enví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78600" y="7186680"/>
              <a:ext cx="109656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Recepción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comunicados oficia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Evaluaciones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Efectividad 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Concentrad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60920" y="8400960"/>
              <a:ext cx="304920" cy="381240"/>
            </a:xfrm>
            <a:prstGeom prst="flowChartOffpage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81440" y="8443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66880" y="1514520"/>
              <a:ext cx="338040" cy="4680"/>
            </a:xfrm>
            <a:custGeom>
              <a:avLst/>
              <a:gdLst/>
              <a:ahLst/>
              <a:rect l="l" t="t" r="r" b="b"/>
              <a:pathLst>
                <a:path w="213" h="3">
                  <a:moveTo>
                    <a:pt x="0" y="3"/>
                  </a:moveTo>
                  <a:lnTo>
                    <a:pt x="2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8600" y="1757520"/>
              <a:ext cx="52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Lista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76600" y="1965240"/>
              <a:ext cx="1440" cy="287280"/>
            </a:xfrm>
            <a:custGeom>
              <a:avLst/>
              <a:gdLst/>
              <a:ahLst/>
              <a:rect l="l" t="t" r="r" b="b"/>
              <a:pathLst>
                <a:path w="1" h="181">
                  <a:moveTo>
                    <a:pt x="0" y="0"/>
                  </a:moveTo>
                  <a:lnTo>
                    <a:pt x="0" y="1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1720" y="247968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2640" y="2795760"/>
              <a:ext cx="52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Lista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3800" y="247824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1280" y="2567160"/>
              <a:ext cx="523800" cy="1440"/>
            </a:xfrm>
            <a:custGeom>
              <a:avLst/>
              <a:gdLst/>
              <a:ahLst/>
              <a:rect l="l" t="t" r="r" b="b"/>
              <a:pathLst>
                <a:path w="330" h="1">
                  <a:moveTo>
                    <a:pt x="330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2120" y="4100400"/>
              <a:ext cx="79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Evalua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7760" y="4253040"/>
              <a:ext cx="801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Concentra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48" idx="2"/>
              <a:endCxn id="97" idx="0"/>
            </p:cNvCxnSpPr>
            <p:nvPr/>
          </p:nvCxnSpPr>
          <p:spPr>
            <a:xfrm flipH="1" rot="16200000">
              <a:off x="1853640" y="3830040"/>
              <a:ext cx="183960" cy="1367280"/>
            </a:xfrm>
            <a:prstGeom prst="bentConnector5">
              <a:avLst>
                <a:gd name="adj1" fmla="val 146078"/>
                <a:gd name="adj2" fmla="val -58783"/>
                <a:gd name="adj3" fmla="val -4386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8" name=""/>
            <p:cNvSpPr/>
            <p:nvPr/>
          </p:nvSpPr>
          <p:spPr>
            <a:xfrm>
              <a:off x="2055240" y="5119560"/>
              <a:ext cx="83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Comunicad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76640" y="5591160"/>
              <a:ext cx="722160" cy="6429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38440" y="5315040"/>
              <a:ext cx="1440" cy="280800"/>
            </a:xfrm>
            <a:custGeom>
              <a:avLst/>
              <a:gdLst/>
              <a:ahLst/>
              <a:rect l="l" t="t" r="r" b="b"/>
              <a:pathLst>
                <a:path w="1" h="177">
                  <a:moveTo>
                    <a:pt x="0" y="0"/>
                  </a:moveTo>
                  <a:lnTo>
                    <a:pt x="1" y="1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2120" y="5991120"/>
              <a:ext cx="83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Comunicad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85960" y="5905440"/>
              <a:ext cx="490680" cy="4680"/>
            </a:xfrm>
            <a:custGeom>
              <a:avLst/>
              <a:gdLst/>
              <a:ahLst/>
              <a:rect l="l" t="t" r="r" b="b"/>
              <a:pathLst>
                <a:path w="309" h="3">
                  <a:moveTo>
                    <a:pt x="309" y="3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47960" y="6475320"/>
              <a:ext cx="73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Firm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comunicad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oficiales 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turn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31600" y="6972480"/>
              <a:ext cx="83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Comunicad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11520" y="7281720"/>
              <a:ext cx="84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Concentrad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75" idx="2"/>
              <a:endCxn id="48" idx="3"/>
            </p:cNvCxnSpPr>
            <p:nvPr/>
          </p:nvCxnSpPr>
          <p:spPr>
            <a:xfrm rot="5400000">
              <a:off x="1624320" y="3099960"/>
              <a:ext cx="1262520" cy="84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47" idx="2"/>
              <a:endCxn id="106" idx="0"/>
            </p:cNvCxnSpPr>
            <p:nvPr/>
          </p:nvCxnSpPr>
          <p:spPr>
            <a:xfrm rot="5400000">
              <a:off x="2439360" y="6158880"/>
              <a:ext cx="527040" cy="3119760"/>
            </a:xfrm>
            <a:prstGeom prst="bentConnector3">
              <a:avLst>
                <a:gd name="adj1" fmla="val 5345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612360" y="8491680"/>
              <a:ext cx="513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Acus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42" idx="3"/>
              <a:endCxn id="108" idx="0"/>
            </p:cNvCxnSpPr>
            <p:nvPr/>
          </p:nvCxnSpPr>
          <p:spPr>
            <a:xfrm flipV="1">
              <a:off x="1805040" y="7224840"/>
              <a:ext cx="3920040" cy="1176840"/>
            </a:xfrm>
            <a:prstGeom prst="bentConnector4">
              <a:avLst>
                <a:gd name="adj1" fmla="val 42707"/>
                <a:gd name="adj2" fmla="val 1196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5715000" y="80964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57680" y="39625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53000" y="39798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8880" y="65912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24200" y="66088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43000" y="6194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1800" y="42260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08280" y="971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80880" y="219240"/>
            <a:ext cx="6096240" cy="8619840"/>
            <a:chOff x="380880" y="219240"/>
            <a:chExt cx="6096240" cy="8619840"/>
          </a:xfrm>
        </p:grpSpPr>
        <p:sp>
          <p:nvSpPr>
            <p:cNvPr id="148" name=""/>
            <p:cNvSpPr/>
            <p:nvPr/>
          </p:nvSpPr>
          <p:spPr>
            <a:xfrm>
              <a:off x="5267160" y="7107120"/>
              <a:ext cx="1143000" cy="60984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00560" y="6954840"/>
              <a:ext cx="114300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5040" y="6821640"/>
              <a:ext cx="114300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14840" y="5187960"/>
              <a:ext cx="114300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62160" y="4086360"/>
              <a:ext cx="114300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2720" y="4183200"/>
              <a:ext cx="18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03120" y="4494240"/>
              <a:ext cx="56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Estud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0360" y="3994200"/>
              <a:ext cx="114300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6720" y="2957400"/>
              <a:ext cx="1143000" cy="60984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4880" y="1928880"/>
              <a:ext cx="114300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2193840"/>
              <a:ext cx="1839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480" y="2324160"/>
              <a:ext cx="875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Concentrad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1520" y="1776240"/>
              <a:ext cx="1143000" cy="60984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0880" y="228600"/>
              <a:ext cx="6096240" cy="861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228600"/>
              <a:ext cx="0" cy="861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35480" y="228600"/>
              <a:ext cx="0" cy="861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52880" y="228600"/>
              <a:ext cx="0" cy="861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880" y="685800"/>
              <a:ext cx="609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7680" y="2041560"/>
              <a:ext cx="18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22400" y="304920"/>
              <a:ext cx="9500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Coordina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Administrativ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5680" y="304920"/>
              <a:ext cx="1018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Responsable d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Capacita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72880" y="219240"/>
              <a:ext cx="125172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Jefe del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Departamento d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Rec. Fin. y Human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67440" y="299880"/>
              <a:ext cx="1151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Áreas  Internas d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la SA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1680" y="1657440"/>
              <a:ext cx="1143000" cy="5522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2760" y="1635120"/>
              <a:ext cx="1323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Recepción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Evaluaciones de Efectivida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y Concentrados y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solicitud de las que n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han sido remitida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25600" y="5229360"/>
              <a:ext cx="598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¿Procede?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47080" y="5575320"/>
              <a:ext cx="28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S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26440" y="5124600"/>
              <a:ext cx="357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Univers"/>
                </a:rPr>
                <a:t>N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0560" y="409104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4560" y="3882960"/>
              <a:ext cx="1143000" cy="5526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32520" y="372600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32520" y="150480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7680" y="3033720"/>
              <a:ext cx="18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680" y="2832120"/>
              <a:ext cx="1143000" cy="5526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080" y="285120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Proces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Estadístic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Información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Concentrad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29280" y="266688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89080" y="3963960"/>
              <a:ext cx="1143000" cy="5526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3800" y="380376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48240" y="5051520"/>
              <a:ext cx="1143000" cy="5522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96480" y="488628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1680" y="6700680"/>
              <a:ext cx="1143000" cy="5526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43680" y="6846840"/>
              <a:ext cx="1143000" cy="5526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16680" y="653112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91920" y="668340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72280" y="8182080"/>
              <a:ext cx="685800" cy="31104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39520" y="8213760"/>
              <a:ext cx="75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Univers"/>
                </a:rPr>
                <a:t>TÉRMI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560" y="3903840"/>
              <a:ext cx="113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Elaboración de Estud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de Seguimiento de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las acciones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Capacita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3720" y="3935520"/>
              <a:ext cx="118188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Recepción y Verifica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de los Estudios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Seguimiento de la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Acciones de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Capacita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14560" y="5083200"/>
              <a:ext cx="8038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Firm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comunicados 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turn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1400" y="6705720"/>
              <a:ext cx="1312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Recepción de comunicad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y Estudi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Seguimiento de la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Acciones de Capacita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63760" y="6824520"/>
              <a:ext cx="129168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Recepción de Capacita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y Estudios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Seguimiento de la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Acciones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Capacita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43000" y="1162080"/>
              <a:ext cx="1440" cy="488880"/>
            </a:xfrm>
            <a:custGeom>
              <a:avLst/>
              <a:gdLst/>
              <a:ahLst/>
              <a:rect l="l" t="t" r="r" b="b"/>
              <a:pathLst>
                <a:path w="1" h="308">
                  <a:moveTo>
                    <a:pt x="0" y="0"/>
                  </a:moveTo>
                  <a:lnTo>
                    <a:pt x="0" y="3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90720" y="746280"/>
              <a:ext cx="304560" cy="380880"/>
            </a:xfrm>
            <a:prstGeom prst="flowChartOffpage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10880" y="789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56560" y="217188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Evalua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43000" y="25290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9760" y="3357720"/>
              <a:ext cx="770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Documen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0960" y="4402080"/>
              <a:ext cx="56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Estud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46240" y="3552840"/>
              <a:ext cx="1440" cy="333360"/>
            </a:xfrm>
            <a:custGeom>
              <a:avLst/>
              <a:gdLst/>
              <a:ahLst/>
              <a:rect l="l" t="t" r="r" b="b"/>
              <a:pathLst>
                <a:path w="1" h="210">
                  <a:moveTo>
                    <a:pt x="0" y="0"/>
                  </a:moveTo>
                  <a:lnTo>
                    <a:pt x="1" y="2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8280" y="5149800"/>
              <a:ext cx="114300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8480" y="5227560"/>
              <a:ext cx="184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2480" y="5019840"/>
              <a:ext cx="1143000" cy="5522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40440" y="486252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5600" y="5113440"/>
              <a:ext cx="70956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Elabora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Univers"/>
                </a:rPr>
                <a:t>correccio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3120" y="5538960"/>
              <a:ext cx="83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Correc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3" name=""/>
            <p:cNvCxnSpPr>
              <a:stCxn id="155" idx="3"/>
              <a:endCxn id="184" idx="0"/>
            </p:cNvCxnSpPr>
            <p:nvPr/>
          </p:nvCxnSpPr>
          <p:spPr>
            <a:xfrm flipV="1">
              <a:off x="1773000" y="3963240"/>
              <a:ext cx="888120" cy="335880"/>
            </a:xfrm>
            <a:prstGeom prst="bentConnector4">
              <a:avLst>
                <a:gd name="adj1" fmla="val 26115"/>
                <a:gd name="adj2" fmla="val 16824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4" name=""/>
            <p:cNvSpPr/>
            <p:nvPr/>
          </p:nvSpPr>
          <p:spPr>
            <a:xfrm>
              <a:off x="2276640" y="5000760"/>
              <a:ext cx="722160" cy="6429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37000" y="4684680"/>
              <a:ext cx="1440" cy="316080"/>
            </a:xfrm>
            <a:custGeom>
              <a:avLst/>
              <a:gdLst/>
              <a:ahLst/>
              <a:rect l="l" t="t" r="r" b="b"/>
              <a:pathLst>
                <a:path w="1" h="199">
                  <a:moveTo>
                    <a:pt x="0" y="0"/>
                  </a:moveTo>
                  <a:lnTo>
                    <a:pt x="1" y="19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81280" y="5315040"/>
              <a:ext cx="500040" cy="4680"/>
            </a:xfrm>
            <a:custGeom>
              <a:avLst/>
              <a:gdLst/>
              <a:ahLst/>
              <a:rect l="l" t="t" r="r" b="b"/>
              <a:pathLst>
                <a:path w="315" h="3">
                  <a:moveTo>
                    <a:pt x="315" y="3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24320" y="513252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23400" y="5572080"/>
              <a:ext cx="860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Comunicad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14" idx="2"/>
              <a:endCxn id="186" idx="1"/>
            </p:cNvCxnSpPr>
            <p:nvPr/>
          </p:nvCxnSpPr>
          <p:spPr>
            <a:xfrm flipH="1" flipV="1" rot="5400000">
              <a:off x="2984040" y="4980240"/>
              <a:ext cx="316800" cy="1010520"/>
            </a:xfrm>
            <a:prstGeom prst="bentConnector4">
              <a:avLst>
                <a:gd name="adj1" fmla="val -72354"/>
                <a:gd name="adj2" fmla="val 679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>
              <a:off x="594720" y="7226280"/>
              <a:ext cx="53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Acus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1" name=""/>
            <p:cNvCxnSpPr>
              <a:stCxn id="151" idx="2"/>
              <a:endCxn id="188" idx="0"/>
            </p:cNvCxnSpPr>
            <p:nvPr/>
          </p:nvCxnSpPr>
          <p:spPr>
            <a:xfrm rot="5400000">
              <a:off x="2245680" y="4660560"/>
              <a:ext cx="937080" cy="3143880"/>
            </a:xfrm>
            <a:prstGeom prst="bentConnector3">
              <a:avLst>
                <a:gd name="adj1" fmla="val 3216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150" idx="3"/>
              <a:endCxn id="189" idx="1"/>
            </p:cNvCxnSpPr>
            <p:nvPr/>
          </p:nvCxnSpPr>
          <p:spPr>
            <a:xfrm flipV="1">
              <a:off x="1777680" y="7122240"/>
              <a:ext cx="33663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>
              <a:off x="5125320" y="7350120"/>
              <a:ext cx="860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Comunicad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20000" y="752328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r>
                <a:rPr b="0" lang="es-MX" sz="800" spc="-1" strike="noStrike">
                  <a:solidFill>
                    <a:srgbClr val="000000"/>
                  </a:solidFill>
                  <a:latin typeface="Univers"/>
                </a:rPr>
                <a:t>Estudi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15000" y="7711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75040" y="3660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60560" y="33908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56240" y="34020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59000" y="459756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54320" y="46083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76360" y="4832280"/>
              <a:ext cx="3240" cy="187560"/>
            </a:xfrm>
            <a:custGeom>
              <a:avLst/>
              <a:gdLst/>
              <a:ahLst/>
              <a:rect l="l" t="t" r="r" b="b"/>
              <a:pathLst>
                <a:path w="2" h="118">
                  <a:moveTo>
                    <a:pt x="0" y="118"/>
                  </a:move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3:33:22Z</dcterms:created>
  <dc:creator>SSA</dc:creator>
  <dc:description/>
  <dc:language>en-US</dc:language>
  <cp:lastModifiedBy>usuario</cp:lastModifiedBy>
  <dcterms:modified xsi:type="dcterms:W3CDTF">2005-11-04T18:39:53Z</dcterms:modified>
  <cp:revision>27</cp:revision>
  <dc:subject/>
  <dc:title>Sin título de diapositiva</dc:title>
</cp:coreProperties>
</file>