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812088" cy="10134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F832-5DB5-4B25-A5C4-A00C71DDD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5720" y="901800"/>
            <a:ext cx="6639120" cy="16891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5720" y="2928600"/>
            <a:ext cx="6639120" cy="29001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5720" y="6104520"/>
            <a:ext cx="6639120" cy="29001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4D1D-B7ED-4E60-A3E6-02FED392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5720" y="901800"/>
            <a:ext cx="6639120" cy="16891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5720" y="2928600"/>
            <a:ext cx="3239640" cy="29001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87720" y="2928600"/>
            <a:ext cx="3239640" cy="29001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5720" y="6104520"/>
            <a:ext cx="3239640" cy="29001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87720" y="6104520"/>
            <a:ext cx="3239640" cy="29001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6641-4CAA-4DAD-B3BB-DC3232F24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5720" y="901800"/>
            <a:ext cx="6639120" cy="16891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85720" y="2928600"/>
            <a:ext cx="2137680" cy="29001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30680" y="2928600"/>
            <a:ext cx="2137680" cy="29001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75640" y="2928600"/>
            <a:ext cx="2137680" cy="29001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5720" y="6104520"/>
            <a:ext cx="2137680" cy="29001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30680" y="6104520"/>
            <a:ext cx="2137680" cy="29001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75640" y="6104520"/>
            <a:ext cx="2137680" cy="29001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493B-5B67-41B2-ACB2-FB9C4F753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5720" y="901800"/>
            <a:ext cx="6639120" cy="16891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85720" y="2928600"/>
            <a:ext cx="6639120" cy="60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6AD2-40F7-48BA-A2B5-476072A8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5720" y="901800"/>
            <a:ext cx="6639120" cy="16891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5720" y="2928600"/>
            <a:ext cx="6639120" cy="60800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26E3-3D9E-4F65-A909-F199C50A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5720" y="901800"/>
            <a:ext cx="6639120" cy="16891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5720" y="2928600"/>
            <a:ext cx="3239640" cy="60800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87720" y="2928600"/>
            <a:ext cx="3239640" cy="60800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E9F5-F1A1-404C-BE7D-2880FC4C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5720" y="901800"/>
            <a:ext cx="6639120" cy="16891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5BB5-A462-4C7F-A6BF-D9819BA1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85720" y="901800"/>
            <a:ext cx="6639120" cy="78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DB7B-3F37-4F59-A325-4254E7F1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5720" y="901800"/>
            <a:ext cx="6639120" cy="16891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85720" y="2928600"/>
            <a:ext cx="3239640" cy="29001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87720" y="2928600"/>
            <a:ext cx="3239640" cy="60800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5720" y="6104520"/>
            <a:ext cx="3239640" cy="29001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5B1D-E065-431B-9FF3-BC623109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5720" y="901800"/>
            <a:ext cx="6639120" cy="16891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85720" y="2928600"/>
            <a:ext cx="3239640" cy="60800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87720" y="2928600"/>
            <a:ext cx="3239640" cy="29001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87720" y="6104520"/>
            <a:ext cx="3239640" cy="29001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0C86-BFDE-4B3A-A650-31CFCA4A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5720" y="901800"/>
            <a:ext cx="6639120" cy="16891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85720" y="2928600"/>
            <a:ext cx="3239640" cy="29001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87720" y="2928600"/>
            <a:ext cx="3239640" cy="29001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5720" y="6104520"/>
            <a:ext cx="6639120" cy="29001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0C66-C72D-4C9D-BCD6-839C1C7E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5720" y="901800"/>
            <a:ext cx="6639120" cy="16891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5720" y="2928600"/>
            <a:ext cx="6639120" cy="60800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marL="328680" indent="-3286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2800" indent="-2746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6920" indent="-2206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5040" indent="-2188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3160" indent="-2188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3160" indent="-2188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3160" indent="-2188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85720" y="9232920"/>
            <a:ext cx="1627200" cy="6760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indent="0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8680" y="9232920"/>
            <a:ext cx="2473200" cy="6760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indent="0" algn="ctr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97640" y="9232920"/>
            <a:ext cx="1627200" cy="6760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indent="0" algn="r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fld id="{208F4396-9A30-4E7F-8E03-200E75F309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8720" y="8720280"/>
            <a:ext cx="1014480" cy="53316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25760" y="7594560"/>
            <a:ext cx="1066680" cy="5335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7442280"/>
            <a:ext cx="1066680" cy="53316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65640" y="7753320"/>
            <a:ext cx="69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70320" y="7924680"/>
            <a:ext cx="69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Consta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9040" y="7594560"/>
            <a:ext cx="1067040" cy="5335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3840" y="7442280"/>
            <a:ext cx="1066680" cy="53316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57800" y="6996240"/>
            <a:ext cx="1066680" cy="53316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29360" y="6843600"/>
            <a:ext cx="1066680" cy="5335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05960" y="7167600"/>
            <a:ext cx="69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15320" y="7329600"/>
            <a:ext cx="69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Consta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6086520"/>
            <a:ext cx="1066680" cy="5335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5934240"/>
            <a:ext cx="1067040" cy="53316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57560" y="5057640"/>
            <a:ext cx="1067040" cy="5335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8640" y="4915080"/>
            <a:ext cx="1067040" cy="53316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8760" y="4457880"/>
            <a:ext cx="1066680" cy="53316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9960" y="4305240"/>
            <a:ext cx="1067040" cy="5335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25640" y="2610000"/>
            <a:ext cx="1067040" cy="53316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38360" y="2610000"/>
            <a:ext cx="1066680" cy="53316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70280" y="8535960"/>
            <a:ext cx="1014480" cy="5335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12800" y="1625760"/>
            <a:ext cx="1067040" cy="53316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84360" y="1514520"/>
            <a:ext cx="1066680" cy="457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9960" y="1625760"/>
            <a:ext cx="1067040" cy="53316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48120" y="338040"/>
            <a:ext cx="0" cy="945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85120" y="331920"/>
            <a:ext cx="0" cy="945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5440" y="338040"/>
            <a:ext cx="0" cy="945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33840" y="338040"/>
            <a:ext cx="0" cy="945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343080"/>
            <a:ext cx="0" cy="945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65640" y="338040"/>
            <a:ext cx="0" cy="945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62640" y="331920"/>
            <a:ext cx="0" cy="945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8680" y="33660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8680" y="735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5440" y="979164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68960" y="369720"/>
            <a:ext cx="895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Coordin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dministra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43120" y="422280"/>
            <a:ext cx="72900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baja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68200" y="363600"/>
            <a:ext cx="677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Jef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Inmedia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67640" y="363600"/>
            <a:ext cx="86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Proveedor 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0120" y="831960"/>
            <a:ext cx="609480" cy="2286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1040" y="841320"/>
            <a:ext cx="49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1520" y="1514520"/>
            <a:ext cx="1066680" cy="457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01800" y="1057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482840"/>
            <a:ext cx="71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Recepción 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Program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de Cursos 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Capacitación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98760" y="2503440"/>
            <a:ext cx="1066680" cy="457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1800" y="4202280"/>
            <a:ext cx="1067040" cy="457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15040" y="1469880"/>
            <a:ext cx="81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Recepción 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Programas d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Curs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de Capacit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33760" y="2476440"/>
            <a:ext cx="80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Solicitud 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autorización d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Jefe Inmediat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para Inscrip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95760" y="2503440"/>
            <a:ext cx="1066680" cy="457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38320" y="2476440"/>
            <a:ext cx="7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Análisis 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autorización 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solicitud 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Inscripción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49800" y="3117960"/>
            <a:ext cx="1440" cy="212760"/>
          </a:xfrm>
          <a:custGeom>
            <a:avLst/>
            <a:gdLst/>
            <a:ahLst/>
            <a:rect l="l" t="t" r="r" b="b"/>
            <a:pathLst>
              <a:path w="1" h="134">
                <a:moveTo>
                  <a:pt x="0" y="0"/>
                </a:moveTo>
                <a:lnTo>
                  <a:pt x="1" y="13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30400" y="3330720"/>
            <a:ext cx="838440" cy="9144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89800" y="3616200"/>
            <a:ext cx="70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¿Proce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autorizació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10440" y="3595680"/>
            <a:ext cx="35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28920" y="4178160"/>
            <a:ext cx="28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7800" y="420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scripción d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rabajador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notificación d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fecha y hora del curs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10040" y="4954680"/>
            <a:ext cx="1066680" cy="457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76000" y="5032440"/>
            <a:ext cx="7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Recepción d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Inscríp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98760" y="4811760"/>
            <a:ext cx="1066680" cy="457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6440" y="4832280"/>
            <a:ext cx="74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Recepción 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notificación 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asistenci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11480" y="5827680"/>
            <a:ext cx="1067040" cy="457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38520" y="5581800"/>
            <a:ext cx="1800" cy="247680"/>
          </a:xfrm>
          <a:custGeom>
            <a:avLst/>
            <a:gdLst/>
            <a:ahLst/>
            <a:rect l="l" t="t" r="r" b="b"/>
            <a:pathLst>
              <a:path w="1" h="156">
                <a:moveTo>
                  <a:pt x="1" y="0"/>
                </a:moveTo>
                <a:lnTo>
                  <a:pt x="0" y="15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53600" y="5851440"/>
            <a:ext cx="9777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Elaboración y envío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de resultados 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Constanci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81600" y="135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84720" y="1352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81480" y="233856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91080" y="233856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56040" y="403056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86160" y="464976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20120" y="479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20120" y="564984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7120" y="6541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8600" y="712296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92520" y="8405640"/>
            <a:ext cx="1066680" cy="457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81720" y="839772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sultados y aplica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la Evaluación para 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fectividad del Curs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62400" y="9239400"/>
            <a:ext cx="1440" cy="272880"/>
          </a:xfrm>
          <a:custGeom>
            <a:avLst/>
            <a:gdLst/>
            <a:ahLst/>
            <a:rect l="l" t="t" r="r" b="b"/>
            <a:pathLst>
              <a:path w="1" h="172">
                <a:moveTo>
                  <a:pt x="0" y="0"/>
                </a:moveTo>
                <a:lnTo>
                  <a:pt x="0" y="17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36120" y="712944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41040" y="823752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2320" y="344520"/>
            <a:ext cx="1105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Depto. de Recu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Finan. y Huma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57480" y="9510840"/>
            <a:ext cx="609480" cy="2286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57840" y="9520200"/>
            <a:ext cx="65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52" idx="2"/>
          </p:cNvCxnSpPr>
          <p:nvPr/>
        </p:nvCxnSpPr>
        <p:spPr>
          <a:xfrm flipH="1" rot="16200000">
            <a:off x="4718520" y="6471000"/>
            <a:ext cx="361800" cy="597240"/>
          </a:xfrm>
          <a:prstGeom prst="bentConnector3">
            <a:avLst>
              <a:gd name="adj1" fmla="val 864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90" idx="1"/>
            <a:endCxn id="83" idx="1"/>
          </p:cNvCxnSpPr>
          <p:nvPr/>
        </p:nvCxnSpPr>
        <p:spPr>
          <a:xfrm rot="10800000">
            <a:off x="1598400" y="2731680"/>
            <a:ext cx="1332000" cy="1056240"/>
          </a:xfrm>
          <a:prstGeom prst="bentConnector3">
            <a:avLst>
              <a:gd name="adj1" fmla="val 11741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383040" y="1949400"/>
            <a:ext cx="62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80040" y="1952640"/>
            <a:ext cx="62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63" idx="3"/>
            <a:endCxn id="62" idx="0"/>
          </p:cNvCxnSpPr>
          <p:nvPr/>
        </p:nvCxnSpPr>
        <p:spPr>
          <a:xfrm flipV="1">
            <a:off x="1467000" y="1514520"/>
            <a:ext cx="651240" cy="378360"/>
          </a:xfrm>
          <a:prstGeom prst="bentConnector4">
            <a:avLst>
              <a:gd name="adj1" fmla="val 217477"/>
              <a:gd name="adj2" fmla="val 1612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2133720" y="2133720"/>
            <a:ext cx="1440" cy="361800"/>
          </a:xfrm>
          <a:custGeom>
            <a:avLst/>
            <a:gdLst/>
            <a:ahLst/>
            <a:rect l="l" t="t" r="r" b="b"/>
            <a:pathLst>
              <a:path w="1" h="228">
                <a:moveTo>
                  <a:pt x="0" y="0"/>
                </a:moveTo>
                <a:lnTo>
                  <a:pt x="0" y="22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20360" y="2933640"/>
            <a:ext cx="56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Solicit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59" idx="3"/>
            <a:endCxn id="87" idx="0"/>
          </p:cNvCxnSpPr>
          <p:nvPr/>
        </p:nvCxnSpPr>
        <p:spPr>
          <a:xfrm flipV="1">
            <a:off x="2705040" y="2503440"/>
            <a:ext cx="624600" cy="373680"/>
          </a:xfrm>
          <a:prstGeom prst="bentConnector4">
            <a:avLst>
              <a:gd name="adj1" fmla="val 222491"/>
              <a:gd name="adj2" fmla="val 1620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817360" y="2938320"/>
            <a:ext cx="56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Solicit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5480" y="4643280"/>
            <a:ext cx="66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Inscrip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1600" y="4791240"/>
            <a:ext cx="70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Notif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endCxn id="97" idx="1"/>
          </p:cNvCxnSpPr>
          <p:nvPr/>
        </p:nvCxnSpPr>
        <p:spPr>
          <a:xfrm>
            <a:off x="960840" y="4965480"/>
            <a:ext cx="638280" cy="75240"/>
          </a:xfrm>
          <a:prstGeom prst="bentConnector3">
            <a:avLst>
              <a:gd name="adj1" fmla="val 318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594440" y="5238720"/>
            <a:ext cx="70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Notif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endCxn id="95" idx="1"/>
          </p:cNvCxnSpPr>
          <p:nvPr/>
        </p:nvCxnSpPr>
        <p:spPr>
          <a:xfrm flipV="1">
            <a:off x="2695320" y="5183280"/>
            <a:ext cx="131508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3996360" y="538488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Of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02480" y="6257880"/>
            <a:ext cx="69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11840" y="6419880"/>
            <a:ext cx="69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Consta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202360" y="6713640"/>
            <a:ext cx="1066680" cy="457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92800" y="6689880"/>
            <a:ext cx="71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Recepción 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resultados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Constancia 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turn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90" idx="2"/>
            <a:endCxn id="94" idx="0"/>
          </p:cNvCxnSpPr>
          <p:nvPr/>
        </p:nvCxnSpPr>
        <p:spPr>
          <a:xfrm flipV="1" rot="16200000">
            <a:off x="2093760" y="2988720"/>
            <a:ext cx="41760" cy="2471040"/>
          </a:xfrm>
          <a:prstGeom prst="bentConnector5">
            <a:avLst>
              <a:gd name="adj1" fmla="val -566086"/>
              <a:gd name="adj2" fmla="val 47049"/>
              <a:gd name="adj3" fmla="val 6486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360360" y="7292880"/>
            <a:ext cx="1066680" cy="457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9280" y="7753320"/>
            <a:ext cx="69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3960" y="7924680"/>
            <a:ext cx="69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Consta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5880" y="73245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forma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sultados, Constanc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 inform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82560" y="7292880"/>
            <a:ext cx="1067040" cy="457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46" idx="3"/>
            <a:endCxn id="144" idx="0"/>
          </p:cNvCxnSpPr>
          <p:nvPr/>
        </p:nvCxnSpPr>
        <p:spPr>
          <a:xfrm flipV="1">
            <a:off x="1486080" y="7292880"/>
            <a:ext cx="630360" cy="568800"/>
          </a:xfrm>
          <a:prstGeom prst="bentConnector4">
            <a:avLst>
              <a:gd name="adj1" fmla="val 221485"/>
              <a:gd name="adj2" fmla="val 1407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1634040" y="733896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nforme de resultados,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onstancia e inform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62720" y="9040680"/>
            <a:ext cx="69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40040" y="8847000"/>
            <a:ext cx="68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48" idx="2"/>
            <a:endCxn id="140" idx="0"/>
          </p:cNvCxnSpPr>
          <p:nvPr/>
        </p:nvCxnSpPr>
        <p:spPr>
          <a:xfrm flipV="1" rot="16200000">
            <a:off x="3240000" y="4946760"/>
            <a:ext cx="205560" cy="4897800"/>
          </a:xfrm>
          <a:prstGeom prst="bentConnector5">
            <a:avLst>
              <a:gd name="adj1" fmla="val -128245"/>
              <a:gd name="adj2" fmla="val 50007"/>
              <a:gd name="adj3" fmla="val 2128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42" idx="2"/>
            <a:endCxn id="113" idx="0"/>
          </p:cNvCxnSpPr>
          <p:nvPr/>
        </p:nvCxnSpPr>
        <p:spPr>
          <a:xfrm flipH="1" rot="16200000">
            <a:off x="2590560" y="7665120"/>
            <a:ext cx="301320" cy="1164240"/>
          </a:xfrm>
          <a:prstGeom prst="bentConnector5">
            <a:avLst>
              <a:gd name="adj1" fmla="val 87559"/>
              <a:gd name="adj2" fmla="val -65790"/>
              <a:gd name="adj3" fmla="val -2437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14:43:49Z</dcterms:created>
  <dc:creator>SECRETARIA DE SALUD</dc:creator>
  <dc:description/>
  <dc:language>en-US</dc:language>
  <cp:lastModifiedBy>SECRETARIA DE SALUD</cp:lastModifiedBy>
  <cp:lastPrinted>2004-05-16T03:14:04Z</cp:lastPrinted>
  <dcterms:modified xsi:type="dcterms:W3CDTF">2005-10-27T03:37:00Z</dcterms:modified>
  <cp:revision>34</cp:revision>
  <dc:subject/>
  <dc:title>Presentación de PowerPoint</dc:title>
</cp:coreProperties>
</file>