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1709640"/>
            <a:ext cx="6324480" cy="5856480"/>
            <a:chOff x="304920" y="1709640"/>
            <a:chExt cx="6324480" cy="5856480"/>
          </a:xfrm>
        </p:grpSpPr>
        <p:sp>
          <p:nvSpPr>
            <p:cNvPr id="1" name=""/>
            <p:cNvSpPr/>
            <p:nvPr/>
          </p:nvSpPr>
          <p:spPr>
            <a:xfrm>
              <a:off x="5576760" y="2298600"/>
              <a:ext cx="105264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521240" y="2298600"/>
              <a:ext cx="10555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68600" y="2298600"/>
              <a:ext cx="105264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413080" y="2298600"/>
              <a:ext cx="10555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360440" y="2298600"/>
              <a:ext cx="105264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04920" y="2298600"/>
              <a:ext cx="10555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576760" y="1709640"/>
              <a:ext cx="1052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ENETE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521240" y="1709640"/>
              <a:ext cx="10555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tras Áreas de la DGePlaD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68600" y="1709640"/>
              <a:ext cx="1052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ubdirección de Diseño de Unidades de Atención a la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13080" y="1709640"/>
              <a:ext cx="10555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 Espacios para la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360440" y="1709640"/>
              <a:ext cx="1052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Adjunta de Diseño de Sistemas de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04920" y="1709640"/>
              <a:ext cx="10555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de Planeación y Desarrollo en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04920" y="229860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04920" y="75661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4920" y="1709640"/>
              <a:ext cx="0" cy="5856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044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1308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46860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52124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57676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629400" y="1709640"/>
              <a:ext cx="0" cy="5856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60440" y="1709640"/>
              <a:ext cx="210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920" y="1709640"/>
              <a:ext cx="1055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468600" y="1709640"/>
              <a:ext cx="3160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" name=""/>
          <p:cNvGrpSpPr/>
          <p:nvPr/>
        </p:nvGrpSpPr>
        <p:grpSpPr>
          <a:xfrm>
            <a:off x="304920" y="228600"/>
            <a:ext cx="6324480" cy="914400"/>
            <a:chOff x="304920" y="228600"/>
            <a:chExt cx="6324480" cy="914400"/>
          </a:xfrm>
        </p:grpSpPr>
        <p:sp>
          <p:nvSpPr>
            <p:cNvPr id="26" name=""/>
            <p:cNvSpPr/>
            <p:nvPr/>
          </p:nvSpPr>
          <p:spPr>
            <a:xfrm>
              <a:off x="5638680" y="716040"/>
              <a:ext cx="99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Hoja:    d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28840" y="716040"/>
              <a:ext cx="4209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para elaboración de Cartillas de unidades de espacios para la salu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638680" y="455760"/>
              <a:ext cx="990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428840" y="455760"/>
              <a:ext cx="4209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ción de Espacios para la Salud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5638680" y="228600"/>
              <a:ext cx="990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428840" y="228600"/>
              <a:ext cx="4209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04920" y="228600"/>
              <a:ext cx="1123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04920" y="1143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0492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2884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63868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662940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428840" y="4557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428840" y="716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304920" y="7848720"/>
            <a:ext cx="6324480" cy="1095120"/>
            <a:chOff x="304920" y="7848720"/>
            <a:chExt cx="6324480" cy="1095120"/>
          </a:xfrm>
        </p:grpSpPr>
        <p:sp>
          <p:nvSpPr>
            <p:cNvPr id="43" name=""/>
            <p:cNvSpPr/>
            <p:nvPr/>
          </p:nvSpPr>
          <p:spPr>
            <a:xfrm>
              <a:off x="4800600" y="807732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12960" y="8077320"/>
              <a:ext cx="20876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8077320"/>
              <a:ext cx="17985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04920" y="807732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800600" y="873108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12960" y="8731080"/>
              <a:ext cx="20876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8731080"/>
              <a:ext cx="17985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4920" y="873108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0600" y="851868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12960" y="8518680"/>
              <a:ext cx="208764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4400" y="8518680"/>
              <a:ext cx="17985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851868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00600" y="8290080"/>
              <a:ext cx="1828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G. GABRIEL NÚÑEZ URQUIZA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712960" y="8290080"/>
              <a:ext cx="2087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G. 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REGORIO SÁNCHEZ VÁZQUEZ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14400" y="8290080"/>
              <a:ext cx="1798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IC. SOFIA NEME NEUMIER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8290080"/>
              <a:ext cx="60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848720"/>
              <a:ext cx="632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8290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85186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8731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89438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492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2940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4920" y="8077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14400" y="807732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712960" y="807732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00600" y="807732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1606680" y="4844880"/>
            <a:ext cx="661680" cy="252360"/>
            <a:chOff x="1606680" y="4844880"/>
            <a:chExt cx="661680" cy="252360"/>
          </a:xfrm>
        </p:grpSpPr>
        <p:sp>
          <p:nvSpPr>
            <p:cNvPr id="108" name=""/>
            <p:cNvSpPr/>
            <p:nvPr/>
          </p:nvSpPr>
          <p:spPr>
            <a:xfrm>
              <a:off x="1658880" y="48448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606680" y="491184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717640" y="3790800"/>
            <a:ext cx="662040" cy="252360"/>
            <a:chOff x="2717640" y="3790800"/>
            <a:chExt cx="662040" cy="252360"/>
          </a:xfrm>
        </p:grpSpPr>
        <p:sp>
          <p:nvSpPr>
            <p:cNvPr id="111" name=""/>
            <p:cNvSpPr/>
            <p:nvPr/>
          </p:nvSpPr>
          <p:spPr>
            <a:xfrm>
              <a:off x="2770200" y="37908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17640" y="385776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528560" y="4102200"/>
            <a:ext cx="662040" cy="252000"/>
            <a:chOff x="1528560" y="4102200"/>
            <a:chExt cx="662040" cy="252000"/>
          </a:xfrm>
        </p:grpSpPr>
        <p:sp>
          <p:nvSpPr>
            <p:cNvPr id="114" name=""/>
            <p:cNvSpPr/>
            <p:nvPr/>
          </p:nvSpPr>
          <p:spPr>
            <a:xfrm>
              <a:off x="1581120" y="410220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28560" y="416880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588120" y="2916360"/>
            <a:ext cx="661680" cy="252000"/>
            <a:chOff x="3588120" y="2916360"/>
            <a:chExt cx="661680" cy="252000"/>
          </a:xfrm>
        </p:grpSpPr>
        <p:sp>
          <p:nvSpPr>
            <p:cNvPr id="117" name=""/>
            <p:cNvSpPr/>
            <p:nvPr/>
          </p:nvSpPr>
          <p:spPr>
            <a:xfrm>
              <a:off x="3640320" y="291636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88120" y="298296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639880" y="2863800"/>
            <a:ext cx="662040" cy="252360"/>
            <a:chOff x="2639880" y="2863800"/>
            <a:chExt cx="662040" cy="252360"/>
          </a:xfrm>
        </p:grpSpPr>
        <p:sp>
          <p:nvSpPr>
            <p:cNvPr id="120" name=""/>
            <p:cNvSpPr/>
            <p:nvPr/>
          </p:nvSpPr>
          <p:spPr>
            <a:xfrm>
              <a:off x="2692440" y="28638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39880" y="2930760"/>
              <a:ext cx="62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Memoa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0240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17604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29080" y="2336760"/>
            <a:ext cx="66348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54280" y="264168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termin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Cartilla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44960" y="24829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5" idx="0"/>
          </p:cNvCxnSpPr>
          <p:nvPr/>
        </p:nvCxnSpPr>
        <p:spPr>
          <a:xfrm flipH="1">
            <a:off x="2959200" y="2489040"/>
            <a:ext cx="2160" cy="1530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8" name=""/>
          <p:cNvSpPr/>
          <p:nvPr/>
        </p:nvSpPr>
        <p:spPr>
          <a:xfrm>
            <a:off x="3600360" y="268920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oncentración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nalisis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10120" y="254016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1" idx="2"/>
            <a:endCxn id="128" idx="0"/>
          </p:cNvCxnSpPr>
          <p:nvPr/>
        </p:nvCxnSpPr>
        <p:spPr>
          <a:xfrm flipH="1" flipV="1" rot="5400000">
            <a:off x="3216240" y="2427120"/>
            <a:ext cx="427320" cy="951480"/>
          </a:xfrm>
          <a:prstGeom prst="bentConnector5">
            <a:avLst>
              <a:gd name="adj1" fmla="val -53119"/>
              <a:gd name="adj2" fmla="val 156434"/>
              <a:gd name="adj3" fmla="val 154300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1" name=""/>
          <p:cNvSpPr/>
          <p:nvPr/>
        </p:nvSpPr>
        <p:spPr>
          <a:xfrm>
            <a:off x="1536840" y="390384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visión y firm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of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38240" y="37735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618000" y="4421160"/>
            <a:ext cx="722160" cy="609480"/>
            <a:chOff x="3618000" y="4421160"/>
            <a:chExt cx="722160" cy="609480"/>
          </a:xfrm>
        </p:grpSpPr>
        <p:grpSp>
          <p:nvGrpSpPr>
            <p:cNvPr id="134" name=""/>
            <p:cNvGrpSpPr/>
            <p:nvPr/>
          </p:nvGrpSpPr>
          <p:grpSpPr>
            <a:xfrm>
              <a:off x="3664080" y="4778280"/>
              <a:ext cx="661680" cy="252360"/>
              <a:chOff x="3664080" y="4778280"/>
              <a:chExt cx="661680" cy="252360"/>
            </a:xfrm>
          </p:grpSpPr>
          <p:sp>
            <p:nvSpPr>
              <p:cNvPr id="135" name=""/>
              <p:cNvSpPr/>
              <p:nvPr/>
            </p:nvSpPr>
            <p:spPr>
              <a:xfrm>
                <a:off x="3716280" y="4778280"/>
                <a:ext cx="609480" cy="250920"/>
              </a:xfrm>
              <a:prstGeom prst="flowChartDocumen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64080" y="4845240"/>
                <a:ext cx="5724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600" spc="-1" strike="noStrike">
                    <a:solidFill>
                      <a:srgbClr val="000000"/>
                    </a:solidFill>
                    <a:latin typeface="Arial"/>
                  </a:rPr>
                  <a:t>Document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618000" y="4551480"/>
              <a:ext cx="663480" cy="304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cepció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e información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e equipami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16600" y="442116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593880" y="3492360"/>
            <a:ext cx="662040" cy="252360"/>
            <a:chOff x="3593880" y="3492360"/>
            <a:chExt cx="662040" cy="252360"/>
          </a:xfrm>
        </p:grpSpPr>
        <p:sp>
          <p:nvSpPr>
            <p:cNvPr id="140" name=""/>
            <p:cNvSpPr/>
            <p:nvPr/>
          </p:nvSpPr>
          <p:spPr>
            <a:xfrm>
              <a:off x="3646440" y="34923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93880" y="355932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568680" y="328464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olicitud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46760" y="311616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68600" y="578016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Recepción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y re-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roaliment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propuest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/>
          <p:nvPr/>
        </p:nvCxnSpPr>
        <p:spPr>
          <a:xfrm>
            <a:off x="1868040" y="4362480"/>
            <a:ext cx="2520" cy="1335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6" name=""/>
          <p:cNvSpPr/>
          <p:nvPr/>
        </p:nvSpPr>
        <p:spPr>
          <a:xfrm>
            <a:off x="2698920" y="358920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of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44960" y="34369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08" idx="2"/>
            <a:endCxn id="137" idx="0"/>
          </p:cNvCxnSpPr>
          <p:nvPr/>
        </p:nvCxnSpPr>
        <p:spPr>
          <a:xfrm flipH="1" flipV="1" rot="5400000">
            <a:off x="2691720" y="3823200"/>
            <a:ext cx="529920" cy="1986480"/>
          </a:xfrm>
          <a:prstGeom prst="bentConnector5">
            <a:avLst>
              <a:gd name="adj1" fmla="val -46566"/>
              <a:gd name="adj2" fmla="val 49302"/>
              <a:gd name="adj3" fmla="val 143847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49" name=""/>
          <p:cNvGrpSpPr/>
          <p:nvPr/>
        </p:nvGrpSpPr>
        <p:grpSpPr>
          <a:xfrm>
            <a:off x="3678120" y="4989600"/>
            <a:ext cx="696960" cy="628560"/>
            <a:chOff x="3678120" y="4989600"/>
            <a:chExt cx="696960" cy="628560"/>
          </a:xfrm>
        </p:grpSpPr>
        <p:grpSp>
          <p:nvGrpSpPr>
            <p:cNvPr id="150" name=""/>
            <p:cNvGrpSpPr/>
            <p:nvPr/>
          </p:nvGrpSpPr>
          <p:grpSpPr>
            <a:xfrm>
              <a:off x="3699000" y="5365800"/>
              <a:ext cx="661680" cy="252360"/>
              <a:chOff x="3699000" y="5365800"/>
              <a:chExt cx="661680" cy="252360"/>
            </a:xfrm>
          </p:grpSpPr>
          <p:sp>
            <p:nvSpPr>
              <p:cNvPr id="151" name=""/>
              <p:cNvSpPr/>
              <p:nvPr/>
            </p:nvSpPr>
            <p:spPr>
              <a:xfrm>
                <a:off x="3751200" y="5365800"/>
                <a:ext cx="609480" cy="250920"/>
              </a:xfrm>
              <a:prstGeom prst="flowChartDocumen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699000" y="5432760"/>
                <a:ext cx="5724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600" spc="-1" strike="noStrike">
                    <a:solidFill>
                      <a:srgbClr val="000000"/>
                    </a:solidFill>
                    <a:latin typeface="Arial"/>
                  </a:rPr>
                  <a:t>Document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678120" y="5139000"/>
              <a:ext cx="663840" cy="3045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Integración de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propuesta de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cartill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51520" y="498960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029040" y="5646600"/>
            <a:ext cx="271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539720" y="4348080"/>
            <a:ext cx="687600" cy="619200"/>
            <a:chOff x="1539720" y="4348080"/>
            <a:chExt cx="687600" cy="619200"/>
          </a:xfrm>
        </p:grpSpPr>
        <p:sp>
          <p:nvSpPr>
            <p:cNvPr id="157" name=""/>
            <p:cNvSpPr/>
            <p:nvPr/>
          </p:nvSpPr>
          <p:spPr>
            <a:xfrm>
              <a:off x="2000160" y="4348080"/>
              <a:ext cx="227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1539720" y="4714920"/>
              <a:ext cx="662040" cy="252360"/>
              <a:chOff x="1539720" y="4714920"/>
              <a:chExt cx="662040" cy="252360"/>
            </a:xfrm>
          </p:grpSpPr>
          <p:sp>
            <p:nvSpPr>
              <p:cNvPr id="159" name=""/>
              <p:cNvSpPr/>
              <p:nvPr/>
            </p:nvSpPr>
            <p:spPr>
              <a:xfrm>
                <a:off x="1592280" y="4714920"/>
                <a:ext cx="609480" cy="250920"/>
              </a:xfrm>
              <a:prstGeom prst="flowChartDocumen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539720" y="4781880"/>
                <a:ext cx="3758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fici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1562040" y="4503600"/>
              <a:ext cx="609840" cy="304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cepción 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informació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2" name=""/>
          <p:cNvCxnSpPr>
            <a:stCxn id="152" idx="2"/>
            <a:endCxn id="144" idx="0"/>
          </p:cNvCxnSpPr>
          <p:nvPr/>
        </p:nvCxnSpPr>
        <p:spPr>
          <a:xfrm rot="5400000">
            <a:off x="3348360" y="5143320"/>
            <a:ext cx="162360" cy="1112040"/>
          </a:xfrm>
          <a:prstGeom prst="bentConnector5">
            <a:avLst>
              <a:gd name="adj1" fmla="val 140000"/>
              <a:gd name="adj2" fmla="val 48963"/>
              <a:gd name="adj3" fmla="val -43111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63" name=""/>
          <p:cNvCxnSpPr>
            <a:stCxn id="118" idx="2"/>
            <a:endCxn id="142" idx="0"/>
          </p:cNvCxnSpPr>
          <p:nvPr/>
        </p:nvCxnSpPr>
        <p:spPr>
          <a:xfrm flipH="1">
            <a:off x="3873600" y="3168360"/>
            <a:ext cx="1080" cy="1166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64" name=""/>
          <p:cNvCxnSpPr>
            <a:stCxn id="140" idx="2"/>
            <a:endCxn id="146" idx="0"/>
          </p:cNvCxnSpPr>
          <p:nvPr/>
        </p:nvCxnSpPr>
        <p:spPr>
          <a:xfrm flipV="1" rot="16200000">
            <a:off x="3408120" y="3184920"/>
            <a:ext cx="139680" cy="947880"/>
          </a:xfrm>
          <a:prstGeom prst="bentConnector5">
            <a:avLst>
              <a:gd name="adj1" fmla="val -285012"/>
              <a:gd name="adj2" fmla="val 156648"/>
              <a:gd name="adj3" fmla="val 266408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65" name=""/>
          <p:cNvCxnSpPr>
            <a:stCxn id="111" idx="2"/>
            <a:endCxn id="131" idx="0"/>
          </p:cNvCxnSpPr>
          <p:nvPr/>
        </p:nvCxnSpPr>
        <p:spPr>
          <a:xfrm flipV="1" rot="16200000">
            <a:off x="2396880" y="3348720"/>
            <a:ext cx="123480" cy="1233720"/>
          </a:xfrm>
          <a:prstGeom prst="bentConnector5">
            <a:avLst>
              <a:gd name="adj1" fmla="val -200292"/>
              <a:gd name="adj2" fmla="val 50029"/>
              <a:gd name="adj3" fmla="val 288011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66" name=""/>
          <p:cNvCxnSpPr/>
          <p:nvPr/>
        </p:nvCxnSpPr>
        <p:spPr>
          <a:xfrm>
            <a:off x="4078440" y="5022360"/>
            <a:ext cx="2160" cy="1342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7" name=""/>
          <p:cNvSpPr/>
          <p:nvPr/>
        </p:nvSpPr>
        <p:spPr>
          <a:xfrm>
            <a:off x="3699000" y="6445080"/>
            <a:ext cx="480960" cy="41292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19720" y="6585120"/>
            <a:ext cx="114120" cy="1396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67" idx="3"/>
            <a:endCxn id="168" idx="2"/>
          </p:cNvCxnSpPr>
          <p:nvPr/>
        </p:nvCxnSpPr>
        <p:spPr>
          <a:xfrm>
            <a:off x="4179960" y="6651720"/>
            <a:ext cx="240120" cy="3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70" name=""/>
          <p:cNvCxnSpPr>
            <a:stCxn id="167" idx="2"/>
            <a:endCxn id="171" idx="0"/>
          </p:cNvCxnSpPr>
          <p:nvPr/>
        </p:nvCxnSpPr>
        <p:spPr>
          <a:xfrm flipH="1">
            <a:off x="3936960" y="6858000"/>
            <a:ext cx="2880" cy="1098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72" name=""/>
          <p:cNvSpPr/>
          <p:nvPr/>
        </p:nvSpPr>
        <p:spPr>
          <a:xfrm>
            <a:off x="3688200" y="6572160"/>
            <a:ext cx="46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662280" y="6438960"/>
            <a:ext cx="710640" cy="579240"/>
            <a:chOff x="3662280" y="6438960"/>
            <a:chExt cx="710640" cy="579240"/>
          </a:xfrm>
        </p:grpSpPr>
        <p:sp>
          <p:nvSpPr>
            <p:cNvPr id="174" name=""/>
            <p:cNvSpPr/>
            <p:nvPr/>
          </p:nvSpPr>
          <p:spPr>
            <a:xfrm>
              <a:off x="4094640" y="6438960"/>
              <a:ext cx="278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2280" y="6832800"/>
              <a:ext cx="252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í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632040" y="602928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Recep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y adecuación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omentarios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65840" y="587376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76" idx="2"/>
            <a:endCxn id="167" idx="0"/>
          </p:cNvCxnSpPr>
          <p:nvPr/>
        </p:nvCxnSpPr>
        <p:spPr>
          <a:xfrm>
            <a:off x="3936960" y="6334200"/>
            <a:ext cx="2880" cy="111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71" name=""/>
          <p:cNvSpPr/>
          <p:nvPr/>
        </p:nvSpPr>
        <p:spPr>
          <a:xfrm>
            <a:off x="3632040" y="696744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ontinua proces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44" idx="2"/>
            <a:endCxn id="176" idx="0"/>
          </p:cNvCxnSpPr>
          <p:nvPr/>
        </p:nvCxnSpPr>
        <p:spPr>
          <a:xfrm flipH="1" flipV="1" rot="5400000">
            <a:off x="3377520" y="5525280"/>
            <a:ext cx="55800" cy="1063800"/>
          </a:xfrm>
          <a:prstGeom prst="bentConnector5">
            <a:avLst>
              <a:gd name="adj1" fmla="val -867532"/>
              <a:gd name="adj2" fmla="val 150473"/>
              <a:gd name="adj3" fmla="val 518181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80" name=""/>
          <p:cNvSpPr/>
          <p:nvPr/>
        </p:nvSpPr>
        <p:spPr>
          <a:xfrm>
            <a:off x="3822840" y="7362720"/>
            <a:ext cx="152280" cy="146160"/>
          </a:xfrm>
          <a:prstGeom prst="flowChartOffpage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98800" y="7264440"/>
            <a:ext cx="0" cy="108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89720" y="719280"/>
            <a:ext cx="84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Hoja: 12 de 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2543760" y="5883120"/>
            <a:ext cx="661320" cy="252360"/>
            <a:chOff x="2543760" y="5883120"/>
            <a:chExt cx="661320" cy="252360"/>
          </a:xfrm>
        </p:grpSpPr>
        <p:sp>
          <p:nvSpPr>
            <p:cNvPr id="184" name=""/>
            <p:cNvSpPr/>
            <p:nvPr/>
          </p:nvSpPr>
          <p:spPr>
            <a:xfrm>
              <a:off x="2595600" y="588312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43760" y="5950080"/>
              <a:ext cx="5083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Cartilla(s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803400" y="2863800"/>
            <a:ext cx="662040" cy="252360"/>
            <a:chOff x="3803400" y="2863800"/>
            <a:chExt cx="662040" cy="252360"/>
          </a:xfrm>
        </p:grpSpPr>
        <p:sp>
          <p:nvSpPr>
            <p:cNvPr id="187" name=""/>
            <p:cNvSpPr/>
            <p:nvPr/>
          </p:nvSpPr>
          <p:spPr>
            <a:xfrm>
              <a:off x="3855960" y="28638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03400" y="2930760"/>
              <a:ext cx="5936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3889440" y="2333520"/>
            <a:ext cx="152280" cy="146160"/>
          </a:xfrm>
          <a:prstGeom prst="flowChartOffpage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733560" y="2730600"/>
            <a:ext cx="662040" cy="252000"/>
            <a:chOff x="3733560" y="2730600"/>
            <a:chExt cx="662040" cy="252000"/>
          </a:xfrm>
        </p:grpSpPr>
        <p:sp>
          <p:nvSpPr>
            <p:cNvPr id="191" name=""/>
            <p:cNvSpPr/>
            <p:nvPr/>
          </p:nvSpPr>
          <p:spPr>
            <a:xfrm>
              <a:off x="3786120" y="273060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33560" y="2797200"/>
              <a:ext cx="3970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687840" y="253512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grama reun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multidiciplinar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86440" y="238608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6" idx="2"/>
            <a:endCxn id="197" idx="0"/>
          </p:cNvCxnSpPr>
          <p:nvPr/>
        </p:nvCxnSpPr>
        <p:spPr>
          <a:xfrm flipV="1" rot="16200000">
            <a:off x="2184840" y="2324160"/>
            <a:ext cx="546480" cy="1183320"/>
          </a:xfrm>
          <a:prstGeom prst="bentConnector5">
            <a:avLst>
              <a:gd name="adj1" fmla="val -17139"/>
              <a:gd name="adj2" fmla="val 48843"/>
              <a:gd name="adj3" fmla="val 141924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98" name=""/>
          <p:cNvSpPr/>
          <p:nvPr/>
        </p:nvSpPr>
        <p:spPr>
          <a:xfrm>
            <a:off x="1589040" y="3357720"/>
            <a:ext cx="663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nvío de propuest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62440" y="320832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80360" y="2602800"/>
            <a:ext cx="99000" cy="2019960"/>
          </a:xfrm>
          <a:prstGeom prst="bentConnector5">
            <a:avLst>
              <a:gd name="adj1" fmla="val -116058"/>
              <a:gd name="adj2" fmla="val 20748"/>
              <a:gd name="adj3" fmla="val 332116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02" name=""/>
          <p:cNvCxnSpPr>
            <a:stCxn id="188" idx="2"/>
            <a:endCxn id="203" idx="0"/>
          </p:cNvCxnSpPr>
          <p:nvPr/>
        </p:nvCxnSpPr>
        <p:spPr>
          <a:xfrm flipV="1" rot="16200000">
            <a:off x="3258360" y="2272680"/>
            <a:ext cx="491400" cy="1192320"/>
          </a:xfrm>
          <a:prstGeom prst="bentConnector5">
            <a:avLst>
              <a:gd name="adj1" fmla="val -26173"/>
              <a:gd name="adj2" fmla="val 48595"/>
              <a:gd name="adj3" fmla="val 146554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204" name=""/>
          <p:cNvGrpSpPr/>
          <p:nvPr/>
        </p:nvGrpSpPr>
        <p:grpSpPr>
          <a:xfrm>
            <a:off x="3584880" y="4309920"/>
            <a:ext cx="750600" cy="619200"/>
            <a:chOff x="3584880" y="4309920"/>
            <a:chExt cx="750600" cy="619200"/>
          </a:xfrm>
        </p:grpSpPr>
        <p:sp>
          <p:nvSpPr>
            <p:cNvPr id="205" name=""/>
            <p:cNvSpPr/>
            <p:nvPr/>
          </p:nvSpPr>
          <p:spPr>
            <a:xfrm>
              <a:off x="4044960" y="4309920"/>
              <a:ext cx="290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3584880" y="4676760"/>
              <a:ext cx="661680" cy="252360"/>
              <a:chOff x="3584880" y="4676760"/>
              <a:chExt cx="661680" cy="252360"/>
            </a:xfrm>
          </p:grpSpPr>
          <p:sp>
            <p:nvSpPr>
              <p:cNvPr id="207" name=""/>
              <p:cNvSpPr/>
              <p:nvPr/>
            </p:nvSpPr>
            <p:spPr>
              <a:xfrm>
                <a:off x="3637080" y="4676760"/>
                <a:ext cx="609480" cy="250920"/>
              </a:xfrm>
              <a:prstGeom prst="flowChartDocumen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584880" y="4743720"/>
                <a:ext cx="5724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600" spc="-1" strike="noStrike">
                    <a:solidFill>
                      <a:srgbClr val="000000"/>
                    </a:solidFill>
                    <a:latin typeface="Arial"/>
                  </a:rPr>
                  <a:t>Document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06840" y="4465440"/>
              <a:ext cx="609840" cy="304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Integración de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 para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validar y aproba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4019400" y="5141880"/>
            <a:ext cx="290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610440" y="6093000"/>
            <a:ext cx="661320" cy="252000"/>
            <a:chOff x="3610440" y="6093000"/>
            <a:chExt cx="661320" cy="252000"/>
          </a:xfrm>
        </p:grpSpPr>
        <p:sp>
          <p:nvSpPr>
            <p:cNvPr id="212" name=""/>
            <p:cNvSpPr/>
            <p:nvPr/>
          </p:nvSpPr>
          <p:spPr>
            <a:xfrm>
              <a:off x="3662280" y="609300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610440" y="6159600"/>
              <a:ext cx="5083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Cartilla(s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3581280" y="529740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Recep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comen-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arios y modifica-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ión de cartil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07" idx="2"/>
            <a:endCxn id="216" idx="0"/>
          </p:cNvCxnSpPr>
          <p:nvPr/>
        </p:nvCxnSpPr>
        <p:spPr>
          <a:xfrm flipV="1" rot="16200000">
            <a:off x="2949840" y="3921480"/>
            <a:ext cx="930960" cy="1053000"/>
          </a:xfrm>
          <a:prstGeom prst="bentConnector5">
            <a:avLst>
              <a:gd name="adj1" fmla="val -11411"/>
              <a:gd name="adj2" fmla="val 37243"/>
              <a:gd name="adj3" fmla="val 124564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17" name=""/>
          <p:cNvCxnSpPr>
            <a:stCxn id="218" idx="2"/>
            <a:endCxn id="219" idx="0"/>
          </p:cNvCxnSpPr>
          <p:nvPr/>
        </p:nvCxnSpPr>
        <p:spPr>
          <a:xfrm flipV="1" rot="16200000">
            <a:off x="2219040" y="3814200"/>
            <a:ext cx="297360" cy="964080"/>
          </a:xfrm>
          <a:prstGeom prst="bentConnector5">
            <a:avLst>
              <a:gd name="adj1" fmla="val -76969"/>
              <a:gd name="adj2" fmla="val 36234"/>
              <a:gd name="adj3" fmla="val 176969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220" name=""/>
          <p:cNvGrpSpPr/>
          <p:nvPr/>
        </p:nvGrpSpPr>
        <p:grpSpPr>
          <a:xfrm>
            <a:off x="3608280" y="3398760"/>
            <a:ext cx="719280" cy="469800"/>
            <a:chOff x="3608280" y="3398760"/>
            <a:chExt cx="719280" cy="469800"/>
          </a:xfrm>
        </p:grpSpPr>
        <p:sp>
          <p:nvSpPr>
            <p:cNvPr id="221" name=""/>
            <p:cNvSpPr/>
            <p:nvPr/>
          </p:nvSpPr>
          <p:spPr>
            <a:xfrm>
              <a:off x="4057560" y="3398760"/>
              <a:ext cx="270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08280" y="3563640"/>
              <a:ext cx="663840" cy="304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cibeconfir-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ación y prepar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un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2508840" y="5749920"/>
            <a:ext cx="675360" cy="252360"/>
            <a:chOff x="2508840" y="5749920"/>
            <a:chExt cx="675360" cy="252360"/>
          </a:xfrm>
        </p:grpSpPr>
        <p:sp>
          <p:nvSpPr>
            <p:cNvPr id="223" name=""/>
            <p:cNvSpPr/>
            <p:nvPr/>
          </p:nvSpPr>
          <p:spPr>
            <a:xfrm>
              <a:off x="2562840" y="5749920"/>
              <a:ext cx="62136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508840" y="581688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a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556000" y="552276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sol.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autoriz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cartil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97360" y="5380200"/>
            <a:ext cx="271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68640" y="2470320"/>
            <a:ext cx="0" cy="69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692080" y="2952720"/>
            <a:ext cx="662040" cy="252360"/>
            <a:chOff x="2692080" y="2952720"/>
            <a:chExt cx="662040" cy="252360"/>
          </a:xfrm>
        </p:grpSpPr>
        <p:sp>
          <p:nvSpPr>
            <p:cNvPr id="196" name=""/>
            <p:cNvSpPr/>
            <p:nvPr/>
          </p:nvSpPr>
          <p:spPr>
            <a:xfrm>
              <a:off x="2744640" y="295272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92080" y="3019680"/>
              <a:ext cx="5936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2622240" y="2819520"/>
            <a:ext cx="662040" cy="252000"/>
            <a:chOff x="2622240" y="2819520"/>
            <a:chExt cx="662040" cy="252000"/>
          </a:xfrm>
        </p:grpSpPr>
        <p:sp>
          <p:nvSpPr>
            <p:cNvPr id="231" name=""/>
            <p:cNvSpPr/>
            <p:nvPr/>
          </p:nvSpPr>
          <p:spPr>
            <a:xfrm>
              <a:off x="2674800" y="281952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622240" y="2886120"/>
              <a:ext cx="3970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2576520" y="262404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y firm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of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75120" y="247500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650960" y="2971800"/>
            <a:ext cx="662040" cy="252360"/>
            <a:chOff x="1650960" y="2971800"/>
            <a:chExt cx="662040" cy="252360"/>
          </a:xfrm>
        </p:grpSpPr>
        <p:sp>
          <p:nvSpPr>
            <p:cNvPr id="235" name=""/>
            <p:cNvSpPr/>
            <p:nvPr/>
          </p:nvSpPr>
          <p:spPr>
            <a:xfrm>
              <a:off x="1703520" y="29718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50960" y="3038760"/>
              <a:ext cx="5936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581120" y="2838600"/>
            <a:ext cx="662040" cy="252000"/>
            <a:chOff x="1581120" y="2838600"/>
            <a:chExt cx="662040" cy="252000"/>
          </a:xfrm>
        </p:grpSpPr>
        <p:sp>
          <p:nvSpPr>
            <p:cNvPr id="238" name=""/>
            <p:cNvSpPr/>
            <p:nvPr/>
          </p:nvSpPr>
          <p:spPr>
            <a:xfrm>
              <a:off x="1633680" y="283860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581120" y="2905200"/>
              <a:ext cx="3970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535040" y="2643120"/>
            <a:ext cx="663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visión y firm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of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033640" y="249408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17720" y="3206880"/>
            <a:ext cx="0" cy="15228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602160" y="3843360"/>
            <a:ext cx="718560" cy="469800"/>
            <a:chOff x="3602160" y="3843360"/>
            <a:chExt cx="718560" cy="469800"/>
          </a:xfrm>
        </p:grpSpPr>
        <p:sp>
          <p:nvSpPr>
            <p:cNvPr id="243" name=""/>
            <p:cNvSpPr/>
            <p:nvPr/>
          </p:nvSpPr>
          <p:spPr>
            <a:xfrm>
              <a:off x="4051080" y="3843360"/>
              <a:ext cx="2696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602160" y="4008240"/>
              <a:ext cx="663480" cy="304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aliza reunion y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prepara 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3930480" y="3867120"/>
            <a:ext cx="0" cy="14616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17880" y="4317840"/>
            <a:ext cx="0" cy="14616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2562480" y="3827520"/>
            <a:ext cx="750600" cy="618480"/>
            <a:chOff x="2562480" y="3827520"/>
            <a:chExt cx="750600" cy="618480"/>
          </a:xfrm>
        </p:grpSpPr>
        <p:sp>
          <p:nvSpPr>
            <p:cNvPr id="248" name=""/>
            <p:cNvSpPr/>
            <p:nvPr/>
          </p:nvSpPr>
          <p:spPr>
            <a:xfrm>
              <a:off x="3022560" y="3827520"/>
              <a:ext cx="290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2562480" y="4194000"/>
              <a:ext cx="661680" cy="252000"/>
              <a:chOff x="2562480" y="4194000"/>
              <a:chExt cx="661680" cy="252000"/>
            </a:xfrm>
          </p:grpSpPr>
          <p:sp>
            <p:nvSpPr>
              <p:cNvPr id="250" name=""/>
              <p:cNvSpPr/>
              <p:nvPr/>
            </p:nvSpPr>
            <p:spPr>
              <a:xfrm>
                <a:off x="2614680" y="4194000"/>
                <a:ext cx="609480" cy="250560"/>
              </a:xfrm>
              <a:prstGeom prst="flowChartDocumen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562480" y="4260600"/>
                <a:ext cx="5724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600" spc="-1" strike="noStrike">
                    <a:solidFill>
                      <a:srgbClr val="000000"/>
                    </a:solidFill>
                    <a:latin typeface="Arial"/>
                  </a:rPr>
                  <a:t>Document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2584440" y="3982680"/>
              <a:ext cx="609840" cy="3045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cepción de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propuest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1559160" y="3992400"/>
            <a:ext cx="750600" cy="619200"/>
            <a:chOff x="1559160" y="3992400"/>
            <a:chExt cx="750600" cy="619200"/>
          </a:xfrm>
        </p:grpSpPr>
        <p:sp>
          <p:nvSpPr>
            <p:cNvPr id="252" name=""/>
            <p:cNvSpPr/>
            <p:nvPr/>
          </p:nvSpPr>
          <p:spPr>
            <a:xfrm>
              <a:off x="2019240" y="3992400"/>
              <a:ext cx="290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1559160" y="4359240"/>
              <a:ext cx="661680" cy="252360"/>
              <a:chOff x="1559160" y="4359240"/>
              <a:chExt cx="661680" cy="252360"/>
            </a:xfrm>
          </p:grpSpPr>
          <p:sp>
            <p:nvSpPr>
              <p:cNvPr id="254" name=""/>
              <p:cNvSpPr/>
              <p:nvPr/>
            </p:nvSpPr>
            <p:spPr>
              <a:xfrm>
                <a:off x="1611360" y="4359240"/>
                <a:ext cx="609480" cy="250920"/>
              </a:xfrm>
              <a:prstGeom prst="flowChartDocumen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559160" y="4426200"/>
                <a:ext cx="5724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600" spc="-1" strike="noStrike">
                    <a:solidFill>
                      <a:srgbClr val="000000"/>
                    </a:solidFill>
                    <a:latin typeface="Arial"/>
                  </a:rPr>
                  <a:t>Document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1581120" y="4147920"/>
              <a:ext cx="609840" cy="304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cepción y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validación de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propuest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447840" y="4030560"/>
            <a:ext cx="750600" cy="619200"/>
            <a:chOff x="447840" y="4030560"/>
            <a:chExt cx="750600" cy="619200"/>
          </a:xfrm>
        </p:grpSpPr>
        <p:sp>
          <p:nvSpPr>
            <p:cNvPr id="257" name=""/>
            <p:cNvSpPr/>
            <p:nvPr/>
          </p:nvSpPr>
          <p:spPr>
            <a:xfrm>
              <a:off x="907920" y="4030560"/>
              <a:ext cx="290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47840" y="4397400"/>
              <a:ext cx="661680" cy="252360"/>
              <a:chOff x="447840" y="4397400"/>
              <a:chExt cx="661680" cy="252360"/>
            </a:xfrm>
          </p:grpSpPr>
          <p:sp>
            <p:nvSpPr>
              <p:cNvPr id="259" name=""/>
              <p:cNvSpPr/>
              <p:nvPr/>
            </p:nvSpPr>
            <p:spPr>
              <a:xfrm>
                <a:off x="500040" y="4397400"/>
                <a:ext cx="609480" cy="250920"/>
              </a:xfrm>
              <a:prstGeom prst="flowChartDocumen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47840" y="4464360"/>
                <a:ext cx="5724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600" spc="-1" strike="noStrike">
                    <a:solidFill>
                      <a:srgbClr val="000000"/>
                    </a:solidFill>
                    <a:latin typeface="Arial"/>
                  </a:rPr>
                  <a:t>Document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69800" y="4186080"/>
              <a:ext cx="609840" cy="304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cibe, valida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autoriza y enví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2" name=""/>
          <p:cNvCxnSpPr>
            <a:stCxn id="254" idx="2"/>
            <a:endCxn id="261" idx="0"/>
          </p:cNvCxnSpPr>
          <p:nvPr/>
        </p:nvCxnSpPr>
        <p:spPr>
          <a:xfrm flipV="1" rot="16200000">
            <a:off x="1140120" y="3819600"/>
            <a:ext cx="410400" cy="1142280"/>
          </a:xfrm>
          <a:prstGeom prst="bentConnector5">
            <a:avLst>
              <a:gd name="adj1" fmla="val -59262"/>
              <a:gd name="adj2" fmla="val 36002"/>
              <a:gd name="adj3" fmla="val 155750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263" name=""/>
          <p:cNvGrpSpPr/>
          <p:nvPr/>
        </p:nvGrpSpPr>
        <p:grpSpPr>
          <a:xfrm>
            <a:off x="3552480" y="5599080"/>
            <a:ext cx="751320" cy="618480"/>
            <a:chOff x="3552480" y="5599080"/>
            <a:chExt cx="751320" cy="618480"/>
          </a:xfrm>
        </p:grpSpPr>
        <p:sp>
          <p:nvSpPr>
            <p:cNvPr id="264" name=""/>
            <p:cNvSpPr/>
            <p:nvPr/>
          </p:nvSpPr>
          <p:spPr>
            <a:xfrm>
              <a:off x="4013280" y="5599080"/>
              <a:ext cx="290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3552480" y="5965560"/>
              <a:ext cx="662400" cy="252000"/>
              <a:chOff x="3552480" y="5965560"/>
              <a:chExt cx="662400" cy="252000"/>
            </a:xfrm>
          </p:grpSpPr>
          <p:sp>
            <p:nvSpPr>
              <p:cNvPr id="266" name=""/>
              <p:cNvSpPr/>
              <p:nvPr/>
            </p:nvSpPr>
            <p:spPr>
              <a:xfrm>
                <a:off x="3605400" y="5965560"/>
                <a:ext cx="609480" cy="250560"/>
              </a:xfrm>
              <a:prstGeom prst="flowChartDocumen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552480" y="6032160"/>
                <a:ext cx="6548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600" spc="-1" strike="noStrike">
                    <a:solidFill>
                      <a:srgbClr val="000000"/>
                    </a:solidFill>
                    <a:latin typeface="Arial"/>
                  </a:rPr>
                  <a:t>Memorandu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3575160" y="5754240"/>
              <a:ext cx="609840" cy="3045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Integ. y enví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para aut. de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cartilla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9" name=""/>
          <p:cNvCxnSpPr>
            <a:stCxn id="259" idx="2"/>
            <a:endCxn id="214" idx="0"/>
          </p:cNvCxnSpPr>
          <p:nvPr/>
        </p:nvCxnSpPr>
        <p:spPr>
          <a:xfrm flipH="1" rot="16200000">
            <a:off x="2012760" y="3424680"/>
            <a:ext cx="664200" cy="3081960"/>
          </a:xfrm>
          <a:prstGeom prst="bentConnector3">
            <a:avLst>
              <a:gd name="adj1" fmla="val 63611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70" name=""/>
          <p:cNvCxnSpPr>
            <a:stCxn id="212" idx="2"/>
            <a:endCxn id="225" idx="0"/>
          </p:cNvCxnSpPr>
          <p:nvPr/>
        </p:nvCxnSpPr>
        <p:spPr>
          <a:xfrm flipV="1" rot="16200000">
            <a:off x="3009960" y="5371920"/>
            <a:ext cx="807480" cy="1107360"/>
          </a:xfrm>
          <a:prstGeom prst="bentConnector5">
            <a:avLst>
              <a:gd name="adj1" fmla="val -13157"/>
              <a:gd name="adj2" fmla="val 41300"/>
              <a:gd name="adj3" fmla="val 128322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71" name=""/>
          <p:cNvSpPr/>
          <p:nvPr/>
        </p:nvSpPr>
        <p:spPr>
          <a:xfrm>
            <a:off x="3867120" y="5607000"/>
            <a:ext cx="0" cy="15228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540440" y="5864400"/>
            <a:ext cx="661320" cy="252000"/>
            <a:chOff x="1540440" y="5864400"/>
            <a:chExt cx="661320" cy="252000"/>
          </a:xfrm>
        </p:grpSpPr>
        <p:sp>
          <p:nvSpPr>
            <p:cNvPr id="273" name=""/>
            <p:cNvSpPr/>
            <p:nvPr/>
          </p:nvSpPr>
          <p:spPr>
            <a:xfrm>
              <a:off x="1592280" y="586440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540440" y="5931000"/>
              <a:ext cx="5083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Cartilla(s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1505520" y="5730840"/>
            <a:ext cx="675360" cy="252360"/>
            <a:chOff x="1505520" y="5730840"/>
            <a:chExt cx="675360" cy="252360"/>
          </a:xfrm>
        </p:grpSpPr>
        <p:sp>
          <p:nvSpPr>
            <p:cNvPr id="276" name=""/>
            <p:cNvSpPr/>
            <p:nvPr/>
          </p:nvSpPr>
          <p:spPr>
            <a:xfrm>
              <a:off x="1559520" y="5730840"/>
              <a:ext cx="62136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05520" y="579780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a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1552680" y="550404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sol.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autoriz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cartil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94040" y="5361120"/>
            <a:ext cx="271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537120" y="5927760"/>
            <a:ext cx="661320" cy="252360"/>
            <a:chOff x="537120" y="5927760"/>
            <a:chExt cx="661320" cy="252360"/>
          </a:xfrm>
        </p:grpSpPr>
        <p:sp>
          <p:nvSpPr>
            <p:cNvPr id="281" name=""/>
            <p:cNvSpPr/>
            <p:nvPr/>
          </p:nvSpPr>
          <p:spPr>
            <a:xfrm>
              <a:off x="588960" y="59277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7120" y="5994720"/>
              <a:ext cx="5083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Cartilla(s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502200" y="5794200"/>
            <a:ext cx="675360" cy="252360"/>
            <a:chOff x="502200" y="5794200"/>
            <a:chExt cx="675360" cy="252360"/>
          </a:xfrm>
        </p:grpSpPr>
        <p:sp>
          <p:nvSpPr>
            <p:cNvPr id="284" name=""/>
            <p:cNvSpPr/>
            <p:nvPr/>
          </p:nvSpPr>
          <p:spPr>
            <a:xfrm>
              <a:off x="556200" y="5794200"/>
              <a:ext cx="62136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02200" y="586116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a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549360" y="556740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sol.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valid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cartil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90720" y="5424480"/>
            <a:ext cx="271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"/>
          <p:cNvCxnSpPr>
            <a:stCxn id="185" idx="2"/>
            <a:endCxn id="278" idx="0"/>
          </p:cNvCxnSpPr>
          <p:nvPr/>
        </p:nvCxnSpPr>
        <p:spPr>
          <a:xfrm flipV="1" rot="16200000">
            <a:off x="2012400" y="5347800"/>
            <a:ext cx="630720" cy="942120"/>
          </a:xfrm>
          <a:prstGeom prst="bentConnector5">
            <a:avLst>
              <a:gd name="adj1" fmla="val -17589"/>
              <a:gd name="adj2" fmla="val 32186"/>
              <a:gd name="adj3" fmla="val 125928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89" name=""/>
          <p:cNvCxnSpPr>
            <a:stCxn id="274" idx="2"/>
            <a:endCxn id="286" idx="0"/>
          </p:cNvCxnSpPr>
          <p:nvPr/>
        </p:nvCxnSpPr>
        <p:spPr>
          <a:xfrm flipV="1" rot="16200000">
            <a:off x="1050120" y="5369760"/>
            <a:ext cx="548280" cy="942120"/>
          </a:xfrm>
          <a:prstGeom prst="bentConnector5">
            <a:avLst>
              <a:gd name="adj1" fmla="val -27201"/>
              <a:gd name="adj2" fmla="val 35206"/>
              <a:gd name="adj3" fmla="val 141721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290" name=""/>
          <p:cNvGrpSpPr/>
          <p:nvPr/>
        </p:nvGrpSpPr>
        <p:grpSpPr>
          <a:xfrm>
            <a:off x="2566080" y="6899400"/>
            <a:ext cx="675360" cy="252000"/>
            <a:chOff x="2566080" y="6899400"/>
            <a:chExt cx="675360" cy="252000"/>
          </a:xfrm>
        </p:grpSpPr>
        <p:sp>
          <p:nvSpPr>
            <p:cNvPr id="291" name=""/>
            <p:cNvSpPr/>
            <p:nvPr/>
          </p:nvSpPr>
          <p:spPr>
            <a:xfrm>
              <a:off x="2620080" y="6899400"/>
              <a:ext cx="62136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66080" y="696600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a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612880" y="667224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utoriz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54240" y="6529320"/>
            <a:ext cx="271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524600" y="6861240"/>
            <a:ext cx="675360" cy="252360"/>
            <a:chOff x="1524600" y="6861240"/>
            <a:chExt cx="675360" cy="252360"/>
          </a:xfrm>
        </p:grpSpPr>
        <p:sp>
          <p:nvSpPr>
            <p:cNvPr id="296" name=""/>
            <p:cNvSpPr/>
            <p:nvPr/>
          </p:nvSpPr>
          <p:spPr>
            <a:xfrm>
              <a:off x="1578600" y="6861240"/>
              <a:ext cx="62136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524600" y="692820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a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1571760" y="663408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utoriz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013120" y="6491160"/>
            <a:ext cx="271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686760" y="7000920"/>
            <a:ext cx="661320" cy="252360"/>
            <a:chOff x="3686760" y="7000920"/>
            <a:chExt cx="661320" cy="252360"/>
          </a:xfrm>
        </p:grpSpPr>
        <p:sp>
          <p:nvSpPr>
            <p:cNvPr id="301" name=""/>
            <p:cNvSpPr/>
            <p:nvPr/>
          </p:nvSpPr>
          <p:spPr>
            <a:xfrm>
              <a:off x="3738600" y="700092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686760" y="7067880"/>
              <a:ext cx="5083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Cartilla(s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3651840" y="6867360"/>
            <a:ext cx="675360" cy="252360"/>
            <a:chOff x="3651840" y="6867360"/>
            <a:chExt cx="675360" cy="252360"/>
          </a:xfrm>
        </p:grpSpPr>
        <p:sp>
          <p:nvSpPr>
            <p:cNvPr id="304" name=""/>
            <p:cNvSpPr/>
            <p:nvPr/>
          </p:nvSpPr>
          <p:spPr>
            <a:xfrm>
              <a:off x="3705840" y="6867360"/>
              <a:ext cx="62136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651840" y="693432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a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3699000" y="664056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sol.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valid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cartil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40360" y="6497640"/>
            <a:ext cx="271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8" name=""/>
          <p:cNvCxnSpPr>
            <a:stCxn id="282" idx="2"/>
            <a:endCxn id="298" idx="0"/>
          </p:cNvCxnSpPr>
          <p:nvPr/>
        </p:nvCxnSpPr>
        <p:spPr>
          <a:xfrm flipH="1" rot="16200000">
            <a:off x="1106280" y="5863680"/>
            <a:ext cx="456120" cy="1085040"/>
          </a:xfrm>
          <a:prstGeom prst="bentConnector3">
            <a:avLst>
              <a:gd name="adj1" fmla="val 49763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309" name=""/>
          <p:cNvCxnSpPr>
            <a:stCxn id="297" idx="2"/>
            <a:endCxn id="293" idx="0"/>
          </p:cNvCxnSpPr>
          <p:nvPr/>
        </p:nvCxnSpPr>
        <p:spPr>
          <a:xfrm flipH="1" flipV="1" rot="5400000">
            <a:off x="2163960" y="6359040"/>
            <a:ext cx="440640" cy="1065960"/>
          </a:xfrm>
          <a:prstGeom prst="bentConnector5">
            <a:avLst>
              <a:gd name="adj1" fmla="val -22322"/>
              <a:gd name="adj2" fmla="val 44527"/>
              <a:gd name="adj3" fmla="val 135731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310" name=""/>
          <p:cNvCxnSpPr>
            <a:stCxn id="292" idx="2"/>
            <a:endCxn id="306" idx="0"/>
          </p:cNvCxnSpPr>
          <p:nvPr/>
        </p:nvCxnSpPr>
        <p:spPr>
          <a:xfrm flipH="1" flipV="1" rot="5400000">
            <a:off x="3193920" y="6339960"/>
            <a:ext cx="510120" cy="1110240"/>
          </a:xfrm>
          <a:prstGeom prst="bentConnector5">
            <a:avLst>
              <a:gd name="adj1" fmla="val -21751"/>
              <a:gd name="adj2" fmla="val 43756"/>
              <a:gd name="adj3" fmla="val 127683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11" name=""/>
          <p:cNvSpPr/>
          <p:nvPr/>
        </p:nvSpPr>
        <p:spPr>
          <a:xfrm>
            <a:off x="3610080" y="7392960"/>
            <a:ext cx="663480" cy="1285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2" name=""/>
          <p:cNvCxnSpPr>
            <a:stCxn id="302" idx="2"/>
            <a:endCxn id="311" idx="0"/>
          </p:cNvCxnSpPr>
          <p:nvPr/>
        </p:nvCxnSpPr>
        <p:spPr>
          <a:xfrm>
            <a:off x="3941280" y="7251840"/>
            <a:ext cx="1080" cy="1418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13" name=""/>
          <p:cNvSpPr/>
          <p:nvPr/>
        </p:nvSpPr>
        <p:spPr>
          <a:xfrm>
            <a:off x="5583600" y="706320"/>
            <a:ext cx="84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Hoja: 13 de 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VICTORIAR</cp:lastModifiedBy>
  <dcterms:modified xsi:type="dcterms:W3CDTF">2005-08-09T14:08:46Z</dcterms:modified>
  <cp:revision>107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75968485</vt:r8>
  </property>
  <property fmtid="{D5CDD505-2E9C-101B-9397-08002B2CF9AE}" pid="3" name="_AuthorEmail">
    <vt:lpwstr>SOFIAN@DGPEC-S01.SSA.com</vt:lpwstr>
  </property>
  <property fmtid="{D5CDD505-2E9C-101B-9397-08002B2CF9AE}" pid="4" name="_AuthorEmailDisplayName">
    <vt:lpwstr>SOFIA KETRIN NEME MEUNIER</vt:lpwstr>
  </property>
  <property fmtid="{D5CDD505-2E9C-101B-9397-08002B2CF9AE}" pid="5" name="_EmailSubject">
    <vt:lpwstr>Procedimientos</vt:lpwstr>
  </property>
</Properties>
</file>