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1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5  de 27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misión de Certificado de Necesidad de Infraestructura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Espacios para la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7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18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895480" y="87310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4400" y="87310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95480" y="85186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4400" y="85186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GABRIEL NÚÑEZ URQUIZA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G. HECTOR MURGÍA RO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. MA. VICTORIA REPIZO GARCÍA</a:t>
              </a:r>
              <a:r>
                <a:rPr b="1" lang="es-E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04920" y="1219320"/>
            <a:ext cx="6333840" cy="6482880"/>
            <a:chOff x="304920" y="1219320"/>
            <a:chExt cx="6333840" cy="6482880"/>
          </a:xfrm>
        </p:grpSpPr>
        <p:sp>
          <p:nvSpPr>
            <p:cNvPr id="47" name=""/>
            <p:cNvSpPr/>
            <p:nvPr/>
          </p:nvSpPr>
          <p:spPr>
            <a:xfrm>
              <a:off x="3895560" y="1729440"/>
              <a:ext cx="914400" cy="59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95560" y="12193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1729440"/>
              <a:ext cx="914400" cy="59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09960" y="1729440"/>
              <a:ext cx="914400" cy="59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1729440"/>
              <a:ext cx="923760" cy="59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66760" y="1729440"/>
              <a:ext cx="905040" cy="59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81160" y="1729440"/>
              <a:ext cx="885600" cy="59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1729440"/>
              <a:ext cx="876240" cy="59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24360" y="12193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09960" y="12193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1800" y="1219320"/>
              <a:ext cx="92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Titular de Área de Planeación de los Serv. Est.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66760" y="1219320"/>
              <a:ext cx="90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.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81160" y="1219320"/>
              <a:ext cx="885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. de Analisis y Dictaminación de Infr.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1219320"/>
              <a:ext cx="876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Espacios par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1729440"/>
              <a:ext cx="633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7702200"/>
              <a:ext cx="6333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1219320"/>
              <a:ext cx="0" cy="6482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81160" y="1219320"/>
              <a:ext cx="0" cy="64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6760" y="1219320"/>
              <a:ext cx="0" cy="64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1219320"/>
              <a:ext cx="0" cy="64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5560" y="1219320"/>
              <a:ext cx="0" cy="64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24360" y="1219320"/>
              <a:ext cx="0" cy="64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38760" y="1219320"/>
              <a:ext cx="0" cy="6482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81160" y="1219320"/>
              <a:ext cx="179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920" y="1219320"/>
              <a:ext cx="876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1219320"/>
              <a:ext cx="366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09960" y="1219320"/>
              <a:ext cx="0" cy="64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111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E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borar el Manual de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dimientos de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a Dirección General de Planeación y Desarrollo en Salud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128" name=""/>
            <p:cNvSpPr/>
            <p:nvPr/>
          </p:nvSpPr>
          <p:spPr>
            <a:xfrm>
              <a:off x="4800600" y="807732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807732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807732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807732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0600" y="8731080"/>
              <a:ext cx="1828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480" y="8731080"/>
              <a:ext cx="1905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8731080"/>
              <a:ext cx="1981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-AGOSTO-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8731080"/>
              <a:ext cx="6094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85186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5480" y="85186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85186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920" y="85186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8290080"/>
              <a:ext cx="18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G. GABRIEL NÚÑEZ URQUIZA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8290080"/>
              <a:ext cx="190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G. HECTOR MURGÍA RO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829008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. MA. VICTORIA REPIZO GARCÍA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920" y="82900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" y="7848720"/>
              <a:ext cx="632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8290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85186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8077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4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0600" y="807732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04920" y="1709640"/>
            <a:ext cx="6333840" cy="6043320"/>
            <a:chOff x="304920" y="1709640"/>
            <a:chExt cx="6333840" cy="6043320"/>
          </a:xfrm>
        </p:grpSpPr>
        <p:sp>
          <p:nvSpPr>
            <p:cNvPr id="157" name=""/>
            <p:cNvSpPr/>
            <p:nvPr/>
          </p:nvSpPr>
          <p:spPr>
            <a:xfrm>
              <a:off x="3895560" y="2418480"/>
              <a:ext cx="914400" cy="53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95560" y="1709640"/>
              <a:ext cx="91440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Certificación de Unida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4360" y="2418480"/>
              <a:ext cx="914400" cy="53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9960" y="2418480"/>
              <a:ext cx="914400" cy="53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2418480"/>
              <a:ext cx="923760" cy="53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66760" y="2418480"/>
              <a:ext cx="905040" cy="53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1160" y="2418480"/>
              <a:ext cx="885600" cy="53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2418480"/>
              <a:ext cx="876240" cy="53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1709640"/>
              <a:ext cx="91440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9960" y="1709640"/>
              <a:ext cx="91440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71800" y="1709640"/>
              <a:ext cx="92376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Espacios para la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66760" y="1709640"/>
              <a:ext cx="90504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1160" y="1709640"/>
              <a:ext cx="88560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920" y="1709640"/>
              <a:ext cx="87624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rvicios Estatale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2418480"/>
              <a:ext cx="633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7752960"/>
              <a:ext cx="6333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920" y="1709640"/>
              <a:ext cx="0" cy="604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1160" y="1709640"/>
              <a:ext cx="0" cy="60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66760" y="1709640"/>
              <a:ext cx="0" cy="60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1800" y="1709640"/>
              <a:ext cx="0" cy="60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95560" y="1709640"/>
              <a:ext cx="0" cy="60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360" y="1709640"/>
              <a:ext cx="0" cy="60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38760" y="1709640"/>
              <a:ext cx="0" cy="604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81160" y="1709640"/>
              <a:ext cx="179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20" y="1709640"/>
              <a:ext cx="876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1709640"/>
              <a:ext cx="366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9960" y="1709640"/>
              <a:ext cx="0" cy="60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41000" y="3726000"/>
            <a:ext cx="662040" cy="252000"/>
            <a:chOff x="441000" y="3726000"/>
            <a:chExt cx="662040" cy="252000"/>
          </a:xfrm>
        </p:grpSpPr>
        <p:sp>
          <p:nvSpPr>
            <p:cNvPr id="221" name=""/>
            <p:cNvSpPr/>
            <p:nvPr/>
          </p:nvSpPr>
          <p:spPr>
            <a:xfrm>
              <a:off x="493560" y="37260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1000" y="37926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180160" y="2895480"/>
            <a:ext cx="663120" cy="252360"/>
            <a:chOff x="2180160" y="2895480"/>
            <a:chExt cx="663120" cy="252360"/>
          </a:xfrm>
        </p:grpSpPr>
        <p:sp>
          <p:nvSpPr>
            <p:cNvPr id="224" name=""/>
            <p:cNvSpPr/>
            <p:nvPr/>
          </p:nvSpPr>
          <p:spPr>
            <a:xfrm>
              <a:off x="2233800" y="2895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80160" y="296244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9160" y="2870280"/>
            <a:ext cx="663120" cy="252360"/>
            <a:chOff x="389160" y="2870280"/>
            <a:chExt cx="663120" cy="252360"/>
          </a:xfrm>
        </p:grpSpPr>
        <p:sp>
          <p:nvSpPr>
            <p:cNvPr id="227" name=""/>
            <p:cNvSpPr/>
            <p:nvPr/>
          </p:nvSpPr>
          <p:spPr>
            <a:xfrm>
              <a:off x="442800" y="2870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160" y="293724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310040" y="2165400"/>
            <a:ext cx="663120" cy="252360"/>
            <a:chOff x="1310040" y="2165400"/>
            <a:chExt cx="663120" cy="252360"/>
          </a:xfrm>
        </p:grpSpPr>
        <p:sp>
          <p:nvSpPr>
            <p:cNvPr id="230" name=""/>
            <p:cNvSpPr/>
            <p:nvPr/>
          </p:nvSpPr>
          <p:spPr>
            <a:xfrm>
              <a:off x="1363680" y="2165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10040" y="223236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93840" y="17524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040" y="208908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tualiz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íneamien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19368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2"/>
            <a:endCxn id="233" idx="0"/>
          </p:cNvCxnSpPr>
          <p:nvPr/>
        </p:nvCxnSpPr>
        <p:spPr>
          <a:xfrm flipH="1">
            <a:off x="723960" y="1905120"/>
            <a:ext cx="2160" cy="184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6" name=""/>
          <p:cNvSpPr/>
          <p:nvPr/>
        </p:nvSpPr>
        <p:spPr>
          <a:xfrm>
            <a:off x="1231920" y="19749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visa forma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envía pa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Vo. B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52760" y="1838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7360" y="26733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ubrica y env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firma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. Gral. Adj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84160" y="2530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20760" y="27050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ut. y libera  do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emis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D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67160" y="25304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83040" y="3587760"/>
            <a:ext cx="663120" cy="252360"/>
            <a:chOff x="383040" y="3587760"/>
            <a:chExt cx="663120" cy="252360"/>
          </a:xfrm>
        </p:grpSpPr>
        <p:sp>
          <p:nvSpPr>
            <p:cNvPr id="243" name=""/>
            <p:cNvSpPr/>
            <p:nvPr/>
          </p:nvSpPr>
          <p:spPr>
            <a:xfrm>
              <a:off x="436680" y="35877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3040" y="365472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03200" y="33926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stribu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ormatos pa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. de CD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2200" y="3262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070080" y="3821040"/>
            <a:ext cx="662040" cy="252360"/>
            <a:chOff x="3070080" y="3821040"/>
            <a:chExt cx="662040" cy="252360"/>
          </a:xfrm>
        </p:grpSpPr>
        <p:sp>
          <p:nvSpPr>
            <p:cNvPr id="248" name=""/>
            <p:cNvSpPr/>
            <p:nvPr/>
          </p:nvSpPr>
          <p:spPr>
            <a:xfrm>
              <a:off x="3122640" y="38210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70080" y="38880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049920" y="3689280"/>
            <a:ext cx="663120" cy="252360"/>
            <a:chOff x="3049920" y="3689280"/>
            <a:chExt cx="663120" cy="252360"/>
          </a:xfrm>
        </p:grpSpPr>
        <p:sp>
          <p:nvSpPr>
            <p:cNvPr id="251" name=""/>
            <p:cNvSpPr/>
            <p:nvPr/>
          </p:nvSpPr>
          <p:spPr>
            <a:xfrm>
              <a:off x="3103560" y="36892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9920" y="375624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063960" y="350028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ormatos pa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22600" y="3351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09320" y="4621320"/>
            <a:ext cx="662040" cy="252000"/>
            <a:chOff x="409320" y="4621320"/>
            <a:chExt cx="662040" cy="252000"/>
          </a:xfrm>
        </p:grpSpPr>
        <p:sp>
          <p:nvSpPr>
            <p:cNvPr id="256" name=""/>
            <p:cNvSpPr/>
            <p:nvPr/>
          </p:nvSpPr>
          <p:spPr>
            <a:xfrm>
              <a:off x="461880" y="46213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9320" y="468792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89160" y="4495680"/>
            <a:ext cx="663120" cy="252360"/>
            <a:chOff x="389160" y="4495680"/>
            <a:chExt cx="663120" cy="252360"/>
          </a:xfrm>
        </p:grpSpPr>
        <p:sp>
          <p:nvSpPr>
            <p:cNvPr id="259" name=""/>
            <p:cNvSpPr/>
            <p:nvPr/>
          </p:nvSpPr>
          <p:spPr>
            <a:xfrm>
              <a:off x="442800" y="44956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9160" y="456264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03200" y="43005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o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2200" y="41511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120840" y="4691160"/>
            <a:ext cx="662040" cy="252000"/>
            <a:chOff x="3120840" y="4691160"/>
            <a:chExt cx="662040" cy="252000"/>
          </a:xfrm>
        </p:grpSpPr>
        <p:sp>
          <p:nvSpPr>
            <p:cNvPr id="264" name=""/>
            <p:cNvSpPr/>
            <p:nvPr/>
          </p:nvSpPr>
          <p:spPr>
            <a:xfrm>
              <a:off x="3173400" y="46911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20840" y="47577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62520" y="4559400"/>
            <a:ext cx="663120" cy="252000"/>
            <a:chOff x="3062520" y="4559400"/>
            <a:chExt cx="663120" cy="252000"/>
          </a:xfrm>
        </p:grpSpPr>
        <p:sp>
          <p:nvSpPr>
            <p:cNvPr id="267" name=""/>
            <p:cNvSpPr/>
            <p:nvPr/>
          </p:nvSpPr>
          <p:spPr>
            <a:xfrm>
              <a:off x="3116160" y="45594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62520" y="462600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076560" y="43704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, dist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. y Enví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forma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42084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28400" y="5529240"/>
            <a:ext cx="662040" cy="252360"/>
            <a:chOff x="428400" y="5529240"/>
            <a:chExt cx="662040" cy="252360"/>
          </a:xfrm>
        </p:grpSpPr>
        <p:sp>
          <p:nvSpPr>
            <p:cNvPr id="272" name=""/>
            <p:cNvSpPr/>
            <p:nvPr/>
          </p:nvSpPr>
          <p:spPr>
            <a:xfrm>
              <a:off x="480960" y="5529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400" y="55962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8240" y="5397480"/>
            <a:ext cx="663120" cy="252360"/>
            <a:chOff x="408240" y="5397480"/>
            <a:chExt cx="663120" cy="252360"/>
          </a:xfrm>
        </p:grpSpPr>
        <p:sp>
          <p:nvSpPr>
            <p:cNvPr id="275" name=""/>
            <p:cNvSpPr/>
            <p:nvPr/>
          </p:nvSpPr>
          <p:spPr>
            <a:xfrm>
              <a:off x="461880" y="5397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8240" y="546444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22280" y="520236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ormatos y env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ánalis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81280" y="50785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33" idx="2"/>
            <a:endCxn id="236" idx="0"/>
          </p:cNvCxnSpPr>
          <p:nvPr/>
        </p:nvCxnSpPr>
        <p:spPr>
          <a:xfrm flipH="1" flipV="1" rot="5400000">
            <a:off x="920880" y="1778040"/>
            <a:ext cx="419400" cy="813240"/>
          </a:xfrm>
          <a:prstGeom prst="bentConnector5">
            <a:avLst>
              <a:gd name="adj1" fmla="val -55240"/>
              <a:gd name="adj2" fmla="val 165943"/>
              <a:gd name="adj3" fmla="val 15532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0" name=""/>
          <p:cNvCxnSpPr>
            <a:stCxn id="230" idx="2"/>
            <a:endCxn id="238" idx="0"/>
          </p:cNvCxnSpPr>
          <p:nvPr/>
        </p:nvCxnSpPr>
        <p:spPr>
          <a:xfrm rot="5400000">
            <a:off x="1044360" y="2049120"/>
            <a:ext cx="272160" cy="976680"/>
          </a:xfrm>
          <a:prstGeom prst="bentConnector5">
            <a:avLst>
              <a:gd name="adj1" fmla="val 297350"/>
              <a:gd name="adj2" fmla="val 154977"/>
              <a:gd name="adj3" fmla="val 1470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1" name=""/>
          <p:cNvCxnSpPr>
            <a:stCxn id="227" idx="2"/>
            <a:endCxn id="240" idx="0"/>
          </p:cNvCxnSpPr>
          <p:nvPr/>
        </p:nvCxnSpPr>
        <p:spPr>
          <a:xfrm flipH="1" flipV="1" rot="5400000">
            <a:off x="1385640" y="2066760"/>
            <a:ext cx="401760" cy="1678320"/>
          </a:xfrm>
          <a:prstGeom prst="bentConnector5">
            <a:avLst>
              <a:gd name="adj1" fmla="val -61434"/>
              <a:gd name="adj2" fmla="val 49989"/>
              <a:gd name="adj3" fmla="val 157757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2" name=""/>
          <p:cNvCxnSpPr>
            <a:stCxn id="225" idx="2"/>
            <a:endCxn id="245" idx="0"/>
          </p:cNvCxnSpPr>
          <p:nvPr/>
        </p:nvCxnSpPr>
        <p:spPr>
          <a:xfrm rot="5400000">
            <a:off x="1447920" y="2408040"/>
            <a:ext cx="245160" cy="1725120"/>
          </a:xfrm>
          <a:prstGeom prst="bentConnector5">
            <a:avLst>
              <a:gd name="adj1" fmla="val 92647"/>
              <a:gd name="adj2" fmla="val 48361"/>
              <a:gd name="adj3" fmla="val 544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3" name=""/>
          <p:cNvCxnSpPr>
            <a:stCxn id="221" idx="2"/>
            <a:endCxn id="253" idx="0"/>
          </p:cNvCxnSpPr>
          <p:nvPr/>
        </p:nvCxnSpPr>
        <p:spPr>
          <a:xfrm flipH="1" flipV="1" rot="5400000">
            <a:off x="1852920" y="2445840"/>
            <a:ext cx="461880" cy="2570760"/>
          </a:xfrm>
          <a:prstGeom prst="bentConnector5">
            <a:avLst>
              <a:gd name="adj1" fmla="val -53432"/>
              <a:gd name="adj2" fmla="val 49985"/>
              <a:gd name="adj3" fmla="val 150234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4" name=""/>
          <p:cNvCxnSpPr>
            <a:stCxn id="248" idx="2"/>
            <a:endCxn id="261" idx="0"/>
          </p:cNvCxnSpPr>
          <p:nvPr/>
        </p:nvCxnSpPr>
        <p:spPr>
          <a:xfrm rot="5400000">
            <a:off x="1946160" y="2819160"/>
            <a:ext cx="243720" cy="2719800"/>
          </a:xfrm>
          <a:prstGeom prst="bentConnector5">
            <a:avLst>
              <a:gd name="adj1" fmla="val 101331"/>
              <a:gd name="adj2" fmla="val 50013"/>
              <a:gd name="adj3" fmla="val 4733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5" name=""/>
          <p:cNvCxnSpPr>
            <a:stCxn id="256" idx="2"/>
            <a:endCxn id="269" idx="0"/>
          </p:cNvCxnSpPr>
          <p:nvPr/>
        </p:nvCxnSpPr>
        <p:spPr>
          <a:xfrm flipH="1" flipV="1" rot="5400000">
            <a:off x="1830600" y="3306600"/>
            <a:ext cx="487080" cy="2615040"/>
          </a:xfrm>
          <a:prstGeom prst="bentConnector5">
            <a:avLst>
              <a:gd name="adj1" fmla="val -50665"/>
              <a:gd name="adj2" fmla="val 49979"/>
              <a:gd name="adj3" fmla="val 147707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>
            <a:stCxn id="264" idx="2"/>
            <a:endCxn id="277" idx="0"/>
          </p:cNvCxnSpPr>
          <p:nvPr/>
        </p:nvCxnSpPr>
        <p:spPr>
          <a:xfrm rot="5400000">
            <a:off x="1964880" y="3688920"/>
            <a:ext cx="275760" cy="2751480"/>
          </a:xfrm>
          <a:prstGeom prst="bentConnector5">
            <a:avLst>
              <a:gd name="adj1" fmla="val 89542"/>
              <a:gd name="adj2" fmla="val 50013"/>
              <a:gd name="adj3" fmla="val 1581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2184480" y="7467480"/>
            <a:ext cx="663480" cy="1526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ERMI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8520" y="5605560"/>
            <a:ext cx="662040" cy="252000"/>
            <a:chOff x="1298520" y="5605560"/>
            <a:chExt cx="662040" cy="252000"/>
          </a:xfrm>
        </p:grpSpPr>
        <p:sp>
          <p:nvSpPr>
            <p:cNvPr id="289" name=""/>
            <p:cNvSpPr/>
            <p:nvPr/>
          </p:nvSpPr>
          <p:spPr>
            <a:xfrm>
              <a:off x="1351080" y="56055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98520" y="567216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278360" y="5473800"/>
            <a:ext cx="663120" cy="252000"/>
            <a:chOff x="1278360" y="5473800"/>
            <a:chExt cx="663120" cy="252000"/>
          </a:xfrm>
        </p:grpSpPr>
        <p:sp>
          <p:nvSpPr>
            <p:cNvPr id="292" name=""/>
            <p:cNvSpPr/>
            <p:nvPr/>
          </p:nvSpPr>
          <p:spPr>
            <a:xfrm>
              <a:off x="1332000" y="547380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78360" y="5540400"/>
              <a:ext cx="50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Form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292400" y="527832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valu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solicitud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CD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1400" y="51292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72" idx="2"/>
            <a:endCxn id="294" idx="0"/>
          </p:cNvCxnSpPr>
          <p:nvPr/>
        </p:nvCxnSpPr>
        <p:spPr>
          <a:xfrm flipH="1" flipV="1" rot="5400000">
            <a:off x="947880" y="5115960"/>
            <a:ext cx="487440" cy="811800"/>
          </a:xfrm>
          <a:prstGeom prst="bentConnector5">
            <a:avLst>
              <a:gd name="adj1" fmla="val -50628"/>
              <a:gd name="adj2" fmla="val -66149"/>
              <a:gd name="adj3" fmla="val 147597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97" name=""/>
          <p:cNvSpPr/>
          <p:nvPr/>
        </p:nvSpPr>
        <p:spPr>
          <a:xfrm>
            <a:off x="2487960" y="53071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9" idx="2"/>
            <a:endCxn id="299" idx="0"/>
          </p:cNvCxnSpPr>
          <p:nvPr/>
        </p:nvCxnSpPr>
        <p:spPr>
          <a:xfrm flipH="1" flipV="1" rot="5400000">
            <a:off x="1808640" y="5154480"/>
            <a:ext cx="534600" cy="839880"/>
          </a:xfrm>
          <a:prstGeom prst="bentConnector5">
            <a:avLst>
              <a:gd name="adj1" fmla="val -46159"/>
              <a:gd name="adj2" fmla="val -63979"/>
              <a:gd name="adj3" fmla="val 14332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300" name=""/>
          <p:cNvGrpSpPr/>
          <p:nvPr/>
        </p:nvGrpSpPr>
        <p:grpSpPr>
          <a:xfrm>
            <a:off x="2216160" y="5489640"/>
            <a:ext cx="662040" cy="252360"/>
            <a:chOff x="2216160" y="5489640"/>
            <a:chExt cx="662040" cy="252360"/>
          </a:xfrm>
        </p:grpSpPr>
        <p:sp>
          <p:nvSpPr>
            <p:cNvPr id="301" name=""/>
            <p:cNvSpPr/>
            <p:nvPr/>
          </p:nvSpPr>
          <p:spPr>
            <a:xfrm>
              <a:off x="2268720" y="5489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16160" y="55566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163600" y="5307120"/>
            <a:ext cx="663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rma y enví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55680" y="5851440"/>
            <a:ext cx="519120" cy="387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2" idx="2"/>
            <a:endCxn id="303" idx="0"/>
          </p:cNvCxnSpPr>
          <p:nvPr/>
        </p:nvCxnSpPr>
        <p:spPr>
          <a:xfrm>
            <a:off x="2404080" y="5742000"/>
            <a:ext cx="11520" cy="109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5" name=""/>
          <p:cNvSpPr/>
          <p:nvPr/>
        </p:nvSpPr>
        <p:spPr>
          <a:xfrm>
            <a:off x="2174760" y="5940360"/>
            <a:ext cx="47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4880" y="5975280"/>
            <a:ext cx="19044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3"/>
            <a:endCxn id="306" idx="2"/>
          </p:cNvCxnSpPr>
          <p:nvPr/>
        </p:nvCxnSpPr>
        <p:spPr>
          <a:xfrm>
            <a:off x="2674800" y="6045120"/>
            <a:ext cx="100440" cy="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8" name=""/>
          <p:cNvSpPr/>
          <p:nvPr/>
        </p:nvSpPr>
        <p:spPr>
          <a:xfrm>
            <a:off x="2539080" y="590220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1160" y="63453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ctame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de CD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3" idx="2"/>
            <a:endCxn id="309" idx="0"/>
          </p:cNvCxnSpPr>
          <p:nvPr/>
        </p:nvCxnSpPr>
        <p:spPr>
          <a:xfrm flipH="1">
            <a:off x="2413080" y="6238800"/>
            <a:ext cx="2520" cy="106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093760" y="62262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8240" y="595008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3800" y="5148360"/>
            <a:ext cx="28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05160" y="68565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132640" y="7039080"/>
            <a:ext cx="662760" cy="252000"/>
            <a:chOff x="2132640" y="7039080"/>
            <a:chExt cx="662760" cy="252000"/>
          </a:xfrm>
        </p:grpSpPr>
        <p:sp>
          <p:nvSpPr>
            <p:cNvPr id="316" name=""/>
            <p:cNvSpPr/>
            <p:nvPr/>
          </p:nvSpPr>
          <p:spPr>
            <a:xfrm>
              <a:off x="2185920" y="703908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2640" y="7105680"/>
              <a:ext cx="44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081160" y="6856560"/>
            <a:ext cx="663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 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1360" y="6697800"/>
            <a:ext cx="28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9" idx="2"/>
            <a:endCxn id="318" idx="0"/>
          </p:cNvCxnSpPr>
          <p:nvPr/>
        </p:nvCxnSpPr>
        <p:spPr>
          <a:xfrm>
            <a:off x="2413080" y="6649920"/>
            <a:ext cx="360" cy="207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21" name=""/>
          <p:cNvCxnSpPr/>
          <p:nvPr/>
        </p:nvCxnSpPr>
        <p:spPr>
          <a:xfrm>
            <a:off x="2539800" y="7265880"/>
            <a:ext cx="1080" cy="207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VICTORIAR</cp:lastModifiedBy>
  <dcterms:modified xsi:type="dcterms:W3CDTF">2005-08-09T14:16:23Z</dcterms:modified>
  <cp:revision>44</cp:revision>
  <dc:subject/>
  <dc:title>Presentación de PowerPoint</dc:title>
</cp:coreProperties>
</file>