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56480"/>
            <a:chOff x="304920" y="1709640"/>
            <a:chExt cx="6324480" cy="5856480"/>
          </a:xfrm>
        </p:grpSpPr>
        <p:sp>
          <p:nvSpPr>
            <p:cNvPr id="1" name=""/>
            <p:cNvSpPr/>
            <p:nvPr/>
          </p:nvSpPr>
          <p:spPr>
            <a:xfrm>
              <a:off x="557676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ntidad Federativ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de Unidades de Atención 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 Espacios par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986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661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19  de 27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asesoría a las entidades federativas en la integración de proyectos arquitectónicos de las unidades de atención a la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Espacios para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24120" y="8077320"/>
              <a:ext cx="2076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80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24120" y="8731080"/>
              <a:ext cx="2076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80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4120" y="8518680"/>
              <a:ext cx="2076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680"/>
              <a:ext cx="18097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G. GABRIEL NÚÑEZ URQUIZ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24120" y="8290080"/>
              <a:ext cx="20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G.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EGORIO SÁNCHEZ VÁZQU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0080"/>
              <a:ext cx="180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C. SOFIA NEME NEUMIER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2412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501200" y="2865600"/>
            <a:ext cx="662400" cy="252000"/>
            <a:chOff x="1501200" y="2865600"/>
            <a:chExt cx="662400" cy="252000"/>
          </a:xfrm>
        </p:grpSpPr>
        <p:sp>
          <p:nvSpPr>
            <p:cNvPr id="108" name=""/>
            <p:cNvSpPr/>
            <p:nvPr/>
          </p:nvSpPr>
          <p:spPr>
            <a:xfrm>
              <a:off x="1554120" y="28656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01200" y="2932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3720" y="2846520"/>
            <a:ext cx="662400" cy="252000"/>
            <a:chOff x="513720" y="2846520"/>
            <a:chExt cx="662400" cy="252000"/>
          </a:xfrm>
        </p:grpSpPr>
        <p:sp>
          <p:nvSpPr>
            <p:cNvPr id="111" name=""/>
            <p:cNvSpPr/>
            <p:nvPr/>
          </p:nvSpPr>
          <p:spPr>
            <a:xfrm>
              <a:off x="566640" y="28465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3720" y="29131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" y="231948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480" y="26240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grama méd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9160" y="2465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2"/>
            <a:endCxn id="116" idx="0"/>
          </p:cNvCxnSpPr>
          <p:nvPr/>
        </p:nvCxnSpPr>
        <p:spPr>
          <a:xfrm flipH="1">
            <a:off x="833400" y="2471760"/>
            <a:ext cx="2160" cy="152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9" name=""/>
          <p:cNvSpPr/>
          <p:nvPr/>
        </p:nvSpPr>
        <p:spPr>
          <a:xfrm>
            <a:off x="1514520" y="26384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grama mé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24280" y="24890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2" idx="2"/>
            <a:endCxn id="119" idx="0"/>
          </p:cNvCxnSpPr>
          <p:nvPr/>
        </p:nvCxnSpPr>
        <p:spPr>
          <a:xfrm flipH="1" flipV="1" rot="5400000">
            <a:off x="1100160" y="2379240"/>
            <a:ext cx="460440" cy="978840"/>
          </a:xfrm>
          <a:prstGeom prst="bentConnector5">
            <a:avLst>
              <a:gd name="adj1" fmla="val -49295"/>
              <a:gd name="adj2" fmla="val 154782"/>
              <a:gd name="adj3" fmla="val 15039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2" name=""/>
          <p:cNvSpPr/>
          <p:nvPr/>
        </p:nvSpPr>
        <p:spPr>
          <a:xfrm>
            <a:off x="3600360" y="31892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ficio de notifica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ión  o dictam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9360" y="3054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08" idx="2"/>
            <a:endCxn id="125" idx="0"/>
          </p:cNvCxnSpPr>
          <p:nvPr/>
        </p:nvCxnSpPr>
        <p:spPr>
          <a:xfrm flipH="1" flipV="1" rot="5400000">
            <a:off x="2157120" y="2424600"/>
            <a:ext cx="379080" cy="975240"/>
          </a:xfrm>
          <a:prstGeom prst="bentConnector5">
            <a:avLst>
              <a:gd name="adj1" fmla="val -65114"/>
              <a:gd name="adj2" fmla="val 154985"/>
              <a:gd name="adj3" fmla="val 16112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26" name=""/>
          <p:cNvGrpSpPr/>
          <p:nvPr/>
        </p:nvGrpSpPr>
        <p:grpSpPr>
          <a:xfrm>
            <a:off x="2557440" y="4160880"/>
            <a:ext cx="722160" cy="609480"/>
            <a:chOff x="2557440" y="4160880"/>
            <a:chExt cx="722160" cy="609480"/>
          </a:xfrm>
        </p:grpSpPr>
        <p:grpSp>
          <p:nvGrpSpPr>
            <p:cNvPr id="127" name=""/>
            <p:cNvGrpSpPr/>
            <p:nvPr/>
          </p:nvGrpSpPr>
          <p:grpSpPr>
            <a:xfrm>
              <a:off x="2602800" y="4518000"/>
              <a:ext cx="662400" cy="252360"/>
              <a:chOff x="2602800" y="4518000"/>
              <a:chExt cx="662400" cy="252360"/>
            </a:xfrm>
          </p:grpSpPr>
          <p:sp>
            <p:nvSpPr>
              <p:cNvPr id="128" name=""/>
              <p:cNvSpPr/>
              <p:nvPr/>
            </p:nvSpPr>
            <p:spPr>
              <a:xfrm>
                <a:off x="2655720" y="451800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02800" y="4584960"/>
                <a:ext cx="6228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Oficio o dict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557440" y="429120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. de ofici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 Dictame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56040" y="41608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534760" y="2935440"/>
            <a:ext cx="662400" cy="252000"/>
            <a:chOff x="2534760" y="2935440"/>
            <a:chExt cx="662400" cy="252000"/>
          </a:xfrm>
        </p:grpSpPr>
        <p:sp>
          <p:nvSpPr>
            <p:cNvPr id="133" name=""/>
            <p:cNvSpPr/>
            <p:nvPr/>
          </p:nvSpPr>
          <p:spPr>
            <a:xfrm>
              <a:off x="2587680" y="29354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34760" y="30020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29000" y="27226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ama mé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2573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81360" y="55134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 las Ent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ederativ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22" idx="2"/>
            <a:endCxn id="138" idx="0"/>
          </p:cNvCxnSpPr>
          <p:nvPr/>
        </p:nvCxnSpPr>
        <p:spPr>
          <a:xfrm flipH="1">
            <a:off x="3902760" y="3494160"/>
            <a:ext cx="2880" cy="114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9" name=""/>
          <p:cNvSpPr/>
          <p:nvPr/>
        </p:nvSpPr>
        <p:spPr>
          <a:xfrm>
            <a:off x="3606840" y="27687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grama mé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3903840" y="3077640"/>
            <a:ext cx="2160" cy="134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4048200" y="2584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84600" y="50626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de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royect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con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decua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3975120" y="5381640"/>
            <a:ext cx="2160" cy="133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4" name=""/>
          <p:cNvSpPr/>
          <p:nvPr/>
        </p:nvSpPr>
        <p:spPr>
          <a:xfrm>
            <a:off x="4122720" y="492912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49680" y="3608280"/>
            <a:ext cx="506520" cy="460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4680" y="375768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8" idx="3"/>
            <a:endCxn id="145" idx="2"/>
          </p:cNvCxnSpPr>
          <p:nvPr/>
        </p:nvCxnSpPr>
        <p:spPr>
          <a:xfrm flipV="1">
            <a:off x="4156200" y="3827520"/>
            <a:ext cx="258840" cy="1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7" name=""/>
          <p:cNvCxnSpPr>
            <a:stCxn id="138" idx="2"/>
            <a:endCxn id="148" idx="0"/>
          </p:cNvCxnSpPr>
          <p:nvPr/>
        </p:nvCxnSpPr>
        <p:spPr>
          <a:xfrm>
            <a:off x="3902760" y="4068720"/>
            <a:ext cx="15480" cy="133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3683160" y="370692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733560" y="3668760"/>
            <a:ext cx="710640" cy="579240"/>
            <a:chOff x="3733560" y="3668760"/>
            <a:chExt cx="710640" cy="579240"/>
          </a:xfrm>
        </p:grpSpPr>
        <p:sp>
          <p:nvSpPr>
            <p:cNvPr id="151" name=""/>
            <p:cNvSpPr/>
            <p:nvPr/>
          </p:nvSpPr>
          <p:spPr>
            <a:xfrm>
              <a:off x="4165920" y="3668760"/>
              <a:ext cx="278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33560" y="4062600"/>
              <a:ext cx="252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í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591360" y="4046400"/>
            <a:ext cx="686880" cy="619200"/>
            <a:chOff x="3591360" y="4046400"/>
            <a:chExt cx="686880" cy="619200"/>
          </a:xfrm>
        </p:grpSpPr>
        <p:sp>
          <p:nvSpPr>
            <p:cNvPr id="154" name=""/>
            <p:cNvSpPr/>
            <p:nvPr/>
          </p:nvSpPr>
          <p:spPr>
            <a:xfrm>
              <a:off x="4051080" y="40464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591360" y="4413240"/>
              <a:ext cx="661320" cy="252360"/>
              <a:chOff x="3591360" y="4413240"/>
              <a:chExt cx="661320" cy="252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643200" y="441324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91360" y="4480200"/>
                <a:ext cx="5036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ictame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612960" y="4201920"/>
              <a:ext cx="6098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ontinua con e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ctame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57" idx="2"/>
            <a:endCxn id="130" idx="0"/>
          </p:cNvCxnSpPr>
          <p:nvPr/>
        </p:nvCxnSpPr>
        <p:spPr>
          <a:xfrm flipV="1" rot="16200000">
            <a:off x="3178800" y="4001400"/>
            <a:ext cx="374760" cy="954000"/>
          </a:xfrm>
          <a:prstGeom prst="bentConnector5">
            <a:avLst>
              <a:gd name="adj1" fmla="val -60576"/>
              <a:gd name="adj2" fmla="val -50207"/>
              <a:gd name="adj3" fmla="val 16192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9" name=""/>
          <p:cNvCxnSpPr>
            <a:stCxn id="128" idx="2"/>
            <a:endCxn id="142" idx="0"/>
          </p:cNvCxnSpPr>
          <p:nvPr/>
        </p:nvCxnSpPr>
        <p:spPr>
          <a:xfrm flipH="1" rot="16200000">
            <a:off x="3321000" y="4393800"/>
            <a:ext cx="308880" cy="1029240"/>
          </a:xfrm>
          <a:prstGeom prst="bentConnector5">
            <a:avLst>
              <a:gd name="adj1" fmla="val 79929"/>
              <a:gd name="adj2" fmla="val -52169"/>
              <a:gd name="adj3" fmla="val -15180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0" name=""/>
          <p:cNvCxnSpPr>
            <a:stCxn id="133" idx="2"/>
            <a:endCxn id="139" idx="0"/>
          </p:cNvCxnSpPr>
          <p:nvPr/>
        </p:nvCxnSpPr>
        <p:spPr>
          <a:xfrm flipH="1" flipV="1" rot="5400000">
            <a:off x="3200760" y="2460600"/>
            <a:ext cx="402840" cy="1019520"/>
          </a:xfrm>
          <a:prstGeom prst="bentConnector5">
            <a:avLst>
              <a:gd name="adj1" fmla="val -61270"/>
              <a:gd name="adj2" fmla="val 152596"/>
              <a:gd name="adj3" fmla="val 15760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4103640" y="5376960"/>
            <a:ext cx="22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672000" y="5832360"/>
            <a:ext cx="764640" cy="609480"/>
            <a:chOff x="3672000" y="5832360"/>
            <a:chExt cx="764640" cy="609480"/>
          </a:xfrm>
        </p:grpSpPr>
        <p:grpSp>
          <p:nvGrpSpPr>
            <p:cNvPr id="163" name=""/>
            <p:cNvGrpSpPr/>
            <p:nvPr/>
          </p:nvGrpSpPr>
          <p:grpSpPr>
            <a:xfrm>
              <a:off x="3717720" y="6189480"/>
              <a:ext cx="662040" cy="252360"/>
              <a:chOff x="3717720" y="6189480"/>
              <a:chExt cx="662040" cy="252360"/>
            </a:xfrm>
          </p:grpSpPr>
          <p:sp>
            <p:nvSpPr>
              <p:cNvPr id="164" name=""/>
              <p:cNvSpPr/>
              <p:nvPr/>
            </p:nvSpPr>
            <p:spPr>
              <a:xfrm>
                <a:off x="3770280" y="618948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17720" y="6256440"/>
                <a:ext cx="37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672000" y="596268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labora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tif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70600" y="583236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8" name=""/>
          <p:cNvCxnSpPr/>
          <p:nvPr/>
        </p:nvCxnSpPr>
        <p:spPr>
          <a:xfrm>
            <a:off x="3979440" y="5834160"/>
            <a:ext cx="2520" cy="133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9" name=""/>
          <p:cNvGrpSpPr/>
          <p:nvPr/>
        </p:nvGrpSpPr>
        <p:grpSpPr>
          <a:xfrm>
            <a:off x="2562120" y="5846760"/>
            <a:ext cx="764640" cy="609480"/>
            <a:chOff x="2562120" y="5846760"/>
            <a:chExt cx="764640" cy="609480"/>
          </a:xfrm>
        </p:grpSpPr>
        <p:grpSp>
          <p:nvGrpSpPr>
            <p:cNvPr id="170" name=""/>
            <p:cNvGrpSpPr/>
            <p:nvPr/>
          </p:nvGrpSpPr>
          <p:grpSpPr>
            <a:xfrm>
              <a:off x="2607840" y="6203880"/>
              <a:ext cx="662040" cy="252360"/>
              <a:chOff x="2607840" y="6203880"/>
              <a:chExt cx="662040" cy="252360"/>
            </a:xfrm>
          </p:grpSpPr>
          <p:sp>
            <p:nvSpPr>
              <p:cNvPr id="171" name=""/>
              <p:cNvSpPr/>
              <p:nvPr/>
            </p:nvSpPr>
            <p:spPr>
              <a:xfrm>
                <a:off x="2660400" y="620388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7840" y="6270840"/>
                <a:ext cx="37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562120" y="597708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tif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60720" y="584676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14440" y="6586560"/>
            <a:ext cx="764640" cy="609480"/>
            <a:chOff x="514440" y="6586560"/>
            <a:chExt cx="764640" cy="609480"/>
          </a:xfrm>
        </p:grpSpPr>
        <p:grpSp>
          <p:nvGrpSpPr>
            <p:cNvPr id="176" name=""/>
            <p:cNvGrpSpPr/>
            <p:nvPr/>
          </p:nvGrpSpPr>
          <p:grpSpPr>
            <a:xfrm>
              <a:off x="560160" y="6943680"/>
              <a:ext cx="662040" cy="252360"/>
              <a:chOff x="560160" y="6943680"/>
              <a:chExt cx="662040" cy="252360"/>
            </a:xfrm>
          </p:grpSpPr>
          <p:sp>
            <p:nvSpPr>
              <p:cNvPr id="177" name=""/>
              <p:cNvSpPr/>
              <p:nvPr/>
            </p:nvSpPr>
            <p:spPr>
              <a:xfrm>
                <a:off x="612720" y="694368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0160" y="7010640"/>
                <a:ext cx="37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14440" y="671688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revi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ión y firma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tif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3040" y="658656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467000" y="5875200"/>
            <a:ext cx="764280" cy="609480"/>
            <a:chOff x="1467000" y="5875200"/>
            <a:chExt cx="764280" cy="609480"/>
          </a:xfrm>
        </p:grpSpPr>
        <p:grpSp>
          <p:nvGrpSpPr>
            <p:cNvPr id="182" name=""/>
            <p:cNvGrpSpPr/>
            <p:nvPr/>
          </p:nvGrpSpPr>
          <p:grpSpPr>
            <a:xfrm>
              <a:off x="1512360" y="6232320"/>
              <a:ext cx="662040" cy="252360"/>
              <a:chOff x="1512360" y="6232320"/>
              <a:chExt cx="662040" cy="252360"/>
            </a:xfrm>
          </p:grpSpPr>
          <p:sp>
            <p:nvSpPr>
              <p:cNvPr id="183" name=""/>
              <p:cNvSpPr/>
              <p:nvPr/>
            </p:nvSpPr>
            <p:spPr>
              <a:xfrm>
                <a:off x="1564920" y="623232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12360" y="6299280"/>
                <a:ext cx="37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467000" y="6005520"/>
              <a:ext cx="66312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revi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ión y rubrica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tif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65240" y="587520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" name=""/>
          <p:cNvCxnSpPr>
            <a:stCxn id="164" idx="2"/>
            <a:endCxn id="173" idx="0"/>
          </p:cNvCxnSpPr>
          <p:nvPr/>
        </p:nvCxnSpPr>
        <p:spPr>
          <a:xfrm flipV="1" rot="16200000">
            <a:off x="3260160" y="5610600"/>
            <a:ext cx="448920" cy="1181520"/>
          </a:xfrm>
          <a:prstGeom prst="bentConnector5">
            <a:avLst>
              <a:gd name="adj1" fmla="val -54975"/>
              <a:gd name="adj2" fmla="val 48887"/>
              <a:gd name="adj3" fmla="val 15176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8" name=""/>
          <p:cNvCxnSpPr>
            <a:stCxn id="171" idx="2"/>
            <a:endCxn id="185" idx="0"/>
          </p:cNvCxnSpPr>
          <p:nvPr/>
        </p:nvCxnSpPr>
        <p:spPr>
          <a:xfrm flipV="1" rot="16200000">
            <a:off x="2164680" y="5639040"/>
            <a:ext cx="434880" cy="1167120"/>
          </a:xfrm>
          <a:prstGeom prst="bentConnector5">
            <a:avLst>
              <a:gd name="adj1" fmla="val -56752"/>
              <a:gd name="adj2" fmla="val 48842"/>
              <a:gd name="adj3" fmla="val 15343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9" name=""/>
          <p:cNvCxnSpPr>
            <a:stCxn id="183" idx="2"/>
            <a:endCxn id="179" idx="0"/>
          </p:cNvCxnSpPr>
          <p:nvPr/>
        </p:nvCxnSpPr>
        <p:spPr>
          <a:xfrm rot="5400000">
            <a:off x="1233720" y="6081120"/>
            <a:ext cx="248760" cy="1023840"/>
          </a:xfrm>
          <a:prstGeom prst="bentConnector5">
            <a:avLst>
              <a:gd name="adj1" fmla="val 99275"/>
              <a:gd name="adj2" fmla="val -52374"/>
              <a:gd name="adj3" fmla="val -18840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0" name=""/>
          <p:cNvSpPr/>
          <p:nvPr/>
        </p:nvSpPr>
        <p:spPr>
          <a:xfrm>
            <a:off x="419040" y="73407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78" idx="2"/>
            <a:endCxn id="190" idx="0"/>
          </p:cNvCxnSpPr>
          <p:nvPr/>
        </p:nvCxnSpPr>
        <p:spPr>
          <a:xfrm>
            <a:off x="748080" y="7196040"/>
            <a:ext cx="3240" cy="145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09T15:00:18Z</dcterms:modified>
  <cp:revision>5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43563253</vt:r8>
  </property>
  <property fmtid="{D5CDD505-2E9C-101B-9397-08002B2CF9AE}" pid="3" name="_AuthorEmail">
    <vt:lpwstr>SOFIAN@DGPEC-S01.SSA.com</vt:lpwstr>
  </property>
  <property fmtid="{D5CDD505-2E9C-101B-9397-08002B2CF9AE}" pid="4" name="_AuthorEmailDisplayName">
    <vt:lpwstr>SOFIA KETRIN NEME MEUNIER</vt:lpwstr>
  </property>
  <property fmtid="{D5CDD505-2E9C-101B-9397-08002B2CF9AE}" pid="5" name="_EmailSubject">
    <vt:lpwstr>Procedimientos</vt:lpwstr>
  </property>
</Properties>
</file>