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2880" y="1663560"/>
            <a:ext cx="6324840" cy="5815080"/>
            <a:chOff x="272880" y="1663560"/>
            <a:chExt cx="6324840" cy="5815080"/>
          </a:xfrm>
        </p:grpSpPr>
        <p:sp>
          <p:nvSpPr>
            <p:cNvPr id="1" name=""/>
            <p:cNvSpPr/>
            <p:nvPr/>
          </p:nvSpPr>
          <p:spPr>
            <a:xfrm>
              <a:off x="554508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8956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3692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8140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2876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2880" y="2211480"/>
              <a:ext cx="10558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508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48956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3692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8140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da institución del sector salud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2876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dirección de Innovación Logística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2880" y="1663560"/>
              <a:ext cx="1055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2880" y="2211480"/>
              <a:ext cx="632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72880" y="7478640"/>
              <a:ext cx="632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288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8140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3692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4895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4508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9772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166356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72880" y="1663560"/>
              <a:ext cx="105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36920" y="166356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543640" y="716040"/>
              <a:ext cx="1085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38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114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la generación de ideas para el fortalecimiento de procedimientos y estrategias de operación en la cadena de suministro</a:t>
              </a:r>
              <a:r>
                <a:rPr b="1" lang="es-MX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543640" y="455760"/>
              <a:ext cx="10857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1148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543640" y="228600"/>
              <a:ext cx="108576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1148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5436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2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6920"/>
            <a:chOff x="304920" y="7848720"/>
            <a:chExt cx="6324480" cy="109692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190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981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2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2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2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2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201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201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201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201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152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9152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Blanca Chávez Buenrost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152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Osorio Marí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152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15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201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2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5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411920" y="3259080"/>
            <a:ext cx="661320" cy="252360"/>
            <a:chOff x="1411920" y="3259080"/>
            <a:chExt cx="661320" cy="252360"/>
          </a:xfrm>
        </p:grpSpPr>
        <p:sp>
          <p:nvSpPr>
            <p:cNvPr id="72" name=""/>
            <p:cNvSpPr/>
            <p:nvPr/>
          </p:nvSpPr>
          <p:spPr>
            <a:xfrm>
              <a:off x="1463760" y="3259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11920" y="3326040"/>
              <a:ext cx="627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sent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63760" y="374184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romo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ide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41480" y="3602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35200" y="428796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pl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ide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90960" y="4132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63760" y="49323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eguimien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apl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ide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28880" y="4788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01880" y="63230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2880" y="2762280"/>
            <a:ext cx="609480" cy="297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ordin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gener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ide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9760" y="305604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Gener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ide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/>
          <p:nvPr/>
        </p:nvCxnSpPr>
        <p:spPr>
          <a:xfrm flipH="1" flipV="1" rot="5400000">
            <a:off x="1279440" y="2623680"/>
            <a:ext cx="3960" cy="867600"/>
          </a:xfrm>
          <a:prstGeom prst="bentConnector5">
            <a:avLst>
              <a:gd name="adj1" fmla="val -7200000"/>
              <a:gd name="adj2" fmla="val 49979"/>
              <a:gd name="adj3" fmla="val 7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1855800" y="2922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6320" y="2614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/>
          <p:nvPr/>
        </p:nvCxnSpPr>
        <p:spPr>
          <a:xfrm>
            <a:off x="839880" y="2590920"/>
            <a:ext cx="864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1339920" y="2914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7680" y="717552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2880" y="646596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pl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ide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/>
          <p:nvPr/>
        </p:nvCxnSpPr>
        <p:spPr>
          <a:xfrm flipV="1" rot="10800000">
            <a:off x="1767600" y="3495240"/>
            <a:ext cx="1080" cy="24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rot="5400000">
            <a:off x="2183760" y="4176360"/>
            <a:ext cx="340200" cy="117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>
            <a:off x="847800" y="6770160"/>
            <a:ext cx="2160" cy="40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rot="16200000">
            <a:off x="2232360" y="3580920"/>
            <a:ext cx="242280" cy="117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1463760" y="56754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apl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ide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28880" y="5530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767960" y="523692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/>
          <p:nvPr/>
        </p:nvCxnSpPr>
        <p:spPr>
          <a:xfrm rot="5400000">
            <a:off x="1064160" y="5762520"/>
            <a:ext cx="486720" cy="92124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992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MARISOLO</cp:lastModifiedBy>
  <dcterms:modified xsi:type="dcterms:W3CDTF">2005-08-05T18:45:30Z</dcterms:modified>
  <cp:revision>58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2669540</vt:r8>
  </property>
  <property fmtid="{D5CDD505-2E9C-101B-9397-08002B2CF9AE}" pid="3" name="_AuthorEmail">
    <vt:lpwstr>MARISOLO@DGPEC-S01.SSA.com</vt:lpwstr>
  </property>
  <property fmtid="{D5CDD505-2E9C-101B-9397-08002B2CF9AE}" pid="4" name="_AuthorEmailDisplayName">
    <vt:lpwstr>MARISOL OSORIO MARIN</vt:lpwstr>
  </property>
  <property fmtid="{D5CDD505-2E9C-101B-9397-08002B2CF9AE}" pid="5" name="_EmailSubject">
    <vt:lpwstr>ISO 9001-2000</vt:lpwstr>
  </property>
  <property fmtid="{D5CDD505-2E9C-101B-9397-08002B2CF9AE}" pid="6" name="_PreviousAdHocReviewCycleID">
    <vt:r8>1248081516</vt:r8>
  </property>
</Properties>
</file>