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650960"/>
            <a:ext cx="6324480" cy="5810400"/>
            <a:chOff x="304920" y="1650960"/>
            <a:chExt cx="6324480" cy="5810400"/>
          </a:xfrm>
        </p:grpSpPr>
        <p:sp>
          <p:nvSpPr>
            <p:cNvPr id="1" name=""/>
            <p:cNvSpPr/>
            <p:nvPr/>
          </p:nvSpPr>
          <p:spPr>
            <a:xfrm>
              <a:off x="5089680" y="2193840"/>
              <a:ext cx="15397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489480" y="2193840"/>
              <a:ext cx="160020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836720" y="2193840"/>
              <a:ext cx="165276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193840"/>
              <a:ext cx="153180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89680" y="1650960"/>
              <a:ext cx="15397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Sistemas Complementarios de Atención a la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489480" y="1650960"/>
              <a:ext cx="16002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Medicina Tradicional y Desarrollo Intercultur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836720" y="1650960"/>
              <a:ext cx="16527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Implantación de Sistema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920" y="1650960"/>
              <a:ext cx="1531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920" y="219384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746136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04920" y="1650960"/>
              <a:ext cx="0" cy="5810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836720" y="1650960"/>
              <a:ext cx="0" cy="581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489480" y="1650960"/>
              <a:ext cx="0" cy="581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089680" y="1650960"/>
              <a:ext cx="0" cy="581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629400" y="1650960"/>
              <a:ext cx="0" cy="5810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836720" y="1650960"/>
              <a:ext cx="3252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04920" y="1650960"/>
              <a:ext cx="1531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89680" y="1650960"/>
              <a:ext cx="1539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0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59 de 6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</a:t>
              </a: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ra la modulación de la medicina tradicional.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Medicina Tradicional y Desarrollo Intercultur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6" name=""/>
          <p:cNvGrpSpPr/>
          <p:nvPr/>
        </p:nvGrpSpPr>
        <p:grpSpPr>
          <a:xfrm>
            <a:off x="304920" y="7848720"/>
            <a:ext cx="6324480" cy="1201680"/>
            <a:chOff x="304920" y="7848720"/>
            <a:chExt cx="6324480" cy="1201680"/>
          </a:xfrm>
        </p:grpSpPr>
        <p:sp>
          <p:nvSpPr>
            <p:cNvPr id="37" name=""/>
            <p:cNvSpPr/>
            <p:nvPr/>
          </p:nvSpPr>
          <p:spPr>
            <a:xfrm>
              <a:off x="4800600" y="80773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895480" y="80773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914400" y="80773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4920" y="80773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800600" y="883764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895480" y="883764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883764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883764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86248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95480" y="86248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14400" y="86248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86248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0600" y="829008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R. JOSE ALEJANDRO ALMAGUER GONZÁLEZ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95480" y="829008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R. HERNÁN JOSÉ GARCÍA RAMÍR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14400" y="829008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EMÍ LUGO MALDONAD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920" y="8290080"/>
              <a:ext cx="6094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8290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86248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883764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90504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0" cy="1201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29400" y="7848720"/>
              <a:ext cx="0" cy="1201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14400" y="807732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807732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00600" y="807732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52520" y="2438280"/>
            <a:ext cx="5854320" cy="4762440"/>
            <a:chOff x="452520" y="2438280"/>
            <a:chExt cx="5854320" cy="4762440"/>
          </a:xfrm>
        </p:grpSpPr>
        <p:grpSp>
          <p:nvGrpSpPr>
            <p:cNvPr id="103" name=""/>
            <p:cNvGrpSpPr/>
            <p:nvPr/>
          </p:nvGrpSpPr>
          <p:grpSpPr>
            <a:xfrm>
              <a:off x="4246920" y="3139920"/>
              <a:ext cx="505440" cy="250920"/>
              <a:chOff x="4246920" y="3139920"/>
              <a:chExt cx="505440" cy="250920"/>
            </a:xfrm>
          </p:grpSpPr>
          <p:sp>
            <p:nvSpPr>
              <p:cNvPr id="104" name=""/>
              <p:cNvSpPr/>
              <p:nvPr/>
            </p:nvSpPr>
            <p:spPr>
              <a:xfrm>
                <a:off x="4286520" y="3139920"/>
                <a:ext cx="451080" cy="250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246920" y="3219480"/>
                <a:ext cx="5054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</a:rPr>
                  <a:t>Document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452520" y="2438280"/>
              <a:ext cx="663480" cy="15264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23840" y="258444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27440" y="254628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13360" y="282888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35720" y="262584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12" idx="2"/>
              <a:endCxn id="113" idx="0"/>
            </p:cNvCxnSpPr>
            <p:nvPr/>
          </p:nvCxnSpPr>
          <p:spPr>
            <a:xfrm flipH="1" flipV="1" rot="5400000">
              <a:off x="1566720" y="2033640"/>
              <a:ext cx="316440" cy="1794600"/>
            </a:xfrm>
            <a:prstGeom prst="bentConnector5">
              <a:avLst>
                <a:gd name="adj1" fmla="val -72323"/>
                <a:gd name="adj2" fmla="val 50000"/>
                <a:gd name="adj3" fmla="val 172323"/>
              </a:avLst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3" idx="2"/>
              <a:endCxn id="115" idx="0"/>
            </p:cNvCxnSpPr>
            <p:nvPr/>
          </p:nvCxnSpPr>
          <p:spPr>
            <a:xfrm flipH="1" flipV="1" rot="5400000">
              <a:off x="3421440" y="2082240"/>
              <a:ext cx="195840" cy="1796040"/>
            </a:xfrm>
            <a:prstGeom prst="bentConnector5">
              <a:avLst>
                <a:gd name="adj1" fmla="val -116942"/>
                <a:gd name="adj2" fmla="val 30573"/>
                <a:gd name="adj3" fmla="val 216942"/>
              </a:avLst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05" idx="2"/>
              <a:endCxn id="117" idx="0"/>
            </p:cNvCxnSpPr>
            <p:nvPr/>
          </p:nvCxnSpPr>
          <p:spPr>
            <a:xfrm flipH="1" flipV="1" rot="5400000">
              <a:off x="5057640" y="2522520"/>
              <a:ext cx="306720" cy="1423080"/>
            </a:xfrm>
            <a:prstGeom prst="bentConnector5">
              <a:avLst>
                <a:gd name="adj1" fmla="val -74618"/>
                <a:gd name="adj2" fmla="val 25657"/>
                <a:gd name="adj3" fmla="val 174735"/>
              </a:avLst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523800" y="2784600"/>
              <a:ext cx="60984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strucción  para l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ulación de la MT</a:t>
              </a: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81200" y="258444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17680" y="2773440"/>
              <a:ext cx="60984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Solicita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Propuesta de Modelo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De Modulació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13360" y="288288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os para l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abor. de propuesta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 mod. de la MT</a:t>
              </a: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18160" y="308124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Diagnóstico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jurídico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y situaciona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46480" y="568656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70240" y="4791240"/>
              <a:ext cx="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3953160" y="5506920"/>
              <a:ext cx="509040" cy="208080"/>
              <a:chOff x="3953160" y="5506920"/>
              <a:chExt cx="509040" cy="208080"/>
            </a:xfrm>
          </p:grpSpPr>
          <p:sp>
            <p:nvSpPr>
              <p:cNvPr id="122" name=""/>
              <p:cNvSpPr/>
              <p:nvPr/>
            </p:nvSpPr>
            <p:spPr>
              <a:xfrm>
                <a:off x="3993840" y="5506920"/>
                <a:ext cx="468360" cy="20664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953160" y="5545080"/>
                <a:ext cx="5054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</a:rPr>
                  <a:t>Document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3996000" y="4629240"/>
              <a:ext cx="509040" cy="206280"/>
              <a:chOff x="3996000" y="4629240"/>
              <a:chExt cx="509040" cy="206280"/>
            </a:xfrm>
          </p:grpSpPr>
          <p:sp>
            <p:nvSpPr>
              <p:cNvPr id="125" name=""/>
              <p:cNvSpPr/>
              <p:nvPr/>
            </p:nvSpPr>
            <p:spPr>
              <a:xfrm>
                <a:off x="4036680" y="4629240"/>
                <a:ext cx="468360" cy="20628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996000" y="4662720"/>
                <a:ext cx="5054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</a:rPr>
                  <a:t>Document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4403880" y="502452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37000" y="427824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9440" y="436392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alidación 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rticulación con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 DGAJ</a:t>
              </a: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51280" y="521640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. oper. en l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GS en cuanto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 reconoc. De la MT</a:t>
              </a:r>
              <a:r>
                <a:rPr b="0" lang="es-ES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841920" y="6603840"/>
              <a:ext cx="663480" cy="596880"/>
              <a:chOff x="3841920" y="6603840"/>
              <a:chExt cx="663480" cy="596880"/>
            </a:xfrm>
          </p:grpSpPr>
          <p:sp>
            <p:nvSpPr>
              <p:cNvPr id="132" name=""/>
              <p:cNvSpPr/>
              <p:nvPr/>
            </p:nvSpPr>
            <p:spPr>
              <a:xfrm>
                <a:off x="4154760" y="6603840"/>
                <a:ext cx="0" cy="48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841920" y="7048080"/>
                <a:ext cx="663480" cy="152640"/>
              </a:xfrm>
              <a:prstGeom prst="flowChartTermina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</a:rPr>
                  <a:t>Termina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949200" y="6262560"/>
              <a:ext cx="501840" cy="384120"/>
              <a:chOff x="3949200" y="6262560"/>
              <a:chExt cx="501840" cy="38412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3954600" y="6395760"/>
                <a:ext cx="489960" cy="250920"/>
                <a:chOff x="3954600" y="6395760"/>
                <a:chExt cx="489960" cy="2509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993840" y="6395760"/>
                  <a:ext cx="450720" cy="250920"/>
                </a:xfrm>
                <a:prstGeom prst="flowChartDocumen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954600" y="6475320"/>
                  <a:ext cx="3924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500" spc="-1" strike="noStrike">
                      <a:solidFill>
                        <a:srgbClr val="000000"/>
                      </a:solidFill>
                      <a:latin typeface="Arial"/>
                    </a:rPr>
                    <a:t>informe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3949200" y="6262560"/>
                <a:ext cx="501840" cy="245520"/>
                <a:chOff x="3949200" y="6262560"/>
                <a:chExt cx="501840" cy="2455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3988800" y="6262560"/>
                  <a:ext cx="462240" cy="225720"/>
                </a:xfrm>
                <a:prstGeom prst="flowChartDocumen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49200" y="6322680"/>
                  <a:ext cx="365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500" spc="-1" strike="noStrike">
                      <a:solidFill>
                        <a:srgbClr val="000000"/>
                      </a:solidFill>
                      <a:latin typeface="Arial"/>
                    </a:rPr>
                    <a:t>Oficio</a:t>
                  </a:r>
                  <a:r>
                    <a:rPr b="0" lang="es-MX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" name=""/>
            <p:cNvSpPr/>
            <p:nvPr/>
          </p:nvSpPr>
          <p:spPr>
            <a:xfrm>
              <a:off x="3841920" y="602460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trega 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orme Final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79760" y="5881680"/>
              <a:ext cx="289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08320" y="417348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19840" y="3381480"/>
              <a:ext cx="3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83280" y="337500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5748840" y="3787920"/>
              <a:ext cx="509040" cy="206280"/>
              <a:chOff x="5748840" y="3787920"/>
              <a:chExt cx="509040" cy="206280"/>
            </a:xfrm>
          </p:grpSpPr>
          <p:sp>
            <p:nvSpPr>
              <p:cNvPr id="147" name=""/>
              <p:cNvSpPr/>
              <p:nvPr/>
            </p:nvSpPr>
            <p:spPr>
              <a:xfrm>
                <a:off x="5789520" y="3787920"/>
                <a:ext cx="468360" cy="20628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48840" y="3816360"/>
                <a:ext cx="5054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</a:rPr>
                  <a:t>Document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5654520" y="3533760"/>
              <a:ext cx="60984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Emisión de modelo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de modulación y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legalización de la M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61240" y="399240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114800" y="4168800"/>
              <a:ext cx="185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35760" y="2887560"/>
              <a:ext cx="234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Noemi Lugo Maldonado</cp:lastModifiedBy>
  <dcterms:modified xsi:type="dcterms:W3CDTF">2005-08-08T16:18:15Z</dcterms:modified>
  <cp:revision>5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18421619</vt:r8>
  </property>
  <property fmtid="{D5CDD505-2E9C-101B-9397-08002B2CF9AE}" pid="3" name="_AuthorEmail">
    <vt:lpwstr>HERNANG@DGPEC-S01.SSA.com</vt:lpwstr>
  </property>
  <property fmtid="{D5CDD505-2E9C-101B-9397-08002B2CF9AE}" pid="4" name="_AuthorEmailDisplayName">
    <vt:lpwstr>HERNAN JOSE GARCIA RAMIREZ</vt:lpwstr>
  </property>
  <property fmtid="{D5CDD505-2E9C-101B-9397-08002B2CF9AE}" pid="5" name="_EmailSubject">
    <vt:lpwstr>Manuales de procedimientos de Medicina Tradicional y Sistmas Complementarios</vt:lpwstr>
  </property>
</Properties>
</file>