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72880" y="1663560"/>
            <a:ext cx="6324840" cy="5815080"/>
            <a:chOff x="272880" y="1663560"/>
            <a:chExt cx="6324840" cy="5815080"/>
          </a:xfrm>
        </p:grpSpPr>
        <p:sp>
          <p:nvSpPr>
            <p:cNvPr id="1" name=""/>
            <p:cNvSpPr/>
            <p:nvPr/>
          </p:nvSpPr>
          <p:spPr>
            <a:xfrm>
              <a:off x="5545080" y="2211480"/>
              <a:ext cx="105264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489560" y="2211480"/>
              <a:ext cx="105552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36920" y="2211480"/>
              <a:ext cx="105264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381400" y="2211480"/>
              <a:ext cx="105552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328760" y="2211480"/>
              <a:ext cx="105264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72880" y="2211480"/>
              <a:ext cx="105588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545080" y="1663560"/>
              <a:ext cx="10526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489560" y="1663560"/>
              <a:ext cx="10555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36920" y="1663560"/>
              <a:ext cx="10526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381400" y="1663560"/>
              <a:ext cx="10555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ada institución del sector salud</a:t>
              </a: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328760" y="1663560"/>
              <a:ext cx="10526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ubdirección de Innovación Logística</a:t>
              </a: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72880" y="1663560"/>
              <a:ext cx="10558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de Procesos Logísticos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72880" y="2211480"/>
              <a:ext cx="632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72880" y="7478640"/>
              <a:ext cx="6324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72880" y="1663560"/>
              <a:ext cx="0" cy="5815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28760" y="166356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381400" y="166356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436920" y="166356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4489560" y="166356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545080" y="166356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6597720" y="1663560"/>
              <a:ext cx="0" cy="5815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28760" y="1663560"/>
              <a:ext cx="210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272880" y="1663560"/>
              <a:ext cx="10558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436920" y="1663560"/>
              <a:ext cx="3160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" name=""/>
          <p:cNvGrpSpPr/>
          <p:nvPr/>
        </p:nvGrpSpPr>
        <p:grpSpPr>
          <a:xfrm>
            <a:off x="304920" y="228600"/>
            <a:ext cx="6324480" cy="914400"/>
            <a:chOff x="304920" y="228600"/>
            <a:chExt cx="6324480" cy="914400"/>
          </a:xfrm>
        </p:grpSpPr>
        <p:sp>
          <p:nvSpPr>
            <p:cNvPr id="26" name=""/>
            <p:cNvSpPr/>
            <p:nvPr/>
          </p:nvSpPr>
          <p:spPr>
            <a:xfrm>
              <a:off x="5530680" y="716040"/>
              <a:ext cx="1098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Hoja: 20  de 11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28840" y="716040"/>
              <a:ext cx="4101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Nombre del Procedimiento: Para captar y difundir las innovaciones implantadas en la cadena de suministro en el sector salu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530680" y="455760"/>
              <a:ext cx="109872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Rev.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428840" y="455760"/>
              <a:ext cx="41018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Dirección de Procesos Logísticos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5530680" y="228600"/>
              <a:ext cx="109872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Código: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428840" y="228600"/>
              <a:ext cx="41018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Arial"/>
                </a:rPr>
                <a:t>MANUAL DE PROCEDIMIENTO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304920" y="228600"/>
              <a:ext cx="11239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304920" y="2286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04920" y="11430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304920" y="228600"/>
              <a:ext cx="0" cy="91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28840" y="2286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530680" y="2286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6629400" y="228600"/>
              <a:ext cx="0" cy="91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428840" y="45576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1428840" y="71604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90720" cy="53208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304920" y="7848720"/>
            <a:ext cx="6324480" cy="1096920"/>
            <a:chOff x="304920" y="7848720"/>
            <a:chExt cx="6324480" cy="1096920"/>
          </a:xfrm>
        </p:grpSpPr>
        <p:sp>
          <p:nvSpPr>
            <p:cNvPr id="43" name=""/>
            <p:cNvSpPr/>
            <p:nvPr/>
          </p:nvSpPr>
          <p:spPr>
            <a:xfrm>
              <a:off x="4800600" y="8077320"/>
              <a:ext cx="1828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utoriz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895480" y="8077320"/>
              <a:ext cx="1905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Revis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14400" y="8077320"/>
              <a:ext cx="19810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Elabor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04920" y="8077320"/>
              <a:ext cx="6094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800600" y="8732880"/>
              <a:ext cx="18288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gosto 4,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95480" y="8732880"/>
              <a:ext cx="19051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gosto 4,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14400" y="8732880"/>
              <a:ext cx="19810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gosto 4,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04920" y="8732880"/>
              <a:ext cx="6094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ech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0600" y="8520120"/>
              <a:ext cx="18288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895480" y="8520120"/>
              <a:ext cx="19051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14400" y="8520120"/>
              <a:ext cx="19810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920" y="8520120"/>
              <a:ext cx="6094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irm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00600" y="8291520"/>
              <a:ext cx="1828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Ing. Jorge Medina Lamadri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895480" y="8291520"/>
              <a:ext cx="1905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Lic. Blanca Chávez Buenrostr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14400" y="8291520"/>
              <a:ext cx="1981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Lic. Marisol Osorio Marí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4920" y="8291520"/>
              <a:ext cx="609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Nomb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4920" y="7848720"/>
              <a:ext cx="6324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CONTROL DE EMISIÓ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04920" y="784872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04920" y="82915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4920" y="85201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4920" y="873288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4920" y="894564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04920" y="7848720"/>
              <a:ext cx="0" cy="10969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629400" y="7848720"/>
              <a:ext cx="0" cy="10969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04920" y="80773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14400" y="8077320"/>
              <a:ext cx="0" cy="86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8077320"/>
              <a:ext cx="0" cy="86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00600" y="8077320"/>
              <a:ext cx="0" cy="86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1411200" y="3259080"/>
            <a:ext cx="662040" cy="252360"/>
            <a:chOff x="1411200" y="3259080"/>
            <a:chExt cx="662040" cy="252360"/>
          </a:xfrm>
        </p:grpSpPr>
        <p:sp>
          <p:nvSpPr>
            <p:cNvPr id="72" name=""/>
            <p:cNvSpPr/>
            <p:nvPr/>
          </p:nvSpPr>
          <p:spPr>
            <a:xfrm>
              <a:off x="1463760" y="325908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11200" y="3326040"/>
              <a:ext cx="375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fici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507960" y="2438280"/>
            <a:ext cx="663480" cy="15264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23960" y="3367080"/>
            <a:ext cx="60984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Detección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innovacion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02040" y="322740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65520" y="410040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63760" y="490680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Comunica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de captación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innovacion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28880" y="476244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01880" y="538956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2880" y="2762280"/>
            <a:ext cx="609480" cy="2970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Coordinación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la difusión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novacion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09760" y="3056040"/>
            <a:ext cx="609480" cy="314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romo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ara captar la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novaciones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"/>
          <p:cNvCxnSpPr/>
          <p:nvPr/>
        </p:nvCxnSpPr>
        <p:spPr>
          <a:xfrm flipH="1" flipV="1" rot="5400000">
            <a:off x="1279440" y="2623680"/>
            <a:ext cx="3960" cy="867600"/>
          </a:xfrm>
          <a:prstGeom prst="bentConnector5">
            <a:avLst>
              <a:gd name="adj1" fmla="val -7200000"/>
              <a:gd name="adj2" fmla="val 49979"/>
              <a:gd name="adj3" fmla="val 7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" name=""/>
          <p:cNvSpPr/>
          <p:nvPr/>
        </p:nvSpPr>
        <p:spPr>
          <a:xfrm>
            <a:off x="1855800" y="292248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76320" y="261468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/>
          <p:nvPr/>
        </p:nvCxnSpPr>
        <p:spPr>
          <a:xfrm>
            <a:off x="839880" y="2590920"/>
            <a:ext cx="8640" cy="172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1339920" y="29145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7680" y="6242040"/>
            <a:ext cx="663480" cy="1522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ÉRMI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2880" y="553248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Comunica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obre capta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 innovacion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/>
          <p:nvPr/>
        </p:nvCxnSpPr>
        <p:spPr>
          <a:xfrm flipH="1" flipV="1" rot="5400000">
            <a:off x="2234160" y="2900520"/>
            <a:ext cx="129240" cy="1061280"/>
          </a:xfrm>
          <a:prstGeom prst="bentConnector5">
            <a:avLst>
              <a:gd name="adj1" fmla="val -188826"/>
              <a:gd name="adj2" fmla="val 49983"/>
              <a:gd name="adj3" fmla="val 2776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"/>
          <p:cNvCxnSpPr/>
          <p:nvPr/>
        </p:nvCxnSpPr>
        <p:spPr>
          <a:xfrm rot="5400000">
            <a:off x="1146960" y="4911480"/>
            <a:ext cx="321480" cy="921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/>
          <p:nvPr/>
        </p:nvCxnSpPr>
        <p:spPr>
          <a:xfrm>
            <a:off x="847800" y="5837400"/>
            <a:ext cx="2160" cy="405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/>
          <p:nvPr/>
        </p:nvCxnSpPr>
        <p:spPr>
          <a:xfrm rot="5400000">
            <a:off x="1978920" y="3406680"/>
            <a:ext cx="584640" cy="1114920"/>
          </a:xfrm>
          <a:prstGeom prst="bentConnector3">
            <a:avLst>
              <a:gd name="adj1" fmla="val 4996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94" name=""/>
          <p:cNvGrpSpPr/>
          <p:nvPr/>
        </p:nvGrpSpPr>
        <p:grpSpPr>
          <a:xfrm>
            <a:off x="1404720" y="4446720"/>
            <a:ext cx="662040" cy="252000"/>
            <a:chOff x="1404720" y="4446720"/>
            <a:chExt cx="662040" cy="252000"/>
          </a:xfrm>
        </p:grpSpPr>
        <p:sp>
          <p:nvSpPr>
            <p:cNvPr id="95" name=""/>
            <p:cNvSpPr/>
            <p:nvPr/>
          </p:nvSpPr>
          <p:spPr>
            <a:xfrm>
              <a:off x="1457280" y="444672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404720" y="4513320"/>
              <a:ext cx="5479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ormulari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1409760" y="425592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Captación y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difusión de la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innovacion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1761840" y="4682880"/>
            <a:ext cx="6840" cy="224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Base" hidden="1"/>
          <p:cNvSpPr/>
          <p:nvPr/>
        </p:nvSpPr>
        <p:spPr>
          <a:xfrm>
            <a:off x="1143000" y="3048120"/>
            <a:ext cx="45720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49920" y="1325520"/>
            <a:ext cx="203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5.0 Diagrama del 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7:18:20Z</dcterms:created>
  <dc:creator>SECRETARIA DE SALUD</dc:creator>
  <dc:description/>
  <dc:language>en-US</dc:language>
  <cp:lastModifiedBy>MARISOLO</cp:lastModifiedBy>
  <dcterms:modified xsi:type="dcterms:W3CDTF">2005-08-05T18:41:25Z</dcterms:modified>
  <cp:revision>58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54015260</vt:r8>
  </property>
  <property fmtid="{D5CDD505-2E9C-101B-9397-08002B2CF9AE}" pid="3" name="_AuthorEmail">
    <vt:lpwstr>MARISOLO@DGPEC-S01.SSA.com</vt:lpwstr>
  </property>
  <property fmtid="{D5CDD505-2E9C-101B-9397-08002B2CF9AE}" pid="4" name="_AuthorEmailDisplayName">
    <vt:lpwstr>MARISOL OSORIO MARIN</vt:lpwstr>
  </property>
  <property fmtid="{D5CDD505-2E9C-101B-9397-08002B2CF9AE}" pid="5" name="_EmailSubject">
    <vt:lpwstr>ISO 9001-2000</vt:lpwstr>
  </property>
  <property fmtid="{D5CDD505-2E9C-101B-9397-08002B2CF9AE}" pid="6" name="_PreviousAdHocReviewCycleID">
    <vt:r8>574667443</vt:r8>
  </property>
</Properties>
</file>