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670040"/>
            <a:ext cx="6319440" cy="5854320"/>
            <a:chOff x="304920" y="1670040"/>
            <a:chExt cx="6319440" cy="5854320"/>
          </a:xfrm>
        </p:grpSpPr>
        <p:sp>
          <p:nvSpPr>
            <p:cNvPr id="1" name=""/>
            <p:cNvSpPr/>
            <p:nvPr/>
          </p:nvSpPr>
          <p:spPr>
            <a:xfrm>
              <a:off x="4515840" y="2221560"/>
              <a:ext cx="2108160" cy="530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413080" y="2221560"/>
              <a:ext cx="2102400" cy="530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2221560"/>
              <a:ext cx="2108160" cy="530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15840" y="1670040"/>
              <a:ext cx="210816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partamento de Pruebas Estratégic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3080" y="1670040"/>
              <a:ext cx="210240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Extensión Logíst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1670040"/>
              <a:ext cx="210816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2221560"/>
              <a:ext cx="63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920" y="7524360"/>
              <a:ext cx="631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920" y="1670040"/>
              <a:ext cx="0" cy="5854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13080" y="1670040"/>
              <a:ext cx="0" cy="585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15840" y="1670040"/>
              <a:ext cx="0" cy="585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624360" y="1670040"/>
              <a:ext cx="0" cy="5854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16700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413080" y="1670040"/>
              <a:ext cx="4210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304920" y="228600"/>
            <a:ext cx="6324480" cy="1022400"/>
            <a:chOff x="304920" y="228600"/>
            <a:chExt cx="6324480" cy="1022400"/>
          </a:xfrm>
        </p:grpSpPr>
        <p:sp>
          <p:nvSpPr>
            <p:cNvPr id="16" name=""/>
            <p:cNvSpPr/>
            <p:nvPr/>
          </p:nvSpPr>
          <p:spPr>
            <a:xfrm>
              <a:off x="5638680" y="824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Hoja:  96  de 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28840" y="824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Supervisar la actualización de la Coordinación Ejecutiva del Proyect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38680" y="563400"/>
              <a:ext cx="9907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28840" y="563400"/>
              <a:ext cx="42098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rección de Procesos Logíst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38680" y="228600"/>
              <a:ext cx="9907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28840" y="228600"/>
              <a:ext cx="42098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04920" y="228600"/>
              <a:ext cx="112392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04920" y="1251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04920" y="228600"/>
              <a:ext cx="0" cy="1022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28840" y="228600"/>
              <a:ext cx="0" cy="10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638680" y="228600"/>
              <a:ext cx="0" cy="10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629400" y="228600"/>
              <a:ext cx="0" cy="1022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56340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28840" y="824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2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33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Medina Lamadr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Eduardo T. Delint Ramír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Verónica M. Mancilla Sánch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44640" y="2903400"/>
            <a:ext cx="733320" cy="314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olicitud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7880" y="3887640"/>
            <a:ext cx="733320" cy="314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olicitud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es a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47880" y="439416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/>
          <p:nvPr/>
        </p:nvCxnSpPr>
        <p:spPr>
          <a:xfrm>
            <a:off x="1318680" y="2619360"/>
            <a:ext cx="1080" cy="27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947880" y="339732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olicitud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es a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I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10040" y="521820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y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ratamiento 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760840"/>
            <a:ext cx="88920" cy="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8120" y="329580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375444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1640" y="429732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78200" y="509904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578340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81000" y="588492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onitoreo y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11" idx="2"/>
          </p:cNvCxnSpPr>
          <p:nvPr/>
        </p:nvCxnSpPr>
        <p:spPr>
          <a:xfrm flipH="1">
            <a:off x="1345320" y="619920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9" idx="2"/>
            <a:endCxn id="103" idx="0"/>
          </p:cNvCxnSpPr>
          <p:nvPr/>
        </p:nvCxnSpPr>
        <p:spPr>
          <a:xfrm>
            <a:off x="1310760" y="3218040"/>
            <a:ext cx="396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3" idx="2"/>
            <a:endCxn id="100" idx="0"/>
          </p:cNvCxnSpPr>
          <p:nvPr/>
        </p:nvCxnSpPr>
        <p:spPr>
          <a:xfrm>
            <a:off x="1314000" y="3711240"/>
            <a:ext cx="108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0" idx="2"/>
            <a:endCxn id="101" idx="0"/>
          </p:cNvCxnSpPr>
          <p:nvPr/>
        </p:nvCxnSpPr>
        <p:spPr>
          <a:xfrm>
            <a:off x="1314000" y="4201920"/>
            <a:ext cx="1080" cy="19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1" idx="2"/>
            <a:endCxn id="104" idx="0"/>
          </p:cNvCxnSpPr>
          <p:nvPr/>
        </p:nvCxnSpPr>
        <p:spPr>
          <a:xfrm flipH="1" rot="16200000">
            <a:off x="2140560" y="3881880"/>
            <a:ext cx="510480" cy="2162880"/>
          </a:xfrm>
          <a:prstGeom prst="bentConnector3">
            <a:avLst>
              <a:gd name="adj1" fmla="val 498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4" idx="2"/>
            <a:endCxn id="111" idx="0"/>
          </p:cNvCxnSpPr>
          <p:nvPr/>
        </p:nvCxnSpPr>
        <p:spPr>
          <a:xfrm rot="5400000">
            <a:off x="2235240" y="4644000"/>
            <a:ext cx="353160" cy="2129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987480" y="2403360"/>
            <a:ext cx="684000" cy="21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31840" y="2424240"/>
            <a:ext cx="41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09800" y="6512040"/>
            <a:ext cx="684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75680" y="6518160"/>
            <a:ext cx="532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Verónica Mancilla Sánchez</cp:lastModifiedBy>
  <dcterms:modified xsi:type="dcterms:W3CDTF">2005-08-05T18:09:23Z</dcterms:modified>
  <cp:revision>71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41113833</vt:r8>
  </property>
  <property fmtid="{D5CDD505-2E9C-101B-9397-08002B2CF9AE}" pid="3" name="_AuthorEmail">
    <vt:lpwstr>VERONICAM@DGPEC-S01.SSA.com</vt:lpwstr>
  </property>
  <property fmtid="{D5CDD505-2E9C-101B-9397-08002B2CF9AE}" pid="4" name="_AuthorEmailDisplayName">
    <vt:lpwstr>VERONICA MANCILLA SANCHEZ</vt:lpwstr>
  </property>
  <property fmtid="{D5CDD505-2E9C-101B-9397-08002B2CF9AE}" pid="5" name="_EmailSubject">
    <vt:lpwstr>Procedimientos numerados </vt:lpwstr>
  </property>
</Properties>
</file>