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2840" y="1677960"/>
            <a:ext cx="6334920" cy="5925960"/>
            <a:chOff x="312840" y="1677960"/>
            <a:chExt cx="6334920" cy="5925960"/>
          </a:xfrm>
        </p:grpSpPr>
        <p:sp>
          <p:nvSpPr>
            <p:cNvPr id="1" name=""/>
            <p:cNvSpPr/>
            <p:nvPr/>
          </p:nvSpPr>
          <p:spPr>
            <a:xfrm>
              <a:off x="4534200" y="2236320"/>
              <a:ext cx="2113560" cy="53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26400" y="2236320"/>
              <a:ext cx="2107800" cy="53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12840" y="2236320"/>
              <a:ext cx="2113560" cy="53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34200" y="1677960"/>
              <a:ext cx="21135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26400" y="1677960"/>
              <a:ext cx="21078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12840" y="1677960"/>
              <a:ext cx="21135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2840" y="2236320"/>
              <a:ext cx="63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2840" y="7603920"/>
              <a:ext cx="633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2840" y="1677960"/>
              <a:ext cx="0" cy="5925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26400" y="1677960"/>
              <a:ext cx="0" cy="592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34200" y="1677960"/>
              <a:ext cx="0" cy="592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47760" y="1677960"/>
              <a:ext cx="0" cy="5925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12840" y="1677960"/>
              <a:ext cx="211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26400" y="1677960"/>
              <a:ext cx="422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1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 80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Iniciar el Mecanismo de Traspaso de Medicament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049400" y="6573960"/>
            <a:ext cx="763560" cy="361800"/>
            <a:chOff x="1049400" y="6573960"/>
            <a:chExt cx="763560" cy="361800"/>
          </a:xfrm>
        </p:grpSpPr>
        <p:sp>
          <p:nvSpPr>
            <p:cNvPr id="98" name=""/>
            <p:cNvSpPr/>
            <p:nvPr/>
          </p:nvSpPr>
          <p:spPr>
            <a:xfrm>
              <a:off x="1089360" y="657396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9400" y="675036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961920" y="3090960"/>
            <a:ext cx="763560" cy="361800"/>
            <a:chOff x="961920" y="3090960"/>
            <a:chExt cx="763560" cy="361800"/>
          </a:xfrm>
        </p:grpSpPr>
        <p:sp>
          <p:nvSpPr>
            <p:cNvPr id="101" name=""/>
            <p:cNvSpPr/>
            <p:nvPr/>
          </p:nvSpPr>
          <p:spPr>
            <a:xfrm>
              <a:off x="1001880" y="309096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1920" y="326736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8800" y="297504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fusión de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ecanism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raspa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1480" y="423864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ratamient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2920" y="52783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nitore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nces en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ven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55800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tercambi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um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1312560" y="2604600"/>
            <a:ext cx="1080" cy="367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110040" y="37162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ticipa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ignación de clav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acce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2920" y="47563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nitoreo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11240" y="645012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valuación de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ecanism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3720" y="28735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47960" y="35910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54440" y="4106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4622760"/>
            <a:ext cx="885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3800" y="51562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20800" y="54579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9600" y="60055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3280" y="63324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0" idx="2"/>
            <a:endCxn id="106" idx="0"/>
          </p:cNvCxnSpPr>
          <p:nvPr/>
        </p:nvCxnSpPr>
        <p:spPr>
          <a:xfrm>
            <a:off x="3476160" y="4030560"/>
            <a:ext cx="25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6" idx="2"/>
            <a:endCxn id="111" idx="0"/>
          </p:cNvCxnSpPr>
          <p:nvPr/>
        </p:nvCxnSpPr>
        <p:spPr>
          <a:xfrm>
            <a:off x="3478320" y="4552560"/>
            <a:ext cx="216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2"/>
            <a:endCxn id="107" idx="0"/>
          </p:cNvCxnSpPr>
          <p:nvPr/>
        </p:nvCxnSpPr>
        <p:spPr>
          <a:xfrm>
            <a:off x="3479400" y="5070240"/>
            <a:ext cx="108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V="1" rot="16200000">
            <a:off x="2440080" y="4569120"/>
            <a:ext cx="13680" cy="2081880"/>
          </a:xfrm>
          <a:prstGeom prst="bentConnector5">
            <a:avLst>
              <a:gd name="adj1" fmla="val -1935135"/>
              <a:gd name="adj2" fmla="val 55205"/>
              <a:gd name="adj3" fmla="val 1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8" idx="2"/>
            <a:endCxn id="126" idx="0"/>
          </p:cNvCxnSpPr>
          <p:nvPr/>
        </p:nvCxnSpPr>
        <p:spPr>
          <a:xfrm flipH="1" rot="16200000">
            <a:off x="2342160" y="4949280"/>
            <a:ext cx="237240" cy="2126520"/>
          </a:xfrm>
          <a:prstGeom prst="bentConnector3">
            <a:avLst>
              <a:gd name="adj1" fmla="val 495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02" idx="2"/>
            <a:endCxn id="110" idx="0"/>
          </p:cNvCxnSpPr>
          <p:nvPr/>
        </p:nvCxnSpPr>
        <p:spPr>
          <a:xfrm flipH="1" rot="16200000">
            <a:off x="2238480" y="2478240"/>
            <a:ext cx="265680" cy="2211480"/>
          </a:xfrm>
          <a:prstGeom prst="bentConnector3">
            <a:avLst>
              <a:gd name="adj1" fmla="val 496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99" idx="2"/>
          </p:cNvCxnSpPr>
          <p:nvPr/>
        </p:nvCxnSpPr>
        <p:spPr>
          <a:xfrm>
            <a:off x="1352520" y="6933960"/>
            <a:ext cx="21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996840" y="2403360"/>
            <a:ext cx="684360" cy="21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2408400"/>
            <a:ext cx="41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9800" y="726768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5680" y="727380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 flipV="1" rot="16200000">
            <a:off x="2481480" y="5411880"/>
            <a:ext cx="13320" cy="2081880"/>
          </a:xfrm>
          <a:prstGeom prst="bentConnector5">
            <a:avLst>
              <a:gd name="adj1" fmla="val -1936111"/>
              <a:gd name="adj2" fmla="val 55205"/>
              <a:gd name="adj3" fmla="val 2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4" name=""/>
          <p:cNvGrpSpPr/>
          <p:nvPr/>
        </p:nvGrpSpPr>
        <p:grpSpPr>
          <a:xfrm>
            <a:off x="3197160" y="6226200"/>
            <a:ext cx="763560" cy="361800"/>
            <a:chOff x="3197160" y="6226200"/>
            <a:chExt cx="763560" cy="361800"/>
          </a:xfrm>
        </p:grpSpPr>
        <p:sp>
          <p:nvSpPr>
            <p:cNvPr id="135" name=""/>
            <p:cNvSpPr/>
            <p:nvPr/>
          </p:nvSpPr>
          <p:spPr>
            <a:xfrm>
              <a:off x="3237120" y="62262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97160" y="64026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Statu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57560" y="613080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ibe notificación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aplicación de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ecanism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17:26:04Z</dcterms:modified>
  <cp:revision>6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41322353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