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677960"/>
            <a:ext cx="6297120" cy="5846400"/>
            <a:chOff x="304920" y="1677960"/>
            <a:chExt cx="6297120" cy="5846400"/>
          </a:xfrm>
        </p:grpSpPr>
        <p:sp>
          <p:nvSpPr>
            <p:cNvPr id="1" name=""/>
            <p:cNvSpPr/>
            <p:nvPr/>
          </p:nvSpPr>
          <p:spPr>
            <a:xfrm>
              <a:off x="5341320" y="2228760"/>
              <a:ext cx="126072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083840" y="2228760"/>
              <a:ext cx="125712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823120" y="2228760"/>
              <a:ext cx="126072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65640" y="2228760"/>
              <a:ext cx="125712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4920" y="2228760"/>
              <a:ext cx="126072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341320" y="1677960"/>
              <a:ext cx="126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partamento de Pruebas Estratégic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083840" y="1677960"/>
              <a:ext cx="1257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Extensión Logíst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23120" y="1677960"/>
              <a:ext cx="126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565640" y="1677960"/>
              <a:ext cx="1257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1677960"/>
              <a:ext cx="126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4920" y="2228760"/>
              <a:ext cx="629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7524360"/>
              <a:ext cx="62971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1677960"/>
              <a:ext cx="0" cy="5846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565640" y="1677960"/>
              <a:ext cx="0" cy="58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823120" y="1677960"/>
              <a:ext cx="0" cy="58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083840" y="1677960"/>
              <a:ext cx="0" cy="58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341320" y="1677960"/>
              <a:ext cx="0" cy="58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602040" y="1677960"/>
              <a:ext cx="0" cy="5846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65640" y="1677960"/>
              <a:ext cx="251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04920" y="1677960"/>
              <a:ext cx="1260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083840" y="1677960"/>
              <a:ext cx="2518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" name=""/>
          <p:cNvGrpSpPr/>
          <p:nvPr/>
        </p:nvGrpSpPr>
        <p:grpSpPr>
          <a:xfrm>
            <a:off x="304920" y="228600"/>
            <a:ext cx="6324480" cy="1022400"/>
            <a:chOff x="304920" y="228600"/>
            <a:chExt cx="6324480" cy="1022400"/>
          </a:xfrm>
        </p:grpSpPr>
        <p:sp>
          <p:nvSpPr>
            <p:cNvPr id="23" name=""/>
            <p:cNvSpPr/>
            <p:nvPr/>
          </p:nvSpPr>
          <p:spPr>
            <a:xfrm>
              <a:off x="5638680" y="824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Hoja:118  de 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428840" y="824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Captación de mejores prácticas en los procesos de adquisición de insumos méd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638680" y="563400"/>
              <a:ext cx="9907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28840" y="563400"/>
              <a:ext cx="42098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638680" y="228600"/>
              <a:ext cx="9907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28840" y="228600"/>
              <a:ext cx="42098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228600"/>
              <a:ext cx="112392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04920" y="1251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0" cy="1022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28840" y="228600"/>
              <a:ext cx="0" cy="10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638680" y="228600"/>
              <a:ext cx="0" cy="10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29400" y="228600"/>
              <a:ext cx="0" cy="1022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56340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428840" y="824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9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0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Medina Lamadr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Eduardo T. Delint Ramír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Verónica M. Mancilla Sánch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1828800" y="6215040"/>
            <a:ext cx="763560" cy="361800"/>
            <a:chOff x="1828800" y="6215040"/>
            <a:chExt cx="763560" cy="361800"/>
          </a:xfrm>
        </p:grpSpPr>
        <p:sp>
          <p:nvSpPr>
            <p:cNvPr id="105" name=""/>
            <p:cNvSpPr/>
            <p:nvPr/>
          </p:nvSpPr>
          <p:spPr>
            <a:xfrm>
              <a:off x="1868760" y="621504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800" y="639144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692680" y="4695840"/>
            <a:ext cx="763560" cy="361800"/>
            <a:chOff x="5692680" y="4695840"/>
            <a:chExt cx="763560" cy="361800"/>
          </a:xfrm>
        </p:grpSpPr>
        <p:sp>
          <p:nvSpPr>
            <p:cNvPr id="108" name=""/>
            <p:cNvSpPr/>
            <p:nvPr/>
          </p:nvSpPr>
          <p:spPr>
            <a:xfrm>
              <a:off x="5732640" y="469584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92680" y="487224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2859120"/>
            <a:ext cx="73332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Microsoft Sans Serif"/>
              </a:rPr>
              <a:t>Recib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Microsoft Sans Serif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83040" y="335772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fin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un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78640" y="457992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fusión y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vocatoria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un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86280" y="497520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eguimiento al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a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endCxn id="112" idx="0"/>
          </p:cNvCxnSpPr>
          <p:nvPr/>
        </p:nvCxnSpPr>
        <p:spPr>
          <a:xfrm>
            <a:off x="834840" y="2587680"/>
            <a:ext cx="1080" cy="27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092400" y="546408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visión de planes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 trabaj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27288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67080" y="3017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99000" y="32320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67360" y="374652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9120" y="447192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5360" y="48369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18080" y="534024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2" idx="2"/>
            <a:endCxn id="126" idx="0"/>
          </p:cNvCxnSpPr>
          <p:nvPr/>
        </p:nvCxnSpPr>
        <p:spPr>
          <a:xfrm flipH="1" flipV="1" rot="5400000">
            <a:off x="1504440" y="2486520"/>
            <a:ext cx="7200" cy="1348200"/>
          </a:xfrm>
          <a:prstGeom prst="bentConnector5">
            <a:avLst>
              <a:gd name="adj1" fmla="val -3600000"/>
              <a:gd name="adj2" fmla="val 50053"/>
              <a:gd name="adj3" fmla="val 3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/>
          <p:nvPr/>
        </p:nvCxnSpPr>
        <p:spPr>
          <a:xfrm flipH="1" flipV="1" rot="5400000">
            <a:off x="2821680" y="2796480"/>
            <a:ext cx="114840" cy="1267560"/>
          </a:xfrm>
          <a:prstGeom prst="bentConnector5">
            <a:avLst>
              <a:gd name="adj1" fmla="val -200000"/>
              <a:gd name="adj2" fmla="val 50000"/>
              <a:gd name="adj3" fmla="val 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714840" y="58500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3" idx="2"/>
            <a:endCxn id="130" idx="0"/>
          </p:cNvCxnSpPr>
          <p:nvPr/>
        </p:nvCxnSpPr>
        <p:spPr>
          <a:xfrm flipH="1" rot="16200000">
            <a:off x="4010040" y="3111120"/>
            <a:ext cx="210240" cy="1331280"/>
          </a:xfrm>
          <a:prstGeom prst="bentConnector3">
            <a:avLst>
              <a:gd name="adj1" fmla="val 499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30" idx="2"/>
            <a:endCxn id="114" idx="0"/>
          </p:cNvCxnSpPr>
          <p:nvPr/>
        </p:nvCxnSpPr>
        <p:spPr>
          <a:xfrm flipH="1" rot="16200000">
            <a:off x="5220360" y="3754800"/>
            <a:ext cx="384840" cy="1265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15" idx="2"/>
            <a:endCxn id="117" idx="0"/>
          </p:cNvCxnSpPr>
          <p:nvPr/>
        </p:nvCxnSpPr>
        <p:spPr>
          <a:xfrm>
            <a:off x="3452760" y="5289120"/>
            <a:ext cx="720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458640" y="648504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e de estad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84320" y="637704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3" idx="2"/>
          </p:cNvCxnSpPr>
          <p:nvPr/>
        </p:nvCxnSpPr>
        <p:spPr>
          <a:xfrm>
            <a:off x="825120" y="6799320"/>
            <a:ext cx="540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17" idx="2"/>
            <a:endCxn id="137" idx="0"/>
          </p:cNvCxnSpPr>
          <p:nvPr/>
        </p:nvCxnSpPr>
        <p:spPr>
          <a:xfrm flipH="1">
            <a:off x="3455280" y="5778000"/>
            <a:ext cx="39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809720" y="610236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e de estat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5400" y="5978520"/>
            <a:ext cx="885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7" idx="2"/>
            <a:endCxn id="138" idx="0"/>
          </p:cNvCxnSpPr>
          <p:nvPr/>
        </p:nvCxnSpPr>
        <p:spPr>
          <a:xfrm flipV="1" rot="16200000">
            <a:off x="2723040" y="5554800"/>
            <a:ext cx="186480" cy="1280160"/>
          </a:xfrm>
          <a:prstGeom prst="bentConnector5">
            <a:avLst>
              <a:gd name="adj1" fmla="val -123017"/>
              <a:gd name="adj2" fmla="val 54824"/>
              <a:gd name="adj3" fmla="val 2230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09" idx="2"/>
            <a:endCxn id="115" idx="0"/>
          </p:cNvCxnSpPr>
          <p:nvPr/>
        </p:nvCxnSpPr>
        <p:spPr>
          <a:xfrm flipV="1" rot="16200000">
            <a:off x="4683600" y="3743280"/>
            <a:ext cx="81360" cy="2543760"/>
          </a:xfrm>
          <a:prstGeom prst="bentConnector5">
            <a:avLst>
              <a:gd name="adj1" fmla="val -283555"/>
              <a:gd name="adj2" fmla="val 48747"/>
              <a:gd name="adj3" fmla="val 384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03280" y="2371680"/>
            <a:ext cx="684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640" y="2392200"/>
            <a:ext cx="416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6800" y="6981840"/>
            <a:ext cx="68436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040" y="6988320"/>
            <a:ext cx="532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846440" y="3251160"/>
            <a:ext cx="763560" cy="361800"/>
            <a:chOff x="1846440" y="3251160"/>
            <a:chExt cx="763560" cy="361800"/>
          </a:xfrm>
        </p:grpSpPr>
        <p:sp>
          <p:nvSpPr>
            <p:cNvPr id="147" name=""/>
            <p:cNvSpPr/>
            <p:nvPr/>
          </p:nvSpPr>
          <p:spPr>
            <a:xfrm>
              <a:off x="1886400" y="325116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46440" y="342756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816200" y="315756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struye para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iciar actividad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446720" y="3967200"/>
            <a:ext cx="763560" cy="361800"/>
            <a:chOff x="4446720" y="3967200"/>
            <a:chExt cx="763560" cy="361800"/>
          </a:xfrm>
        </p:grpSpPr>
        <p:sp>
          <p:nvSpPr>
            <p:cNvPr id="150" name=""/>
            <p:cNvSpPr/>
            <p:nvPr/>
          </p:nvSpPr>
          <p:spPr>
            <a:xfrm>
              <a:off x="4486680" y="396720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46720" y="414360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Pla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413240" y="388152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labora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tenidos de la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un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119400" y="6059520"/>
            <a:ext cx="763560" cy="361800"/>
            <a:chOff x="3119400" y="6059520"/>
            <a:chExt cx="763560" cy="361800"/>
          </a:xfrm>
        </p:grpSpPr>
        <p:sp>
          <p:nvSpPr>
            <p:cNvPr id="153" name=""/>
            <p:cNvSpPr/>
            <p:nvPr/>
          </p:nvSpPr>
          <p:spPr>
            <a:xfrm>
              <a:off x="3159360" y="605952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19400" y="623592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089160" y="597384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onitoreo a nivel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statal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van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06" idx="2"/>
            <a:endCxn id="133" idx="0"/>
          </p:cNvCxnSpPr>
          <p:nvPr/>
        </p:nvCxnSpPr>
        <p:spPr>
          <a:xfrm flipV="1" rot="16200000">
            <a:off x="1432800" y="5876280"/>
            <a:ext cx="91080" cy="1307160"/>
          </a:xfrm>
          <a:prstGeom prst="bentConnector5">
            <a:avLst>
              <a:gd name="adj1" fmla="val -252380"/>
              <a:gd name="adj2" fmla="val 47493"/>
              <a:gd name="adj3" fmla="val 3523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Verónica Mancilla Sánchez</cp:lastModifiedBy>
  <dcterms:modified xsi:type="dcterms:W3CDTF">2005-08-05T21:51:35Z</dcterms:modified>
  <cp:revision>8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00865283</vt:r8>
  </property>
  <property fmtid="{D5CDD505-2E9C-101B-9397-08002B2CF9AE}" pid="3" name="_AuthorEmail">
    <vt:lpwstr>VERONICAM@DGPEC-S01.SSA.com</vt:lpwstr>
  </property>
  <property fmtid="{D5CDD505-2E9C-101B-9397-08002B2CF9AE}" pid="4" name="_AuthorEmailDisplayName">
    <vt:lpwstr>VERONICA MANCILLA SANCHEZ</vt:lpwstr>
  </property>
  <property fmtid="{D5CDD505-2E9C-101B-9397-08002B2CF9AE}" pid="5" name="_EmailSubject">
    <vt:lpwstr>Procedimientos numerados </vt:lpwstr>
  </property>
</Properties>
</file>