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ción General de Recursos Materiales y Servicios Gener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1022400"/>
            <a:chOff x="304920" y="228600"/>
            <a:chExt cx="6324480" cy="1022400"/>
          </a:xfrm>
        </p:grpSpPr>
        <p:sp>
          <p:nvSpPr>
            <p:cNvPr id="26" name=""/>
            <p:cNvSpPr/>
            <p:nvPr/>
          </p:nvSpPr>
          <p:spPr>
            <a:xfrm>
              <a:off x="5638680" y="824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 75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824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iniciar Compra Coordinada con Instituciones del Sector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251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1022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665520" y="6656400"/>
            <a:ext cx="763560" cy="361800"/>
            <a:chOff x="3665520" y="6656400"/>
            <a:chExt cx="763560" cy="361800"/>
          </a:xfrm>
        </p:grpSpPr>
        <p:sp>
          <p:nvSpPr>
            <p:cNvPr id="108" name=""/>
            <p:cNvSpPr/>
            <p:nvPr/>
          </p:nvSpPr>
          <p:spPr>
            <a:xfrm>
              <a:off x="3705480" y="665640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65520" y="683280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699080" y="5994360"/>
            <a:ext cx="763560" cy="361800"/>
            <a:chOff x="4699080" y="5994360"/>
            <a:chExt cx="763560" cy="361800"/>
          </a:xfrm>
        </p:grpSpPr>
        <p:sp>
          <p:nvSpPr>
            <p:cNvPr id="111" name=""/>
            <p:cNvSpPr/>
            <p:nvPr/>
          </p:nvSpPr>
          <p:spPr>
            <a:xfrm>
              <a:off x="4739040" y="5994360"/>
              <a:ext cx="723600" cy="358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99080" y="617076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9760" y="3164040"/>
            <a:ext cx="763200" cy="361440"/>
            <a:chOff x="509760" y="3164040"/>
            <a:chExt cx="763200" cy="361440"/>
          </a:xfrm>
        </p:grpSpPr>
        <p:sp>
          <p:nvSpPr>
            <p:cNvPr id="114" name=""/>
            <p:cNvSpPr/>
            <p:nvPr/>
          </p:nvSpPr>
          <p:spPr>
            <a:xfrm>
              <a:off x="549360" y="3164040"/>
              <a:ext cx="723600" cy="358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9760" y="3340080"/>
              <a:ext cx="60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icrosoft Sans Serif"/>
                </a:rPr>
                <a:t>Calendar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4200" y="3035160"/>
            <a:ext cx="73332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Microsoft Sans Serif"/>
              </a:rPr>
              <a:t>Inici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Microsoft Sans Serif"/>
              </a:rPr>
              <a:t>procesos licitator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440" y="31971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comp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0960" y="33577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a información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indicado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78200" y="407196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aller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ra coordin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0000" y="50482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9960" y="52452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decuaciones 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tivi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1760" y="57657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nitorear avance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lo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endCxn id="118" idx="0"/>
          </p:cNvCxnSpPr>
          <p:nvPr/>
        </p:nvCxnSpPr>
        <p:spPr>
          <a:xfrm>
            <a:off x="850680" y="2668680"/>
            <a:ext cx="1080" cy="367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9" idx="2"/>
            <a:endCxn id="120" idx="0"/>
          </p:cNvCxnSpPr>
          <p:nvPr/>
        </p:nvCxnSpPr>
        <p:spPr>
          <a:xfrm flipH="1" flipV="1" rot="5400000">
            <a:off x="2325240" y="2919960"/>
            <a:ext cx="154440" cy="1028880"/>
          </a:xfrm>
          <a:prstGeom prst="bentConnector5">
            <a:avLst>
              <a:gd name="adj1" fmla="val -103037"/>
              <a:gd name="adj2" fmla="val 57087"/>
              <a:gd name="adj3" fmla="val 248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635280" y="35496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vitación 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ticip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0000" y="45496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rm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ticip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240" y="58863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1840" y="29052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73320" y="30574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82760" y="32320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73560" y="34146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2960" y="3938760"/>
            <a:ext cx="88920" cy="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22960" y="44244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8800" y="49086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57720" y="51228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75000" y="56275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08560" y="57625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20" idx="2"/>
            <a:endCxn id="127" idx="0"/>
          </p:cNvCxnSpPr>
          <p:nvPr/>
        </p:nvCxnSpPr>
        <p:spPr>
          <a:xfrm flipH="1" flipV="1" rot="5400000">
            <a:off x="3398400" y="3068280"/>
            <a:ext cx="123120" cy="1085040"/>
          </a:xfrm>
          <a:prstGeom prst="bentConnector5">
            <a:avLst>
              <a:gd name="adj1" fmla="val -68621"/>
              <a:gd name="adj2" fmla="val 56057"/>
              <a:gd name="adj3" fmla="val 2868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7" idx="2"/>
            <a:endCxn id="121" idx="0"/>
          </p:cNvCxnSpPr>
          <p:nvPr/>
        </p:nvCxnSpPr>
        <p:spPr>
          <a:xfrm flipH="1" rot="16200000">
            <a:off x="4418640" y="3446280"/>
            <a:ext cx="208800" cy="1043640"/>
          </a:xfrm>
          <a:prstGeom prst="bentConnector3">
            <a:avLst>
              <a:gd name="adj1" fmla="val 495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1" idx="2"/>
            <a:endCxn id="128" idx="0"/>
          </p:cNvCxnSpPr>
          <p:nvPr/>
        </p:nvCxnSpPr>
        <p:spPr>
          <a:xfrm>
            <a:off x="5044680" y="4386240"/>
            <a:ext cx="2520" cy="1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8" idx="2"/>
            <a:endCxn id="122" idx="0"/>
          </p:cNvCxnSpPr>
          <p:nvPr/>
        </p:nvCxnSpPr>
        <p:spPr>
          <a:xfrm>
            <a:off x="5046480" y="4863960"/>
            <a:ext cx="108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2" idx="2"/>
            <a:endCxn id="123" idx="0"/>
          </p:cNvCxnSpPr>
          <p:nvPr/>
        </p:nvCxnSpPr>
        <p:spPr>
          <a:xfrm flipV="1" rot="16200000">
            <a:off x="4467600" y="4783320"/>
            <a:ext cx="118080" cy="1040760"/>
          </a:xfrm>
          <a:prstGeom prst="bentConnector5">
            <a:avLst>
              <a:gd name="adj1" fmla="val -72782"/>
              <a:gd name="adj2" fmla="val 43806"/>
              <a:gd name="adj3" fmla="val 2944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23" idx="2"/>
            <a:endCxn id="124" idx="0"/>
          </p:cNvCxnSpPr>
          <p:nvPr/>
        </p:nvCxnSpPr>
        <p:spPr>
          <a:xfrm>
            <a:off x="4006440" y="5559120"/>
            <a:ext cx="252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4" idx="2"/>
            <a:endCxn id="129" idx="0"/>
          </p:cNvCxnSpPr>
          <p:nvPr/>
        </p:nvCxnSpPr>
        <p:spPr>
          <a:xfrm flipH="1" flipV="1" rot="5400000">
            <a:off x="4431960" y="5462280"/>
            <a:ext cx="194400" cy="1041840"/>
          </a:xfrm>
          <a:prstGeom prst="bentConnector5">
            <a:avLst>
              <a:gd name="adj1" fmla="val -55658"/>
              <a:gd name="adj2" fmla="val 45419"/>
              <a:gd name="adj3" fmla="val 2179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643200" y="65563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mis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8880" y="64562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15" idx="2"/>
            <a:endCxn id="119" idx="0"/>
          </p:cNvCxnSpPr>
          <p:nvPr/>
        </p:nvCxnSpPr>
        <p:spPr>
          <a:xfrm flipH="1" flipV="1" rot="5400000">
            <a:off x="1187280" y="2822040"/>
            <a:ext cx="327960" cy="1077120"/>
          </a:xfrm>
          <a:prstGeom prst="bentConnector5">
            <a:avLst>
              <a:gd name="adj1" fmla="val -20769"/>
              <a:gd name="adj2" fmla="val 56770"/>
              <a:gd name="adj3" fmla="val 169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12" idx="2"/>
            <a:endCxn id="147" idx="0"/>
          </p:cNvCxnSpPr>
          <p:nvPr/>
        </p:nvCxnSpPr>
        <p:spPr>
          <a:xfrm rot="5400000">
            <a:off x="4404600" y="5959440"/>
            <a:ext cx="202320" cy="992880"/>
          </a:xfrm>
          <a:prstGeom prst="bentConnector3">
            <a:avLst>
              <a:gd name="adj1" fmla="val 34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09" idx="2"/>
          </p:cNvCxnSpPr>
          <p:nvPr/>
        </p:nvCxnSpPr>
        <p:spPr>
          <a:xfrm>
            <a:off x="3968640" y="7016400"/>
            <a:ext cx="864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17680" y="2451240"/>
            <a:ext cx="684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440" y="2471760"/>
            <a:ext cx="41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32040" y="7211880"/>
            <a:ext cx="684360" cy="21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98280" y="721836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17:55:29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5164276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