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44640"/>
            <a:chOff x="304920" y="228600"/>
            <a:chExt cx="6324480" cy="944640"/>
          </a:xfrm>
        </p:grpSpPr>
        <p:sp>
          <p:nvSpPr>
            <p:cNvPr id="26" name=""/>
            <p:cNvSpPr/>
            <p:nvPr/>
          </p:nvSpPr>
          <p:spPr>
            <a:xfrm>
              <a:off x="5549760" y="71604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 15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12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promover y participar en las reuniones sectoriales con fines de coordinación para la implantación de innovaciones logística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49760" y="455760"/>
              <a:ext cx="1079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1209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49760" y="228600"/>
              <a:ext cx="1079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12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732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4976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4335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52563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imi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acuer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8040" y="511812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98800" y="34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680" y="653400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4600" y="2954160"/>
            <a:ext cx="662400" cy="252360"/>
            <a:chOff x="534600" y="2954160"/>
            <a:chExt cx="662400" cy="252360"/>
          </a:xfrm>
        </p:grpSpPr>
        <p:sp>
          <p:nvSpPr>
            <p:cNvPr id="81" name=""/>
            <p:cNvSpPr/>
            <p:nvPr/>
          </p:nvSpPr>
          <p:spPr>
            <a:xfrm>
              <a:off x="587520" y="2954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4600" y="3021120"/>
              <a:ext cx="619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rreo elect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33520" y="275112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real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reunione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446580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ma not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uerdos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su ca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2880" y="5925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cuer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8920" y="5789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rot="5400000">
            <a:off x="1185120" y="5222520"/>
            <a:ext cx="365760" cy="10422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" name=""/>
          <p:cNvGrpSpPr/>
          <p:nvPr/>
        </p:nvGrpSpPr>
        <p:grpSpPr>
          <a:xfrm>
            <a:off x="2561040" y="3824280"/>
            <a:ext cx="661320" cy="252360"/>
            <a:chOff x="2561040" y="3824280"/>
            <a:chExt cx="661320" cy="252360"/>
          </a:xfrm>
        </p:grpSpPr>
        <p:sp>
          <p:nvSpPr>
            <p:cNvPr id="89" name=""/>
            <p:cNvSpPr/>
            <p:nvPr/>
          </p:nvSpPr>
          <p:spPr>
            <a:xfrm>
              <a:off x="2612880" y="382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61040" y="389124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558880" y="3621240"/>
            <a:ext cx="60984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ticipación e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un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ctor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H="1" rot="16200000">
            <a:off x="1645200" y="2403360"/>
            <a:ext cx="416880" cy="20199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847800" y="6230880"/>
            <a:ext cx="216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885680" y="4779720"/>
            <a:ext cx="396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rot="5400000">
            <a:off x="2198880" y="3747240"/>
            <a:ext cx="405720" cy="1032480"/>
          </a:xfrm>
          <a:prstGeom prst="bentConnector3">
            <a:avLst>
              <a:gd name="adj1" fmla="val 51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40:10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1419807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-885994840</vt:r8>
  </property>
</Properties>
</file>