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530680" y="716040"/>
              <a:ext cx="10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26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101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planear la interacción de las diferentes áreas que participan en la mejora de la cadena de suministro</a:t>
              </a:r>
              <a:r>
                <a:rPr b="1" lang="es-MX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30680" y="455760"/>
              <a:ext cx="1098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101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30680" y="228600"/>
              <a:ext cx="1098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101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30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411200" y="3259080"/>
            <a:ext cx="662040" cy="252360"/>
            <a:chOff x="1411200" y="3259080"/>
            <a:chExt cx="662040" cy="252360"/>
          </a:xfrm>
        </p:grpSpPr>
        <p:sp>
          <p:nvSpPr>
            <p:cNvPr id="72" name=""/>
            <p:cNvSpPr/>
            <p:nvPr/>
          </p:nvSpPr>
          <p:spPr>
            <a:xfrm>
              <a:off x="1463760" y="3259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11200" y="33260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2040" y="3360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65520" y="4100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63760" y="49068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avance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lan de traba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28880" y="4762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01880" y="53895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2880" y="2762280"/>
            <a:ext cx="609480" cy="297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plane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terac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9760" y="305604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interac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áreas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/>
          <p:nvPr/>
        </p:nvCxnSpPr>
        <p:spPr>
          <a:xfrm flipH="1" flipV="1" rot="5400000">
            <a:off x="1279440" y="2623680"/>
            <a:ext cx="3960" cy="867600"/>
          </a:xfrm>
          <a:prstGeom prst="bentConnector5">
            <a:avLst>
              <a:gd name="adj1" fmla="val -7200000"/>
              <a:gd name="adj2" fmla="val 49979"/>
              <a:gd name="adj3" fmla="val 7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1855800" y="2922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7680" y="62420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2880" y="55324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bre avan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/>
          <p:nvPr/>
        </p:nvCxnSpPr>
        <p:spPr>
          <a:xfrm rot="5400000">
            <a:off x="1146960" y="4911480"/>
            <a:ext cx="321480" cy="92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/>
          <p:nvPr/>
        </p:nvCxnSpPr>
        <p:spPr>
          <a:xfrm>
            <a:off x="847800" y="5837400"/>
            <a:ext cx="2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1" name=""/>
          <p:cNvGrpSpPr/>
          <p:nvPr/>
        </p:nvGrpSpPr>
        <p:grpSpPr>
          <a:xfrm>
            <a:off x="2522880" y="3691080"/>
            <a:ext cx="695880" cy="252000"/>
            <a:chOff x="2522880" y="3691080"/>
            <a:chExt cx="695880" cy="252000"/>
          </a:xfrm>
        </p:grpSpPr>
        <p:sp>
          <p:nvSpPr>
            <p:cNvPr id="92" name=""/>
            <p:cNvSpPr/>
            <p:nvPr/>
          </p:nvSpPr>
          <p:spPr>
            <a:xfrm>
              <a:off x="2575080" y="36910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22880" y="3757680"/>
              <a:ext cx="695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 de trabaj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27200" y="35002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lane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3760" y="42433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guimient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lane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/>
          <p:nvPr/>
        </p:nvCxnSpPr>
        <p:spPr>
          <a:xfrm flipH="1" rot="16200000">
            <a:off x="2296800" y="2965680"/>
            <a:ext cx="5400" cy="1064520"/>
          </a:xfrm>
          <a:prstGeom prst="bentConnector5">
            <a:avLst>
              <a:gd name="adj1" fmla="val 5100000"/>
              <a:gd name="adj2" fmla="val 50000"/>
              <a:gd name="adj3" fmla="val -4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rot="5400000">
            <a:off x="2165400" y="3529440"/>
            <a:ext cx="316440" cy="1112040"/>
          </a:xfrm>
          <a:prstGeom prst="bentConnector3">
            <a:avLst>
              <a:gd name="adj1" fmla="val 521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1767960" y="454824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42:22Z</dcterms:modified>
  <cp:revision>58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57860458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22063798</vt:r8>
  </property>
</Properties>
</file>