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6325920" cy="5815080"/>
            <a:chOff x="304920" y="1709640"/>
            <a:chExt cx="6325920" cy="5815080"/>
          </a:xfrm>
        </p:grpSpPr>
        <p:sp>
          <p:nvSpPr>
            <p:cNvPr id="1" name=""/>
            <p:cNvSpPr/>
            <p:nvPr/>
          </p:nvSpPr>
          <p:spPr>
            <a:xfrm>
              <a:off x="5041800" y="2257560"/>
              <a:ext cx="15890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443400" y="2257560"/>
              <a:ext cx="159840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868400" y="2257560"/>
              <a:ext cx="157500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57560"/>
              <a:ext cx="156348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41800" y="1709640"/>
              <a:ext cx="15890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partamento de Pruebas Estratégic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443400" y="1709640"/>
              <a:ext cx="1598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Extensión Logíst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868400" y="1709640"/>
              <a:ext cx="1575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Monitoreo (DGCES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920" y="1709640"/>
              <a:ext cx="1563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920" y="2257560"/>
              <a:ext cx="63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7524720"/>
              <a:ext cx="6325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0492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86840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44340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04180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63084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920" y="1709640"/>
              <a:ext cx="156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868400" y="1709640"/>
              <a:ext cx="4762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304920" y="228600"/>
            <a:ext cx="6324480" cy="1052640"/>
            <a:chOff x="304920" y="228600"/>
            <a:chExt cx="6324480" cy="1052640"/>
          </a:xfrm>
        </p:grpSpPr>
        <p:sp>
          <p:nvSpPr>
            <p:cNvPr id="19" name=""/>
            <p:cNvSpPr/>
            <p:nvPr/>
          </p:nvSpPr>
          <p:spPr>
            <a:xfrm>
              <a:off x="5638680" y="824040"/>
              <a:ext cx="990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Hoja:  66  de 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28840" y="824040"/>
              <a:ext cx="4209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Iniciar la elaboración del indicador de Surtimiento de Recetas (SR) en las unidades de las entidades federativas y de los indicadores de la cadena de abasto (CAM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38680" y="563400"/>
              <a:ext cx="9907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428840" y="563400"/>
              <a:ext cx="42098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irección de Procesos Logíst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638680" y="228600"/>
              <a:ext cx="9907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428840" y="228600"/>
              <a:ext cx="42098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04920" y="228600"/>
              <a:ext cx="112392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04920" y="12812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04920" y="228600"/>
              <a:ext cx="0" cy="1052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228600"/>
              <a:ext cx="0" cy="10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638680" y="228600"/>
              <a:ext cx="0" cy="10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629400" y="228600"/>
              <a:ext cx="0" cy="1052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428840" y="56340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428840" y="824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5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36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Medina Lamadr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Eduardo T. Delint Ramír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Verónica M. Mancilla Sánch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843120" y="6599160"/>
            <a:ext cx="660240" cy="2872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2160" y="288756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finir unidades a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ncuest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60440" y="345132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onitoreo de la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ncues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640" y="421956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/>
          <p:nvPr/>
        </p:nvCxnSpPr>
        <p:spPr>
          <a:xfrm>
            <a:off x="1064880" y="2579760"/>
            <a:ext cx="1080" cy="27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428840" y="27687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62440" y="2787480"/>
            <a:ext cx="8856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5200" y="29764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87440" y="408780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81644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02440" y="48117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94520" y="531180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41840" y="495000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Recepción y</a:t>
            </a:r>
            <a:br>
              <a:rPr sz="600"/>
            </a:b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verificación de</a:t>
            </a:r>
            <a:br>
              <a:rPr sz="600"/>
            </a:b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21240" y="601812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55960" y="614988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ráficas para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isto bu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87440" y="62974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/>
          <p:nvPr/>
        </p:nvCxnSpPr>
        <p:spPr>
          <a:xfrm>
            <a:off x="2623680" y="3211560"/>
            <a:ext cx="3960" cy="24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>
            <a:off x="5908320" y="5264280"/>
            <a:ext cx="1080" cy="18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28640" y="6429240"/>
            <a:ext cx="733320" cy="314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e validad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11080" y="6726240"/>
            <a:ext cx="567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Microsoft Sans Serif"/>
              </a:rPr>
              <a:t>Infor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/>
          <p:nvPr/>
        </p:nvCxnSpPr>
        <p:spPr>
          <a:xfrm>
            <a:off x="1095120" y="6910560"/>
            <a:ext cx="540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/>
          <p:nvPr/>
        </p:nvCxnSpPr>
        <p:spPr>
          <a:xfrm flipV="1" rot="16200000">
            <a:off x="2640960" y="4882320"/>
            <a:ext cx="35640" cy="3128040"/>
          </a:xfrm>
          <a:prstGeom prst="bentConnector5">
            <a:avLst>
              <a:gd name="adj1" fmla="val -654081"/>
              <a:gd name="adj2" fmla="val 50000"/>
              <a:gd name="adj3" fmla="val 7540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717480" y="2371680"/>
            <a:ext cx="68436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61840" y="2392200"/>
            <a:ext cx="416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38760" y="5119560"/>
            <a:ext cx="660240" cy="28764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cues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7116840"/>
            <a:ext cx="68436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9800" y="7130880"/>
            <a:ext cx="532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57560" y="289728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evantami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32200" y="33195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35440" y="493236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y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erifica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73600" y="5629320"/>
            <a:ext cx="660600" cy="2872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Gráf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41840" y="544500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labora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ráf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/>
          <p:nvPr/>
        </p:nvCxnSpPr>
        <p:spPr>
          <a:xfrm rot="5400000">
            <a:off x="4988160" y="5134680"/>
            <a:ext cx="249840" cy="1782000"/>
          </a:xfrm>
          <a:prstGeom prst="bentConnector3">
            <a:avLst>
              <a:gd name="adj1" fmla="val 528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43120" y="6599160"/>
            <a:ext cx="660240" cy="2872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2160" y="288756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finir unidades a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ncuest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60440" y="345132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onitoreo de la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ncues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640" y="421956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/>
          <p:nvPr/>
        </p:nvCxnSpPr>
        <p:spPr>
          <a:xfrm>
            <a:off x="1064880" y="2579760"/>
            <a:ext cx="1080" cy="27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1428840" y="27687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62440" y="2787480"/>
            <a:ext cx="8856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65200" y="29764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87440" y="408780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481644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02440" y="48117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94520" y="531180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41840" y="495000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Recepción y</a:t>
            </a:r>
            <a:br>
              <a:rPr sz="600"/>
            </a:b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tratamiento de</a:t>
            </a:r>
            <a:br>
              <a:rPr sz="600"/>
            </a:b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21240" y="601812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87440" y="62974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51" idx="2"/>
            <a:endCxn id="137" idx="0"/>
          </p:cNvCxnSpPr>
          <p:nvPr/>
        </p:nvCxnSpPr>
        <p:spPr>
          <a:xfrm>
            <a:off x="2623680" y="3211560"/>
            <a:ext cx="3960" cy="24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7" idx="2"/>
            <a:endCxn id="153" idx="0"/>
          </p:cNvCxnSpPr>
          <p:nvPr/>
        </p:nvCxnSpPr>
        <p:spPr>
          <a:xfrm>
            <a:off x="5908320" y="5264280"/>
            <a:ext cx="1080" cy="18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728640" y="6429240"/>
            <a:ext cx="733320" cy="314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e validad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1080" y="6726240"/>
            <a:ext cx="567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Microsoft Sans Serif"/>
              </a:rPr>
              <a:t>Infor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5" idx="2"/>
          </p:cNvCxnSpPr>
          <p:nvPr/>
        </p:nvCxnSpPr>
        <p:spPr>
          <a:xfrm>
            <a:off x="1095120" y="6910560"/>
            <a:ext cx="540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8" idx="2"/>
            <a:endCxn id="154" idx="0"/>
          </p:cNvCxnSpPr>
          <p:nvPr/>
        </p:nvCxnSpPr>
        <p:spPr>
          <a:xfrm flipV="1" rot="16200000">
            <a:off x="2640960" y="4882320"/>
            <a:ext cx="35640" cy="3128040"/>
          </a:xfrm>
          <a:prstGeom prst="bentConnector5">
            <a:avLst>
              <a:gd name="adj1" fmla="val -654081"/>
              <a:gd name="adj2" fmla="val 50000"/>
              <a:gd name="adj3" fmla="val 7540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717480" y="2371680"/>
            <a:ext cx="68436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61840" y="2392200"/>
            <a:ext cx="416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38760" y="5119560"/>
            <a:ext cx="660240" cy="28764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cues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7116840"/>
            <a:ext cx="68436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9800" y="7130880"/>
            <a:ext cx="532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57560" y="289728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evantami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32200" y="33195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35440" y="4932360"/>
            <a:ext cx="73332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y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erifica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73600" y="5629320"/>
            <a:ext cx="660600" cy="2872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Gráf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41840" y="544500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ráfica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36" idx="2"/>
            <a:endCxn id="151" idx="0"/>
          </p:cNvCxnSpPr>
          <p:nvPr/>
        </p:nvCxnSpPr>
        <p:spPr>
          <a:xfrm flipH="1" flipV="1" rot="5400000">
            <a:off x="1703880" y="2281680"/>
            <a:ext cx="305280" cy="1535760"/>
          </a:xfrm>
          <a:prstGeom prst="bentConnector5">
            <a:avLst>
              <a:gd name="adj1" fmla="val -74970"/>
              <a:gd name="adj2" fmla="val 41148"/>
              <a:gd name="adj3" fmla="val 174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37" idx="2"/>
            <a:endCxn id="138" idx="0"/>
          </p:cNvCxnSpPr>
          <p:nvPr/>
        </p:nvCxnSpPr>
        <p:spPr>
          <a:xfrm rot="5400000">
            <a:off x="1620360" y="3213000"/>
            <a:ext cx="454680" cy="1559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38" idx="2"/>
            <a:endCxn id="165" idx="0"/>
          </p:cNvCxnSpPr>
          <p:nvPr/>
        </p:nvCxnSpPr>
        <p:spPr>
          <a:xfrm flipH="1" rot="16200000">
            <a:off x="2435040" y="3165840"/>
            <a:ext cx="399240" cy="3134520"/>
          </a:xfrm>
          <a:prstGeom prst="bentConnector3">
            <a:avLst>
              <a:gd name="adj1" fmla="val 497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47" idx="0"/>
          </p:cNvCxnSpPr>
          <p:nvPr/>
        </p:nvCxnSpPr>
        <p:spPr>
          <a:xfrm flipH="1" flipV="1" rot="5400000">
            <a:off x="4867200" y="4349880"/>
            <a:ext cx="441720" cy="1640520"/>
          </a:xfrm>
          <a:prstGeom prst="bentConnector5">
            <a:avLst>
              <a:gd name="adj1" fmla="val -55383"/>
              <a:gd name="adj2" fmla="val 35711"/>
              <a:gd name="adj3" fmla="val 1517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3979800" y="6337440"/>
            <a:ext cx="660600" cy="2872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Docum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55960" y="6149880"/>
            <a:ext cx="7336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ráficas para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isto bu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Verónica Mancilla Sánchez</cp:lastModifiedBy>
  <dcterms:modified xsi:type="dcterms:W3CDTF">2005-08-05T17:51:18Z</dcterms:modified>
  <cp:revision>9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88241688</vt:r8>
  </property>
  <property fmtid="{D5CDD505-2E9C-101B-9397-08002B2CF9AE}" pid="3" name="_AuthorEmail">
    <vt:lpwstr>VERONICAM@DGPEC-S01.SSA.com</vt:lpwstr>
  </property>
  <property fmtid="{D5CDD505-2E9C-101B-9397-08002B2CF9AE}" pid="4" name="_AuthorEmailDisplayName">
    <vt:lpwstr>VERONICA MANCILLA SANCHEZ</vt:lpwstr>
  </property>
  <property fmtid="{D5CDD505-2E9C-101B-9397-08002B2CF9AE}" pid="5" name="_EmailSubject">
    <vt:lpwstr>Procedimientos numerados </vt:lpwstr>
  </property>
</Properties>
</file>