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228600"/>
            <a:ext cx="6324480" cy="884160"/>
            <a:chOff x="304920" y="228600"/>
            <a:chExt cx="6324480" cy="884160"/>
          </a:xfrm>
        </p:grpSpPr>
        <p:sp>
          <p:nvSpPr>
            <p:cNvPr id="1" name=""/>
            <p:cNvSpPr/>
            <p:nvPr/>
          </p:nvSpPr>
          <p:spPr>
            <a:xfrm>
              <a:off x="5638680" y="68580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Hoja: </a:t>
              </a: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35   de 1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428840" y="68580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Nombre del Procedimiento: para elaborar el “Manual sobre Gerencia Estratégica”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638680" y="42552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428840" y="42552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Dirección de Sistemas Gerencia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638680" y="228600"/>
              <a:ext cx="99072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32640" indent="-33264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428840" y="228600"/>
              <a:ext cx="4209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04920" y="228600"/>
              <a:ext cx="1123920" cy="88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4920" y="111276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28600"/>
              <a:ext cx="0" cy="884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428840" y="228600"/>
              <a:ext cx="0" cy="88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638680" y="228600"/>
              <a:ext cx="0" cy="88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629400" y="228600"/>
              <a:ext cx="0" cy="884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428840" y="42552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428840" y="68580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17" name=""/>
          <p:cNvGrpSpPr/>
          <p:nvPr/>
        </p:nvGrpSpPr>
        <p:grpSpPr>
          <a:xfrm>
            <a:off x="304920" y="7848720"/>
            <a:ext cx="6324480" cy="1127160"/>
            <a:chOff x="304920" y="7848720"/>
            <a:chExt cx="6324480" cy="1127160"/>
          </a:xfrm>
        </p:grpSpPr>
        <p:sp>
          <p:nvSpPr>
            <p:cNvPr id="18" name=""/>
            <p:cNvSpPr/>
            <p:nvPr/>
          </p:nvSpPr>
          <p:spPr>
            <a:xfrm>
              <a:off x="4800600" y="8058240"/>
              <a:ext cx="18288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35880" indent="-33588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Autorizó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895480" y="8058240"/>
              <a:ext cx="19051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35880" indent="-33588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visó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14400" y="8058240"/>
              <a:ext cx="19810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35880" indent="-33588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Elaboró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920" y="8058240"/>
              <a:ext cx="6094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800600" y="8651880"/>
              <a:ext cx="18288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4-AGOSTO-2005</a:t>
              </a:r>
              <a:r>
                <a:rPr b="0" lang="es-ES_tradnl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895480" y="8651880"/>
              <a:ext cx="19051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4-AGOSTO-2005</a:t>
              </a:r>
              <a:r>
                <a:rPr b="0" lang="es-ES_tradnl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14400" y="8651880"/>
              <a:ext cx="198108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04920" y="8651880"/>
              <a:ext cx="60948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95400" indent="-9540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Fecha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800600" y="8469360"/>
              <a:ext cx="18288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895480" y="8469360"/>
              <a:ext cx="19051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4400" y="8469360"/>
              <a:ext cx="19810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04920" y="8469360"/>
              <a:ext cx="6094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93240" indent="-9324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Firma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800600" y="8240760"/>
              <a:ext cx="182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DR. HÉCTOR ROBLEDO GALVÁ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895480" y="8240760"/>
              <a:ext cx="190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ING. JUAN CARLOS TRUJILLO H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914400" y="8240760"/>
              <a:ext cx="1981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DR. TOMÁS GABINO ROMER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04920" y="8240760"/>
              <a:ext cx="60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95400" indent="-9540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Nombr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04920" y="7848720"/>
              <a:ext cx="63244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CONTROL DE EMISIÓN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04920" y="82407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304920" y="84693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304920" y="86518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304920" y="897588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304920" y="7848720"/>
              <a:ext cx="0" cy="1127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629400" y="7848720"/>
              <a:ext cx="0" cy="1127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04920" y="805824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14400" y="8058240"/>
              <a:ext cx="0" cy="9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95480" y="8058240"/>
              <a:ext cx="0" cy="9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00600" y="8058240"/>
              <a:ext cx="0" cy="9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24000" y="1454040"/>
            <a:ext cx="5695920" cy="6257880"/>
            <a:chOff x="324000" y="1454040"/>
            <a:chExt cx="5695920" cy="6257880"/>
          </a:xfrm>
        </p:grpSpPr>
        <p:sp>
          <p:nvSpPr>
            <p:cNvPr id="47" name=""/>
            <p:cNvSpPr/>
            <p:nvPr/>
          </p:nvSpPr>
          <p:spPr>
            <a:xfrm>
              <a:off x="5138640" y="1930320"/>
              <a:ext cx="881280" cy="57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38640" y="1454040"/>
              <a:ext cx="8812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Procesos logístic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64120" y="1930320"/>
              <a:ext cx="974520" cy="57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164120" y="1454040"/>
              <a:ext cx="9745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Diseño de sistema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219480" y="1930320"/>
              <a:ext cx="944640" cy="57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19480" y="1454040"/>
              <a:ext cx="944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Áreas que integran la Dirección de Sistemas Gerenci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24080" y="1930320"/>
              <a:ext cx="995400" cy="57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24080" y="1454040"/>
              <a:ext cx="9954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Gerencia Estratégic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77920" y="1930320"/>
              <a:ext cx="1046160" cy="57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77920" y="1454040"/>
              <a:ext cx="10461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Sistemas Gerecnci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24000" y="1930320"/>
              <a:ext cx="853920" cy="57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4000" y="1454040"/>
              <a:ext cx="8539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Diseño de Sistema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4000" y="1454040"/>
              <a:ext cx="56959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4000" y="7711920"/>
              <a:ext cx="56959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4000" y="1454040"/>
              <a:ext cx="0" cy="6257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19920" y="1454040"/>
              <a:ext cx="0" cy="6257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4000" y="1930320"/>
              <a:ext cx="56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77920" y="1454040"/>
              <a:ext cx="0" cy="625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24080" y="1454040"/>
              <a:ext cx="0" cy="625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19480" y="1454040"/>
              <a:ext cx="0" cy="625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64120" y="1454040"/>
              <a:ext cx="0" cy="625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38640" y="1454040"/>
              <a:ext cx="0" cy="625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02400" y="114156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96360" y="2611440"/>
            <a:ext cx="662400" cy="252360"/>
            <a:chOff x="396360" y="2611440"/>
            <a:chExt cx="662400" cy="252360"/>
          </a:xfrm>
        </p:grpSpPr>
        <p:sp>
          <p:nvSpPr>
            <p:cNvPr id="107" name=""/>
            <p:cNvSpPr/>
            <p:nvPr/>
          </p:nvSpPr>
          <p:spPr>
            <a:xfrm>
              <a:off x="449280" y="26114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6360" y="267840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342440" y="3465360"/>
            <a:ext cx="662400" cy="252360"/>
            <a:chOff x="1342440" y="3465360"/>
            <a:chExt cx="662400" cy="252360"/>
          </a:xfrm>
        </p:grpSpPr>
        <p:sp>
          <p:nvSpPr>
            <p:cNvPr id="110" name=""/>
            <p:cNvSpPr/>
            <p:nvPr/>
          </p:nvSpPr>
          <p:spPr>
            <a:xfrm>
              <a:off x="1395360" y="34653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42440" y="353232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234440" y="2633760"/>
            <a:ext cx="662400" cy="252000"/>
            <a:chOff x="1234440" y="2633760"/>
            <a:chExt cx="662400" cy="252000"/>
          </a:xfrm>
        </p:grpSpPr>
        <p:sp>
          <p:nvSpPr>
            <p:cNvPr id="113" name=""/>
            <p:cNvSpPr/>
            <p:nvPr/>
          </p:nvSpPr>
          <p:spPr>
            <a:xfrm>
              <a:off x="1287360" y="263376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34440" y="270036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209960" y="2487600"/>
            <a:ext cx="661680" cy="252360"/>
            <a:chOff x="1209960" y="2487600"/>
            <a:chExt cx="661680" cy="252360"/>
          </a:xfrm>
        </p:grpSpPr>
        <p:sp>
          <p:nvSpPr>
            <p:cNvPr id="116" name=""/>
            <p:cNvSpPr/>
            <p:nvPr/>
          </p:nvSpPr>
          <p:spPr>
            <a:xfrm>
              <a:off x="1262160" y="24876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09960" y="255456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57840" y="2486160"/>
            <a:ext cx="661320" cy="252000"/>
            <a:chOff x="357840" y="2486160"/>
            <a:chExt cx="661320" cy="252000"/>
          </a:xfrm>
        </p:grpSpPr>
        <p:sp>
          <p:nvSpPr>
            <p:cNvPr id="119" name=""/>
            <p:cNvSpPr/>
            <p:nvPr/>
          </p:nvSpPr>
          <p:spPr>
            <a:xfrm>
              <a:off x="409680" y="248616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7840" y="2552760"/>
              <a:ext cx="63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Lineamien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1959120"/>
            <a:ext cx="66384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6440" y="226368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mis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ineamient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turn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6200" y="21049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2" idx="2"/>
            <a:endCxn id="123" idx="0"/>
          </p:cNvCxnSpPr>
          <p:nvPr/>
        </p:nvCxnSpPr>
        <p:spPr>
          <a:xfrm flipH="1">
            <a:off x="711000" y="2111040"/>
            <a:ext cx="2160" cy="1530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6" name=""/>
          <p:cNvSpPr/>
          <p:nvPr/>
        </p:nvSpPr>
        <p:spPr>
          <a:xfrm>
            <a:off x="1222200" y="2292480"/>
            <a:ext cx="60984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ineamientos  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ur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35200" y="21430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08" idx="2"/>
            <a:endCxn id="126" idx="0"/>
          </p:cNvCxnSpPr>
          <p:nvPr/>
        </p:nvCxnSpPr>
        <p:spPr>
          <a:xfrm flipH="1" flipV="1" rot="5400000">
            <a:off x="839520" y="2175120"/>
            <a:ext cx="570600" cy="803880"/>
          </a:xfrm>
          <a:prstGeom prst="bentConnector5">
            <a:avLst>
              <a:gd name="adj1" fmla="val -17803"/>
              <a:gd name="adj2" fmla="val 51568"/>
              <a:gd name="adj3" fmla="val 133080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29" name=""/>
          <p:cNvGrpSpPr/>
          <p:nvPr/>
        </p:nvGrpSpPr>
        <p:grpSpPr>
          <a:xfrm>
            <a:off x="1289160" y="3340080"/>
            <a:ext cx="661680" cy="252360"/>
            <a:chOff x="1289160" y="3340080"/>
            <a:chExt cx="661680" cy="252360"/>
          </a:xfrm>
        </p:grpSpPr>
        <p:sp>
          <p:nvSpPr>
            <p:cNvPr id="130" name=""/>
            <p:cNvSpPr/>
            <p:nvPr/>
          </p:nvSpPr>
          <p:spPr>
            <a:xfrm>
              <a:off x="1341360" y="33400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89160" y="3407040"/>
              <a:ext cx="432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anua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311120" y="315756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 y verifi-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ación de 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70120" y="30081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14" idx="2"/>
            <a:endCxn id="135" idx="0"/>
          </p:cNvCxnSpPr>
          <p:nvPr/>
        </p:nvCxnSpPr>
        <p:spPr>
          <a:xfrm flipH="1" flipV="1" rot="5400000">
            <a:off x="1806480" y="2090160"/>
            <a:ext cx="549720" cy="1038600"/>
          </a:xfrm>
          <a:prstGeom prst="bentConnector5">
            <a:avLst>
              <a:gd name="adj1" fmla="val -13826"/>
              <a:gd name="adj2" fmla="val 51213"/>
              <a:gd name="adj3" fmla="val 130340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36" name=""/>
          <p:cNvGrpSpPr/>
          <p:nvPr/>
        </p:nvGrpSpPr>
        <p:grpSpPr>
          <a:xfrm>
            <a:off x="2301480" y="2668680"/>
            <a:ext cx="662400" cy="252000"/>
            <a:chOff x="2301480" y="2668680"/>
            <a:chExt cx="662400" cy="252000"/>
          </a:xfrm>
        </p:grpSpPr>
        <p:sp>
          <p:nvSpPr>
            <p:cNvPr id="137" name=""/>
            <p:cNvSpPr/>
            <p:nvPr/>
          </p:nvSpPr>
          <p:spPr>
            <a:xfrm>
              <a:off x="2354400" y="266868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01480" y="273528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283120" y="2530440"/>
            <a:ext cx="661680" cy="252360"/>
            <a:chOff x="2283120" y="2530440"/>
            <a:chExt cx="661680" cy="252360"/>
          </a:xfrm>
        </p:grpSpPr>
        <p:sp>
          <p:nvSpPr>
            <p:cNvPr id="140" name=""/>
            <p:cNvSpPr/>
            <p:nvPr/>
          </p:nvSpPr>
          <p:spPr>
            <a:xfrm>
              <a:off x="2335320" y="25304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3120" y="259740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295360" y="2335320"/>
            <a:ext cx="60984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. de lin.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lab. de manu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sol. De Vo.Bo.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22680" y="21542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37" idx="2"/>
            <a:endCxn id="132" idx="0"/>
          </p:cNvCxnSpPr>
          <p:nvPr/>
        </p:nvCxnSpPr>
        <p:spPr>
          <a:xfrm rot="5400000">
            <a:off x="2010600" y="2509560"/>
            <a:ext cx="253080" cy="1043640"/>
          </a:xfrm>
          <a:prstGeom prst="bentConnector3">
            <a:avLst>
              <a:gd name="adj1" fmla="val 52706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4" name=""/>
          <p:cNvSpPr/>
          <p:nvPr/>
        </p:nvSpPr>
        <p:spPr>
          <a:xfrm>
            <a:off x="1285920" y="3822840"/>
            <a:ext cx="563400" cy="4888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13120" y="4000680"/>
            <a:ext cx="11412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4" idx="3"/>
          </p:cNvCxnSpPr>
          <p:nvPr/>
        </p:nvCxnSpPr>
        <p:spPr>
          <a:xfrm>
            <a:off x="1849320" y="4066920"/>
            <a:ext cx="170640" cy="39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7" name=""/>
          <p:cNvSpPr/>
          <p:nvPr/>
        </p:nvSpPr>
        <p:spPr>
          <a:xfrm>
            <a:off x="1757880" y="390528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44600" y="4229280"/>
            <a:ext cx="25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/>
          <p:nvPr/>
        </p:nvCxnSpPr>
        <p:spPr>
          <a:xfrm>
            <a:off x="1568160" y="3697200"/>
            <a:ext cx="1080" cy="132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50" name=""/>
          <p:cNvGrpSpPr/>
          <p:nvPr/>
        </p:nvGrpSpPr>
        <p:grpSpPr>
          <a:xfrm>
            <a:off x="2416320" y="4506840"/>
            <a:ext cx="661680" cy="252360"/>
            <a:chOff x="2416320" y="4506840"/>
            <a:chExt cx="661680" cy="252360"/>
          </a:xfrm>
        </p:grpSpPr>
        <p:sp>
          <p:nvSpPr>
            <p:cNvPr id="151" name=""/>
            <p:cNvSpPr/>
            <p:nvPr/>
          </p:nvSpPr>
          <p:spPr>
            <a:xfrm>
              <a:off x="2468520" y="45068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16320" y="4573800"/>
              <a:ext cx="432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anua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387160" y="4375080"/>
            <a:ext cx="662400" cy="252360"/>
            <a:chOff x="2387160" y="4375080"/>
            <a:chExt cx="662400" cy="252360"/>
          </a:xfrm>
        </p:grpSpPr>
        <p:sp>
          <p:nvSpPr>
            <p:cNvPr id="154" name=""/>
            <p:cNvSpPr/>
            <p:nvPr/>
          </p:nvSpPr>
          <p:spPr>
            <a:xfrm>
              <a:off x="2440080" y="43750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87160" y="444204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a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409840" y="419256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 VoBo, d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8" idx="2"/>
            <a:endCxn id="156" idx="0"/>
          </p:cNvCxnSpPr>
          <p:nvPr/>
        </p:nvCxnSpPr>
        <p:spPr>
          <a:xfrm flipH="1" flipV="1" rot="5400000">
            <a:off x="1884600" y="3903120"/>
            <a:ext cx="540360" cy="1118160"/>
          </a:xfrm>
          <a:prstGeom prst="bentConnector5">
            <a:avLst>
              <a:gd name="adj1" fmla="val -15000"/>
              <a:gd name="adj2" fmla="val 49983"/>
              <a:gd name="adj3" fmla="val 142333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9" name=""/>
          <p:cNvSpPr/>
          <p:nvPr/>
        </p:nvSpPr>
        <p:spPr>
          <a:xfrm>
            <a:off x="2820960" y="40464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298880" y="5338800"/>
            <a:ext cx="661680" cy="252360"/>
            <a:chOff x="1298880" y="5338800"/>
            <a:chExt cx="661680" cy="252360"/>
          </a:xfrm>
        </p:grpSpPr>
        <p:sp>
          <p:nvSpPr>
            <p:cNvPr id="161" name=""/>
            <p:cNvSpPr/>
            <p:nvPr/>
          </p:nvSpPr>
          <p:spPr>
            <a:xfrm>
              <a:off x="1351080" y="53388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98880" y="5405760"/>
              <a:ext cx="432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anua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269360" y="5200560"/>
            <a:ext cx="662400" cy="252360"/>
            <a:chOff x="1269360" y="5200560"/>
            <a:chExt cx="662400" cy="252360"/>
          </a:xfrm>
        </p:grpSpPr>
        <p:sp>
          <p:nvSpPr>
            <p:cNvPr id="164" name=""/>
            <p:cNvSpPr/>
            <p:nvPr/>
          </p:nvSpPr>
          <p:spPr>
            <a:xfrm>
              <a:off x="1322280" y="52005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69360" y="526752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292400" y="500544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 de manu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rubrica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memorándum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03520" y="48592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52" idx="2"/>
            <a:endCxn id="166" idx="0"/>
          </p:cNvCxnSpPr>
          <p:nvPr/>
        </p:nvCxnSpPr>
        <p:spPr>
          <a:xfrm rot="5400000">
            <a:off x="1990800" y="4363200"/>
            <a:ext cx="248400" cy="1037520"/>
          </a:xfrm>
          <a:prstGeom prst="bentConnector3">
            <a:avLst>
              <a:gd name="adj1" fmla="val 49927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8" name=""/>
          <p:cNvSpPr/>
          <p:nvPr/>
        </p:nvSpPr>
        <p:spPr>
          <a:xfrm>
            <a:off x="1292400" y="442764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ví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memorandu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/>
          <p:nvPr/>
        </p:nvCxnSpPr>
        <p:spPr>
          <a:xfrm>
            <a:off x="1568160" y="4307040"/>
            <a:ext cx="1080" cy="132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70" name=""/>
          <p:cNvGrpSpPr/>
          <p:nvPr/>
        </p:nvGrpSpPr>
        <p:grpSpPr>
          <a:xfrm>
            <a:off x="403560" y="5451480"/>
            <a:ext cx="661680" cy="252360"/>
            <a:chOff x="403560" y="5451480"/>
            <a:chExt cx="661680" cy="252360"/>
          </a:xfrm>
        </p:grpSpPr>
        <p:sp>
          <p:nvSpPr>
            <p:cNvPr id="171" name=""/>
            <p:cNvSpPr/>
            <p:nvPr/>
          </p:nvSpPr>
          <p:spPr>
            <a:xfrm>
              <a:off x="455760" y="54514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560" y="5518440"/>
              <a:ext cx="453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anual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83760" y="5318280"/>
            <a:ext cx="662400" cy="252000"/>
            <a:chOff x="383760" y="5318280"/>
            <a:chExt cx="662400" cy="252000"/>
          </a:xfrm>
        </p:grpSpPr>
        <p:sp>
          <p:nvSpPr>
            <p:cNvPr id="174" name=""/>
            <p:cNvSpPr/>
            <p:nvPr/>
          </p:nvSpPr>
          <p:spPr>
            <a:xfrm>
              <a:off x="436680" y="531828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3760" y="538488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28760" y="511668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visión del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manual y firm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7280" y="49608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62" idx="2"/>
            <a:endCxn id="176" idx="0"/>
          </p:cNvCxnSpPr>
          <p:nvPr/>
        </p:nvCxnSpPr>
        <p:spPr>
          <a:xfrm flipV="1" rot="16200000">
            <a:off x="887760" y="4961160"/>
            <a:ext cx="473760" cy="783360"/>
          </a:xfrm>
          <a:prstGeom prst="bentConnector5">
            <a:avLst>
              <a:gd name="adj1" fmla="val -23117"/>
              <a:gd name="adj2" fmla="val 35264"/>
              <a:gd name="adj3" fmla="val 138859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79" name=""/>
          <p:cNvGrpSpPr/>
          <p:nvPr/>
        </p:nvGrpSpPr>
        <p:grpSpPr>
          <a:xfrm>
            <a:off x="2254320" y="6156360"/>
            <a:ext cx="661680" cy="252360"/>
            <a:chOff x="2254320" y="6156360"/>
            <a:chExt cx="661680" cy="252360"/>
          </a:xfrm>
        </p:grpSpPr>
        <p:sp>
          <p:nvSpPr>
            <p:cNvPr id="180" name=""/>
            <p:cNvSpPr/>
            <p:nvPr/>
          </p:nvSpPr>
          <p:spPr>
            <a:xfrm>
              <a:off x="2306520" y="61563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54320" y="622332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215800" y="6029280"/>
            <a:ext cx="662400" cy="252360"/>
            <a:chOff x="2215800" y="6029280"/>
            <a:chExt cx="662400" cy="252360"/>
          </a:xfrm>
        </p:grpSpPr>
        <p:sp>
          <p:nvSpPr>
            <p:cNvPr id="183" name=""/>
            <p:cNvSpPr/>
            <p:nvPr/>
          </p:nvSpPr>
          <p:spPr>
            <a:xfrm>
              <a:off x="2268720" y="60292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15800" y="609624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201760" y="5827680"/>
            <a:ext cx="663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 de manu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ara autoriz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56912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0" idx="2"/>
            <a:endCxn id="188" idx="0"/>
          </p:cNvCxnSpPr>
          <p:nvPr/>
        </p:nvCxnSpPr>
        <p:spPr>
          <a:xfrm flipH="1" rot="16200000">
            <a:off x="2535120" y="6468840"/>
            <a:ext cx="154800" cy="2160"/>
          </a:xfrm>
          <a:prstGeom prst="bentConnector3">
            <a:avLst>
              <a:gd name="adj1" fmla="val 54545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88" name=""/>
          <p:cNvSpPr/>
          <p:nvPr/>
        </p:nvSpPr>
        <p:spPr>
          <a:xfrm>
            <a:off x="2355840" y="6546960"/>
            <a:ext cx="512640" cy="45720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08400" y="668664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1200" y="6715080"/>
            <a:ext cx="11412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8" idx="3"/>
            <a:endCxn id="190" idx="2"/>
          </p:cNvCxnSpPr>
          <p:nvPr/>
        </p:nvCxnSpPr>
        <p:spPr>
          <a:xfrm>
            <a:off x="2868480" y="6775560"/>
            <a:ext cx="253440" cy="10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92" name=""/>
          <p:cNvSpPr/>
          <p:nvPr/>
        </p:nvSpPr>
        <p:spPr>
          <a:xfrm>
            <a:off x="2853360" y="662940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8" idx="2"/>
            <a:endCxn id="194" idx="0"/>
          </p:cNvCxnSpPr>
          <p:nvPr/>
        </p:nvCxnSpPr>
        <p:spPr>
          <a:xfrm>
            <a:off x="2612880" y="7004160"/>
            <a:ext cx="7200" cy="94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95" name=""/>
          <p:cNvSpPr/>
          <p:nvPr/>
        </p:nvSpPr>
        <p:spPr>
          <a:xfrm>
            <a:off x="2331720" y="6959520"/>
            <a:ext cx="25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7440" y="7097760"/>
            <a:ext cx="663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cia la oper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l manu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4560" y="751212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4" idx="2"/>
            <a:endCxn id="196" idx="0"/>
          </p:cNvCxnSpPr>
          <p:nvPr/>
        </p:nvCxnSpPr>
        <p:spPr>
          <a:xfrm flipH="1">
            <a:off x="2615400" y="7402680"/>
            <a:ext cx="3960" cy="110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98" name=""/>
          <p:cNvCxnSpPr>
            <a:stCxn id="172" idx="2"/>
            <a:endCxn id="185" idx="0"/>
          </p:cNvCxnSpPr>
          <p:nvPr/>
        </p:nvCxnSpPr>
        <p:spPr>
          <a:xfrm flipH="1" rot="16200000">
            <a:off x="1518480" y="4813200"/>
            <a:ext cx="126000" cy="1904040"/>
          </a:xfrm>
          <a:prstGeom prst="bentConnector3">
            <a:avLst>
              <a:gd name="adj1" fmla="val 49283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SECRETARIA DE SALUD</cp:lastModifiedBy>
  <dcterms:modified xsi:type="dcterms:W3CDTF">2005-08-05T19:19:15Z</dcterms:modified>
  <cp:revision>62</cp:revision>
  <dc:subject/>
  <dc:title>Presentación de PowerPoint</dc:title>
</cp:coreProperties>
</file>