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72880" y="1663560"/>
            <a:ext cx="6324840" cy="5815080"/>
            <a:chOff x="272880" y="1663560"/>
            <a:chExt cx="6324840" cy="5815080"/>
          </a:xfrm>
        </p:grpSpPr>
        <p:sp>
          <p:nvSpPr>
            <p:cNvPr id="1" name=""/>
            <p:cNvSpPr/>
            <p:nvPr/>
          </p:nvSpPr>
          <p:spPr>
            <a:xfrm>
              <a:off x="554508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8956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3692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8140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2876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2880" y="2211480"/>
              <a:ext cx="10558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508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48956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3692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8140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da institución del sector salud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2876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bdirección de Innovación Logística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2880" y="1663560"/>
              <a:ext cx="1055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2880" y="2211480"/>
              <a:ext cx="632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72880" y="7478640"/>
              <a:ext cx="6324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288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8140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3692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4895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4508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59772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166356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72880" y="1663560"/>
              <a:ext cx="105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36920" y="166356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518080" y="716040"/>
              <a:ext cx="1111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9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089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estandarizar niveles aceptables en la cadena de suministr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518080" y="455760"/>
              <a:ext cx="11113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0892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518080" y="228600"/>
              <a:ext cx="11113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0892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5180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20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6920"/>
            <a:chOff x="304920" y="7848720"/>
            <a:chExt cx="6324480" cy="1096920"/>
          </a:xfrm>
        </p:grpSpPr>
        <p:sp>
          <p:nvSpPr>
            <p:cNvPr id="43" name=""/>
            <p:cNvSpPr/>
            <p:nvPr/>
          </p:nvSpPr>
          <p:spPr>
            <a:xfrm>
              <a:off x="4800600" y="8077320"/>
              <a:ext cx="1828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7320"/>
              <a:ext cx="1905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7320"/>
              <a:ext cx="1981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7320"/>
              <a:ext cx="609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2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2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2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2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201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201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201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201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9152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9152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Blanca Chávez Buenrost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9152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Marisol Osorio Marí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152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915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201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2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56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411200" y="3309840"/>
            <a:ext cx="662040" cy="252360"/>
            <a:chOff x="1411200" y="3309840"/>
            <a:chExt cx="662040" cy="252360"/>
          </a:xfrm>
        </p:grpSpPr>
        <p:sp>
          <p:nvSpPr>
            <p:cNvPr id="72" name=""/>
            <p:cNvSpPr/>
            <p:nvPr/>
          </p:nvSpPr>
          <p:spPr>
            <a:xfrm>
              <a:off x="1463760" y="33098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11200" y="337680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23960" y="351936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olicitud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sesoría par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mplant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02040" y="3379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65520" y="4100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23960" y="513540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pl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estánda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89440" y="49910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01880" y="6373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09760" y="3106800"/>
            <a:ext cx="6094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mo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stándares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55800" y="2973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6320" y="2614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/>
          <p:nvPr/>
        </p:nvCxnSpPr>
        <p:spPr>
          <a:xfrm>
            <a:off x="839880" y="2590920"/>
            <a:ext cx="864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1339920" y="2914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7680" y="722628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2880" y="65167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avan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/>
          <p:nvPr/>
        </p:nvCxnSpPr>
        <p:spPr>
          <a:xfrm flipH="1" flipV="1" rot="5400000">
            <a:off x="2284920" y="3002040"/>
            <a:ext cx="27720" cy="1061280"/>
          </a:xfrm>
          <a:prstGeom prst="bentConnector5">
            <a:avLst>
              <a:gd name="adj1" fmla="val -900000"/>
              <a:gd name="adj2" fmla="val 49983"/>
              <a:gd name="adj3" fmla="val 9460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/>
          <p:nvPr/>
        </p:nvCxnSpPr>
        <p:spPr>
          <a:xfrm>
            <a:off x="847800" y="6821640"/>
            <a:ext cx="216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0" name=""/>
          <p:cNvGrpSpPr/>
          <p:nvPr/>
        </p:nvGrpSpPr>
        <p:grpSpPr>
          <a:xfrm>
            <a:off x="535320" y="2954160"/>
            <a:ext cx="661680" cy="252360"/>
            <a:chOff x="535320" y="2954160"/>
            <a:chExt cx="661680" cy="252360"/>
          </a:xfrm>
        </p:grpSpPr>
        <p:sp>
          <p:nvSpPr>
            <p:cNvPr id="91" name=""/>
            <p:cNvSpPr/>
            <p:nvPr/>
          </p:nvSpPr>
          <p:spPr>
            <a:xfrm>
              <a:off x="587520" y="29541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5320" y="302112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33520" y="2751120"/>
            <a:ext cx="6094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ordin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defini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stándares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/>
          <p:nvPr/>
        </p:nvCxnSpPr>
        <p:spPr>
          <a:xfrm flipH="1" flipV="1" rot="5400000">
            <a:off x="1260000" y="2737080"/>
            <a:ext cx="84960" cy="823320"/>
          </a:xfrm>
          <a:prstGeom prst="bentConnector5">
            <a:avLst>
              <a:gd name="adj1" fmla="val -288510"/>
              <a:gd name="adj2" fmla="val 50000"/>
              <a:gd name="adj3" fmla="val 3714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5" name=""/>
          <p:cNvGrpSpPr/>
          <p:nvPr/>
        </p:nvGrpSpPr>
        <p:grpSpPr>
          <a:xfrm>
            <a:off x="1411920" y="4471920"/>
            <a:ext cx="661320" cy="252360"/>
            <a:chOff x="1411920" y="4471920"/>
            <a:chExt cx="661320" cy="252360"/>
          </a:xfrm>
        </p:grpSpPr>
        <p:sp>
          <p:nvSpPr>
            <p:cNvPr id="96" name=""/>
            <p:cNvSpPr/>
            <p:nvPr/>
          </p:nvSpPr>
          <p:spPr>
            <a:xfrm>
              <a:off x="1463760" y="44719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11920" y="4538880"/>
              <a:ext cx="627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sent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409760" y="4268880"/>
            <a:ext cx="6094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tención 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icitud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sesoría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13000" y="58309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eo de l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plic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stánda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59040" y="5694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 rot="5400000">
            <a:off x="2048760" y="3489120"/>
            <a:ext cx="445320" cy="1114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/>
          <p:nvPr/>
        </p:nvCxnSpPr>
        <p:spPr>
          <a:xfrm flipH="1" rot="16200000">
            <a:off x="2085120" y="4391280"/>
            <a:ext cx="427680" cy="1061280"/>
          </a:xfrm>
          <a:prstGeom prst="bentConnector3">
            <a:avLst>
              <a:gd name="adj1" fmla="val 516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/>
          <p:nvPr/>
        </p:nvCxnSpPr>
        <p:spPr>
          <a:xfrm rot="5400000">
            <a:off x="2077200" y="5079600"/>
            <a:ext cx="391320" cy="111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/>
          <p:nvPr/>
        </p:nvCxnSpPr>
        <p:spPr>
          <a:xfrm rot="5400000">
            <a:off x="1091520" y="5891400"/>
            <a:ext cx="381600" cy="8704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Base" hidden="1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4992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MARISOLO</cp:lastModifiedBy>
  <dcterms:modified xsi:type="dcterms:W3CDTF">2005-08-05T18:39:13Z</dcterms:modified>
  <cp:revision>60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34368893</vt:r8>
  </property>
  <property fmtid="{D5CDD505-2E9C-101B-9397-08002B2CF9AE}" pid="3" name="_AuthorEmail">
    <vt:lpwstr>MARISOLO@DGPEC-S01.SSA.com</vt:lpwstr>
  </property>
  <property fmtid="{D5CDD505-2E9C-101B-9397-08002B2CF9AE}" pid="4" name="_AuthorEmailDisplayName">
    <vt:lpwstr>MARISOL OSORIO MARIN</vt:lpwstr>
  </property>
  <property fmtid="{D5CDD505-2E9C-101B-9397-08002B2CF9AE}" pid="5" name="_EmailSubject">
    <vt:lpwstr>ISO 9001-2000</vt:lpwstr>
  </property>
  <property fmtid="{D5CDD505-2E9C-101B-9397-08002B2CF9AE}" pid="6" name="_PreviousAdHocReviewCycleID">
    <vt:r8>439435868</vt:r8>
  </property>
</Properties>
</file>