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1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   de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borar el Manual de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dimientos de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a Dirección General de Planeación y Desarrollo en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18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H</a:t>
              </a: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É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TOR ROBLEDO GALVÁN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. HÉCTOR MURGUÍA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. MA. VICTORIA REPIZO GARCIA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04920" y="1709640"/>
            <a:ext cx="6257520" cy="5856480"/>
            <a:chOff x="304920" y="1709640"/>
            <a:chExt cx="6257520" cy="5856480"/>
          </a:xfrm>
        </p:grpSpPr>
        <p:sp>
          <p:nvSpPr>
            <p:cNvPr id="47" name=""/>
            <p:cNvSpPr/>
            <p:nvPr/>
          </p:nvSpPr>
          <p:spPr>
            <a:xfrm>
              <a:off x="3417120" y="2298600"/>
              <a:ext cx="10483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17120" y="1709640"/>
              <a:ext cx="1048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novación de Proces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14120" y="2298600"/>
              <a:ext cx="10483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65440" y="2298600"/>
              <a:ext cx="10483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58000" y="2298600"/>
              <a:ext cx="10591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20120" y="2298600"/>
              <a:ext cx="1037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2298600"/>
              <a:ext cx="101520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14120" y="1709640"/>
              <a:ext cx="1048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65440" y="1709640"/>
              <a:ext cx="1048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Análisis y Diseño de Proces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58000" y="1709640"/>
              <a:ext cx="105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0120" y="1709640"/>
              <a:ext cx="1037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1709640"/>
              <a:ext cx="1015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2298600"/>
              <a:ext cx="625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566120"/>
              <a:ext cx="6257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012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580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712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12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6244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1709640"/>
              <a:ext cx="20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58000" y="1709640"/>
              <a:ext cx="4204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65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93600" y="3522600"/>
            <a:ext cx="662400" cy="252360"/>
            <a:chOff x="4593600" y="3522600"/>
            <a:chExt cx="662400" cy="252360"/>
          </a:xfrm>
        </p:grpSpPr>
        <p:sp>
          <p:nvSpPr>
            <p:cNvPr id="107" name=""/>
            <p:cNvSpPr/>
            <p:nvPr/>
          </p:nvSpPr>
          <p:spPr>
            <a:xfrm>
              <a:off x="4646520" y="3522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93600" y="3589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434680" y="3456000"/>
            <a:ext cx="662400" cy="252360"/>
            <a:chOff x="2434680" y="3456000"/>
            <a:chExt cx="662400" cy="252360"/>
          </a:xfrm>
        </p:grpSpPr>
        <p:sp>
          <p:nvSpPr>
            <p:cNvPr id="110" name=""/>
            <p:cNvSpPr/>
            <p:nvPr/>
          </p:nvSpPr>
          <p:spPr>
            <a:xfrm>
              <a:off x="2487600" y="3456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4680" y="3522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01120" y="3176640"/>
            <a:ext cx="662400" cy="252360"/>
            <a:chOff x="501120" y="3176640"/>
            <a:chExt cx="662400" cy="252360"/>
          </a:xfrm>
        </p:grpSpPr>
        <p:sp>
          <p:nvSpPr>
            <p:cNvPr id="113" name=""/>
            <p:cNvSpPr/>
            <p:nvPr/>
          </p:nvSpPr>
          <p:spPr>
            <a:xfrm>
              <a:off x="554040" y="3176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1120" y="32436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77000" y="3036960"/>
            <a:ext cx="661320" cy="252360"/>
            <a:chOff x="477000" y="3036960"/>
            <a:chExt cx="661320" cy="252360"/>
          </a:xfrm>
        </p:grpSpPr>
        <p:sp>
          <p:nvSpPr>
            <p:cNvPr id="116" name=""/>
            <p:cNvSpPr/>
            <p:nvPr/>
          </p:nvSpPr>
          <p:spPr>
            <a:xfrm>
              <a:off x="528840" y="3036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000" y="31039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0440" y="25304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0200" y="2664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3" idx="0"/>
          </p:cNvCxnSpPr>
          <p:nvPr/>
        </p:nvCxnSpPr>
        <p:spPr>
          <a:xfrm>
            <a:off x="792360" y="2682720"/>
            <a:ext cx="1800" cy="12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488880" y="28098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0440" y="27939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07320" y="3317760"/>
            <a:ext cx="661320" cy="252360"/>
            <a:chOff x="2407320" y="3317760"/>
            <a:chExt cx="661320" cy="252360"/>
          </a:xfrm>
        </p:grpSpPr>
        <p:sp>
          <p:nvSpPr>
            <p:cNvPr id="126" name=""/>
            <p:cNvSpPr/>
            <p:nvPr/>
          </p:nvSpPr>
          <p:spPr>
            <a:xfrm>
              <a:off x="2459160" y="3317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07320" y="33847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428920" y="30909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52880" y="292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2"/>
            <a:endCxn id="131" idx="0"/>
          </p:cNvCxnSpPr>
          <p:nvPr/>
        </p:nvCxnSpPr>
        <p:spPr>
          <a:xfrm flipH="1" flipV="1" rot="5400000">
            <a:off x="1098720" y="2768400"/>
            <a:ext cx="405000" cy="884520"/>
          </a:xfrm>
          <a:prstGeom prst="bentConnector5">
            <a:avLst>
              <a:gd name="adj1" fmla="val -60943"/>
              <a:gd name="adj2" fmla="val -60708"/>
              <a:gd name="adj3" fmla="val 15729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2" name=""/>
          <p:cNvGrpSpPr/>
          <p:nvPr/>
        </p:nvGrpSpPr>
        <p:grpSpPr>
          <a:xfrm>
            <a:off x="4573440" y="3381480"/>
            <a:ext cx="663480" cy="252000"/>
            <a:chOff x="4573440" y="3381480"/>
            <a:chExt cx="663480" cy="252000"/>
          </a:xfrm>
        </p:grpSpPr>
        <p:sp>
          <p:nvSpPr>
            <p:cNvPr id="133" name=""/>
            <p:cNvSpPr/>
            <p:nvPr/>
          </p:nvSpPr>
          <p:spPr>
            <a:xfrm>
              <a:off x="4627440" y="33814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3440" y="3448080"/>
              <a:ext cx="659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 r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29160" y="31543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Lineam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oc.de ta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solicitud de pro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8120" y="3094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6320" y="3457440"/>
            <a:ext cx="708120" cy="252360"/>
            <a:chOff x="5566320" y="3457440"/>
            <a:chExt cx="708120" cy="252360"/>
          </a:xfrm>
        </p:grpSpPr>
        <p:sp>
          <p:nvSpPr>
            <p:cNvPr id="138" name=""/>
            <p:cNvSpPr/>
            <p:nvPr/>
          </p:nvSpPr>
          <p:spPr>
            <a:xfrm>
              <a:off x="5618160" y="3457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6320" y="3524400"/>
              <a:ext cx="708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545080" y="32306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formatos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aliza procedi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ientos y env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1880" y="411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08" idx="2"/>
            <a:endCxn id="140" idx="0"/>
          </p:cNvCxnSpPr>
          <p:nvPr/>
        </p:nvCxnSpPr>
        <p:spPr>
          <a:xfrm flipH="1" flipV="1" rot="5400000">
            <a:off x="5126760" y="3024720"/>
            <a:ext cx="544680" cy="956520"/>
          </a:xfrm>
          <a:prstGeom prst="bentConnector5">
            <a:avLst>
              <a:gd name="adj1" fmla="val -41666"/>
              <a:gd name="adj2" fmla="val -57981"/>
              <a:gd name="adj3" fmla="val 14252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3" name=""/>
          <p:cNvGrpSpPr/>
          <p:nvPr/>
        </p:nvGrpSpPr>
        <p:grpSpPr>
          <a:xfrm>
            <a:off x="4658040" y="4606920"/>
            <a:ext cx="661680" cy="252360"/>
            <a:chOff x="4658040" y="4606920"/>
            <a:chExt cx="661680" cy="252360"/>
          </a:xfrm>
        </p:grpSpPr>
        <p:sp>
          <p:nvSpPr>
            <p:cNvPr id="144" name=""/>
            <p:cNvSpPr/>
            <p:nvPr/>
          </p:nvSpPr>
          <p:spPr>
            <a:xfrm>
              <a:off x="4710240" y="4606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8040" y="467388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638600" y="4473720"/>
            <a:ext cx="662040" cy="252000"/>
            <a:chOff x="4638600" y="4473720"/>
            <a:chExt cx="662040" cy="252000"/>
          </a:xfrm>
        </p:grpSpPr>
        <p:sp>
          <p:nvSpPr>
            <p:cNvPr id="147" name=""/>
            <p:cNvSpPr/>
            <p:nvPr/>
          </p:nvSpPr>
          <p:spPr>
            <a:xfrm>
              <a:off x="4691160" y="44737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4540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618080" y="42591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proc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 Integra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9" idx="2"/>
            <a:endCxn id="149" idx="0"/>
          </p:cNvCxnSpPr>
          <p:nvPr/>
        </p:nvCxnSpPr>
        <p:spPr>
          <a:xfrm rot="5400000">
            <a:off x="5160240" y="3499560"/>
            <a:ext cx="549720" cy="970560"/>
          </a:xfrm>
          <a:prstGeom prst="bentConnector3">
            <a:avLst>
              <a:gd name="adj1" fmla="val 4954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087800" y="4129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3960" y="3373560"/>
            <a:ext cx="662400" cy="252000"/>
            <a:chOff x="1443960" y="3373560"/>
            <a:chExt cx="662400" cy="252000"/>
          </a:xfrm>
        </p:grpSpPr>
        <p:sp>
          <p:nvSpPr>
            <p:cNvPr id="153" name=""/>
            <p:cNvSpPr/>
            <p:nvPr/>
          </p:nvSpPr>
          <p:spPr>
            <a:xfrm>
              <a:off x="1496880" y="33735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3960" y="34401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26320" y="3235320"/>
            <a:ext cx="661320" cy="252360"/>
            <a:chOff x="1426320" y="3235320"/>
            <a:chExt cx="661320" cy="252360"/>
          </a:xfrm>
        </p:grpSpPr>
        <p:sp>
          <p:nvSpPr>
            <p:cNvPr id="156" name=""/>
            <p:cNvSpPr/>
            <p:nvPr/>
          </p:nvSpPr>
          <p:spPr>
            <a:xfrm>
              <a:off x="1478160" y="323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26320" y="330228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38200" y="30081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0040" y="2932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4" idx="2"/>
            <a:endCxn id="128" idx="0"/>
          </p:cNvCxnSpPr>
          <p:nvPr/>
        </p:nvCxnSpPr>
        <p:spPr>
          <a:xfrm flipH="1" flipV="1" rot="5400000">
            <a:off x="1985040" y="2876760"/>
            <a:ext cx="534960" cy="963000"/>
          </a:xfrm>
          <a:prstGeom prst="bentConnector5">
            <a:avLst>
              <a:gd name="adj1" fmla="val -42424"/>
              <a:gd name="adj2" fmla="val 155684"/>
              <a:gd name="adj3" fmla="val 14329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0" name=""/>
          <p:cNvGrpSpPr/>
          <p:nvPr/>
        </p:nvGrpSpPr>
        <p:grpSpPr>
          <a:xfrm>
            <a:off x="3689640" y="4638600"/>
            <a:ext cx="661680" cy="252360"/>
            <a:chOff x="3689640" y="4638600"/>
            <a:chExt cx="661680" cy="252360"/>
          </a:xfrm>
        </p:grpSpPr>
        <p:sp>
          <p:nvSpPr>
            <p:cNvPr id="161" name=""/>
            <p:cNvSpPr/>
            <p:nvPr/>
          </p:nvSpPr>
          <p:spPr>
            <a:xfrm>
              <a:off x="3741840" y="4638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89640" y="470556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670200" y="4505400"/>
            <a:ext cx="662040" cy="252360"/>
            <a:chOff x="3670200" y="4505400"/>
            <a:chExt cx="662040" cy="252360"/>
          </a:xfrm>
        </p:grpSpPr>
        <p:sp>
          <p:nvSpPr>
            <p:cNvPr id="164" name=""/>
            <p:cNvSpPr/>
            <p:nvPr/>
          </p:nvSpPr>
          <p:spPr>
            <a:xfrm>
              <a:off x="3722760" y="4505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0200" y="45723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49680" y="42908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del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16160" y="4170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4" idx="2"/>
            <a:endCxn id="166" idx="0"/>
          </p:cNvCxnSpPr>
          <p:nvPr/>
        </p:nvCxnSpPr>
        <p:spPr>
          <a:xfrm flipV="1" rot="16200000">
            <a:off x="4222080" y="4050000"/>
            <a:ext cx="552600" cy="1033920"/>
          </a:xfrm>
          <a:prstGeom prst="bentConnector5">
            <a:avLst>
              <a:gd name="adj1" fmla="val -44654"/>
              <a:gd name="adj2" fmla="val -51863"/>
              <a:gd name="adj3" fmla="val 14204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9" name=""/>
          <p:cNvGrpSpPr/>
          <p:nvPr/>
        </p:nvGrpSpPr>
        <p:grpSpPr>
          <a:xfrm>
            <a:off x="3587400" y="3456000"/>
            <a:ext cx="662400" cy="252360"/>
            <a:chOff x="3587400" y="3456000"/>
            <a:chExt cx="662400" cy="252360"/>
          </a:xfrm>
        </p:grpSpPr>
        <p:sp>
          <p:nvSpPr>
            <p:cNvPr id="170" name=""/>
            <p:cNvSpPr/>
            <p:nvPr/>
          </p:nvSpPr>
          <p:spPr>
            <a:xfrm>
              <a:off x="3640320" y="3456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7400" y="3522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559680" y="3317760"/>
            <a:ext cx="661320" cy="252360"/>
            <a:chOff x="3559680" y="3317760"/>
            <a:chExt cx="661320" cy="252360"/>
          </a:xfrm>
        </p:grpSpPr>
        <p:sp>
          <p:nvSpPr>
            <p:cNvPr id="173" name=""/>
            <p:cNvSpPr/>
            <p:nvPr/>
          </p:nvSpPr>
          <p:spPr>
            <a:xfrm>
              <a:off x="3611520" y="3317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59680" y="33847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81280" y="309096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2200" y="2998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11" idx="2"/>
            <a:endCxn id="175" idx="0"/>
          </p:cNvCxnSpPr>
          <p:nvPr/>
        </p:nvCxnSpPr>
        <p:spPr>
          <a:xfrm flipH="1" flipV="1" rot="5400000">
            <a:off x="3015000" y="2837520"/>
            <a:ext cx="617760" cy="1124640"/>
          </a:xfrm>
          <a:prstGeom prst="bentConnector5">
            <a:avLst>
              <a:gd name="adj1" fmla="val -36734"/>
              <a:gd name="adj2" fmla="val 50784"/>
              <a:gd name="adj3" fmla="val 13749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71" idx="2"/>
            <a:endCxn id="135" idx="0"/>
          </p:cNvCxnSpPr>
          <p:nvPr/>
        </p:nvCxnSpPr>
        <p:spPr>
          <a:xfrm flipH="1" flipV="1" rot="5400000">
            <a:off x="4110480" y="2958120"/>
            <a:ext cx="554400" cy="946800"/>
          </a:xfrm>
          <a:prstGeom prst="bentConnector5">
            <a:avLst>
              <a:gd name="adj1" fmla="val -40935"/>
              <a:gd name="adj2" fmla="val -58577"/>
              <a:gd name="adj3" fmla="val 14184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2648160" y="4648320"/>
            <a:ext cx="661680" cy="252000"/>
            <a:chOff x="2648160" y="4648320"/>
            <a:chExt cx="661680" cy="252000"/>
          </a:xfrm>
        </p:grpSpPr>
        <p:sp>
          <p:nvSpPr>
            <p:cNvPr id="180" name=""/>
            <p:cNvSpPr/>
            <p:nvPr/>
          </p:nvSpPr>
          <p:spPr>
            <a:xfrm>
              <a:off x="2700360" y="46483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8160" y="471492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28720" y="4514760"/>
            <a:ext cx="662040" cy="252360"/>
            <a:chOff x="2628720" y="4514760"/>
            <a:chExt cx="662040" cy="252360"/>
          </a:xfrm>
        </p:grpSpPr>
        <p:sp>
          <p:nvSpPr>
            <p:cNvPr id="183" name=""/>
            <p:cNvSpPr/>
            <p:nvPr/>
          </p:nvSpPr>
          <p:spPr>
            <a:xfrm>
              <a:off x="2681280" y="4514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28720" y="45817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608200" y="43005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del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0" y="42210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2"/>
            <a:endCxn id="185" idx="0"/>
          </p:cNvCxnSpPr>
          <p:nvPr/>
        </p:nvCxnSpPr>
        <p:spPr>
          <a:xfrm flipV="1" rot="16200000">
            <a:off x="3133080" y="4107600"/>
            <a:ext cx="590760" cy="976680"/>
          </a:xfrm>
          <a:prstGeom prst="bentConnector5">
            <a:avLst>
              <a:gd name="adj1" fmla="val -38414"/>
              <a:gd name="adj2" fmla="val -46497"/>
              <a:gd name="adj3" fmla="val 13926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8" name=""/>
          <p:cNvSpPr/>
          <p:nvPr/>
        </p:nvSpPr>
        <p:spPr>
          <a:xfrm>
            <a:off x="5898600" y="7095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0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4920" y="70956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40080" y="4695840"/>
            <a:ext cx="661680" cy="252360"/>
            <a:chOff x="1540080" y="4695840"/>
            <a:chExt cx="661680" cy="252360"/>
          </a:xfrm>
        </p:grpSpPr>
        <p:sp>
          <p:nvSpPr>
            <p:cNvPr id="191" name=""/>
            <p:cNvSpPr/>
            <p:nvPr/>
          </p:nvSpPr>
          <p:spPr>
            <a:xfrm>
              <a:off x="1592280" y="4695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40080" y="476280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20640" y="4562640"/>
            <a:ext cx="662040" cy="252000"/>
            <a:chOff x="1520640" y="4562640"/>
            <a:chExt cx="662040" cy="252000"/>
          </a:xfrm>
        </p:grpSpPr>
        <p:sp>
          <p:nvSpPr>
            <p:cNvPr id="194" name=""/>
            <p:cNvSpPr/>
            <p:nvPr/>
          </p:nvSpPr>
          <p:spPr>
            <a:xfrm>
              <a:off x="1573200" y="45626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0640" y="46292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500120" y="43480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fi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05360" y="50943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0" idx="2"/>
            <a:endCxn id="196" idx="0"/>
          </p:cNvCxnSpPr>
          <p:nvPr/>
        </p:nvCxnSpPr>
        <p:spPr>
          <a:xfrm flipV="1" rot="16200000">
            <a:off x="2150640" y="4029120"/>
            <a:ext cx="536400" cy="1173600"/>
          </a:xfrm>
          <a:prstGeom prst="bentConnector5">
            <a:avLst>
              <a:gd name="adj1" fmla="val -46004"/>
              <a:gd name="adj2" fmla="val 48849"/>
              <a:gd name="adj3" fmla="val 14331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9" name=""/>
          <p:cNvGrpSpPr/>
          <p:nvPr/>
        </p:nvGrpSpPr>
        <p:grpSpPr>
          <a:xfrm>
            <a:off x="3578400" y="5622840"/>
            <a:ext cx="661680" cy="252360"/>
            <a:chOff x="3578400" y="5622840"/>
            <a:chExt cx="661680" cy="252360"/>
          </a:xfrm>
        </p:grpSpPr>
        <p:sp>
          <p:nvSpPr>
            <p:cNvPr id="200" name=""/>
            <p:cNvSpPr/>
            <p:nvPr/>
          </p:nvSpPr>
          <p:spPr>
            <a:xfrm>
              <a:off x="3630600" y="5622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78400" y="568980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558960" y="5489640"/>
            <a:ext cx="662040" cy="252360"/>
            <a:chOff x="3558960" y="5489640"/>
            <a:chExt cx="662040" cy="252360"/>
          </a:xfrm>
        </p:grpSpPr>
        <p:sp>
          <p:nvSpPr>
            <p:cNvPr id="203" name=""/>
            <p:cNvSpPr/>
            <p:nvPr/>
          </p:nvSpPr>
          <p:spPr>
            <a:xfrm>
              <a:off x="3611520" y="5489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58960" y="55566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538440" y="527544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2" idx="2"/>
            <a:endCxn id="205" idx="0"/>
          </p:cNvCxnSpPr>
          <p:nvPr/>
        </p:nvCxnSpPr>
        <p:spPr>
          <a:xfrm flipH="1" rot="16200000">
            <a:off x="2655000" y="4059720"/>
            <a:ext cx="327600" cy="2103840"/>
          </a:xfrm>
          <a:prstGeom prst="bentConnector5">
            <a:avLst>
              <a:gd name="adj1" fmla="val 69306"/>
              <a:gd name="adj2" fmla="val 47407"/>
              <a:gd name="adj3" fmla="val 292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7" name=""/>
          <p:cNvSpPr/>
          <p:nvPr/>
        </p:nvSpPr>
        <p:spPr>
          <a:xfrm>
            <a:off x="3524400" y="610560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1" idx="2"/>
            <a:endCxn id="207" idx="0"/>
          </p:cNvCxnSpPr>
          <p:nvPr/>
        </p:nvCxnSpPr>
        <p:spPr>
          <a:xfrm>
            <a:off x="3805200" y="5875200"/>
            <a:ext cx="1440" cy="230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9" name=""/>
          <p:cNvSpPr/>
          <p:nvPr/>
        </p:nvSpPr>
        <p:spPr>
          <a:xfrm>
            <a:off x="3576960" y="62514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2800" y="62737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7" idx="3"/>
            <a:endCxn id="210" idx="2"/>
          </p:cNvCxnSpPr>
          <p:nvPr/>
        </p:nvCxnSpPr>
        <p:spPr>
          <a:xfrm flipV="1">
            <a:off x="4087800" y="6343560"/>
            <a:ext cx="135360" cy="6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2" name=""/>
          <p:cNvSpPr/>
          <p:nvPr/>
        </p:nvSpPr>
        <p:spPr>
          <a:xfrm>
            <a:off x="3993120" y="61848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8280" y="683424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a DGPOP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60560" y="65689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06840" y="73468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2"/>
            <a:endCxn id="215" idx="0"/>
          </p:cNvCxnSpPr>
          <p:nvPr/>
        </p:nvCxnSpPr>
        <p:spPr>
          <a:xfrm flipH="1">
            <a:off x="3938760" y="7139160"/>
            <a:ext cx="1800" cy="208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7" name=""/>
          <p:cNvCxnSpPr>
            <a:stCxn id="207" idx="2"/>
            <a:endCxn id="213" idx="0"/>
          </p:cNvCxnSpPr>
          <p:nvPr/>
        </p:nvCxnSpPr>
        <p:spPr>
          <a:xfrm flipH="1" rot="16200000">
            <a:off x="3753360" y="6647400"/>
            <a:ext cx="240120" cy="134280"/>
          </a:xfrm>
          <a:prstGeom prst="bentConnector3">
            <a:avLst>
              <a:gd name="adj1" fmla="val 5045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5T20:31:20Z</dcterms:modified>
  <cp:revision>46</cp:revision>
  <dc:subject/>
  <dc:title>Presentación de PowerPoint</dc:title>
</cp:coreProperties>
</file>