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884160"/>
            <a:chOff x="304920" y="228600"/>
            <a:chExt cx="6324480" cy="884160"/>
          </a:xfrm>
        </p:grpSpPr>
        <p:sp>
          <p:nvSpPr>
            <p:cNvPr id="1" name=""/>
            <p:cNvSpPr/>
            <p:nvPr/>
          </p:nvSpPr>
          <p:spPr>
            <a:xfrm>
              <a:off x="5638680" y="68580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Hoja:  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68580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mbre del Procedimiento:para elaborar el “Diagnóstico de necesidades y oportunidades sobre Gerencia Estratégica en Salud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2552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2552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12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2552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6858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238040"/>
            <a:chOff x="304920" y="7848720"/>
            <a:chExt cx="6324480" cy="1238040"/>
          </a:xfrm>
        </p:grpSpPr>
        <p:sp>
          <p:nvSpPr>
            <p:cNvPr id="18" name=""/>
            <p:cNvSpPr/>
            <p:nvPr/>
          </p:nvSpPr>
          <p:spPr>
            <a:xfrm>
              <a:off x="4800600" y="805824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Autoriz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5824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vis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5824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abor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5824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651880"/>
              <a:ext cx="18288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651880"/>
              <a:ext cx="19051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651880"/>
              <a:ext cx="19810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651880"/>
              <a:ext cx="6094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ech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46936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46936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46936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46936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93240" indent="-9324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irm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4076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4076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G. JUAN CARLOS TRUJILLO 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4076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TOMÁS GABINO ROME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40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CONTROL DE EMIS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407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4693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651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9086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238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238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582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58240"/>
              <a:ext cx="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58240"/>
              <a:ext cx="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58240"/>
              <a:ext cx="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24000" y="1454040"/>
            <a:ext cx="6130440" cy="6257880"/>
            <a:chOff x="324000" y="1454040"/>
            <a:chExt cx="6130440" cy="6257880"/>
          </a:xfrm>
        </p:grpSpPr>
        <p:sp>
          <p:nvSpPr>
            <p:cNvPr id="47" name=""/>
            <p:cNvSpPr/>
            <p:nvPr/>
          </p:nvSpPr>
          <p:spPr>
            <a:xfrm>
              <a:off x="5487120" y="1930320"/>
              <a:ext cx="9673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7120" y="1454040"/>
              <a:ext cx="967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49240" y="1930320"/>
              <a:ext cx="10375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49240" y="1454040"/>
              <a:ext cx="10375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ección de Sistem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8800" y="1930320"/>
              <a:ext cx="109044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8800" y="1454040"/>
              <a:ext cx="1090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Gerencia Estratég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930320"/>
              <a:ext cx="114840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10040" y="1454040"/>
              <a:ext cx="1148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73320" y="1930320"/>
              <a:ext cx="93636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3320" y="1454040"/>
              <a:ext cx="936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" y="1930320"/>
              <a:ext cx="9493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1454040"/>
              <a:ext cx="949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1454040"/>
              <a:ext cx="6130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7711920"/>
              <a:ext cx="6130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5444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1930320"/>
              <a:ext cx="613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7332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004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880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4924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712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400" y="114156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3360" y="628560"/>
            <a:ext cx="426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70800" y="2865600"/>
            <a:ext cx="662400" cy="252000"/>
            <a:chOff x="370800" y="2865600"/>
            <a:chExt cx="662400" cy="252000"/>
          </a:xfrm>
        </p:grpSpPr>
        <p:sp>
          <p:nvSpPr>
            <p:cNvPr id="108" name=""/>
            <p:cNvSpPr/>
            <p:nvPr/>
          </p:nvSpPr>
          <p:spPr>
            <a:xfrm>
              <a:off x="423720" y="2865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0800" y="2932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82640" y="3890880"/>
            <a:ext cx="662400" cy="252360"/>
            <a:chOff x="3482640" y="389088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3535560" y="389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82640" y="39578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355040" y="3198960"/>
            <a:ext cx="662400" cy="252000"/>
            <a:chOff x="1355040" y="3198960"/>
            <a:chExt cx="662400" cy="252000"/>
          </a:xfrm>
        </p:grpSpPr>
        <p:sp>
          <p:nvSpPr>
            <p:cNvPr id="114" name=""/>
            <p:cNvSpPr/>
            <p:nvPr/>
          </p:nvSpPr>
          <p:spPr>
            <a:xfrm>
              <a:off x="1407960" y="31989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5040" y="3265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30560" y="3059280"/>
            <a:ext cx="661680" cy="252000"/>
            <a:chOff x="1330560" y="3059280"/>
            <a:chExt cx="661680" cy="252000"/>
          </a:xfrm>
        </p:grpSpPr>
        <p:sp>
          <p:nvSpPr>
            <p:cNvPr id="117" name=""/>
            <p:cNvSpPr/>
            <p:nvPr/>
          </p:nvSpPr>
          <p:spPr>
            <a:xfrm>
              <a:off x="1382760" y="3059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0560" y="31258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8760" y="2720880"/>
            <a:ext cx="661320" cy="252360"/>
            <a:chOff x="338760" y="2720880"/>
            <a:chExt cx="661320" cy="252360"/>
          </a:xfrm>
        </p:grpSpPr>
        <p:sp>
          <p:nvSpPr>
            <p:cNvPr id="120" name=""/>
            <p:cNvSpPr/>
            <p:nvPr/>
          </p:nvSpPr>
          <p:spPr>
            <a:xfrm>
              <a:off x="390600" y="2720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8760" y="278784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760" y="219384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960" y="24987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cta lin.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iagno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0640" y="234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3" idx="2"/>
            <a:endCxn id="124" idx="0"/>
          </p:cNvCxnSpPr>
          <p:nvPr/>
        </p:nvCxnSpPr>
        <p:spPr>
          <a:xfrm flipH="1">
            <a:off x="704880" y="2346480"/>
            <a:ext cx="21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1343160" y="28321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5800" y="2682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9" idx="2"/>
            <a:endCxn id="127" idx="0"/>
          </p:cNvCxnSpPr>
          <p:nvPr/>
        </p:nvCxnSpPr>
        <p:spPr>
          <a:xfrm flipH="1" flipV="1" rot="5400000">
            <a:off x="1029960" y="2499840"/>
            <a:ext cx="285840" cy="950400"/>
          </a:xfrm>
          <a:prstGeom prst="bentConnector5">
            <a:avLst>
              <a:gd name="adj1" fmla="val -87894"/>
              <a:gd name="adj2" fmla="val 156422"/>
              <a:gd name="adj3" fmla="val 18121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0" name=""/>
          <p:cNvGrpSpPr/>
          <p:nvPr/>
        </p:nvGrpSpPr>
        <p:grpSpPr>
          <a:xfrm>
            <a:off x="3454560" y="3753000"/>
            <a:ext cx="661680" cy="252000"/>
            <a:chOff x="3454560" y="3753000"/>
            <a:chExt cx="661680" cy="252000"/>
          </a:xfrm>
        </p:grpSpPr>
        <p:sp>
          <p:nvSpPr>
            <p:cNvPr id="131" name=""/>
            <p:cNvSpPr/>
            <p:nvPr/>
          </p:nvSpPr>
          <p:spPr>
            <a:xfrm>
              <a:off x="3506760" y="3753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4560" y="38196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476520" y="35258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linea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iagc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c. Vo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5520" y="3376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15" idx="2"/>
            <a:endCxn id="136" idx="0"/>
          </p:cNvCxnSpPr>
          <p:nvPr/>
        </p:nvCxnSpPr>
        <p:spPr>
          <a:xfrm flipH="1" flipV="1" rot="5400000">
            <a:off x="2056320" y="2760840"/>
            <a:ext cx="316080" cy="1064520"/>
          </a:xfrm>
          <a:prstGeom prst="bentConnector5">
            <a:avLst>
              <a:gd name="adj1" fmla="val -71835"/>
              <a:gd name="adj2" fmla="val 150372"/>
              <a:gd name="adj3" fmla="val 17343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7" name=""/>
          <p:cNvCxnSpPr>
            <a:stCxn id="112" idx="2"/>
            <a:endCxn id="138" idx="0"/>
          </p:cNvCxnSpPr>
          <p:nvPr/>
        </p:nvCxnSpPr>
        <p:spPr>
          <a:xfrm rot="5400000">
            <a:off x="3081960" y="3769560"/>
            <a:ext cx="354600" cy="1101960"/>
          </a:xfrm>
          <a:prstGeom prst="bentConnector5">
            <a:avLst>
              <a:gd name="adj1" fmla="val 64024"/>
              <a:gd name="adj2" fmla="val 50784"/>
              <a:gd name="adj3" fmla="val 345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9" name=""/>
          <p:cNvGrpSpPr/>
          <p:nvPr/>
        </p:nvGrpSpPr>
        <p:grpSpPr>
          <a:xfrm>
            <a:off x="2447280" y="3500280"/>
            <a:ext cx="662400" cy="252360"/>
            <a:chOff x="2447280" y="3500280"/>
            <a:chExt cx="662400" cy="252360"/>
          </a:xfrm>
        </p:grpSpPr>
        <p:sp>
          <p:nvSpPr>
            <p:cNvPr id="140" name=""/>
            <p:cNvSpPr/>
            <p:nvPr/>
          </p:nvSpPr>
          <p:spPr>
            <a:xfrm>
              <a:off x="2500200" y="3500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7280" y="35672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428920" y="3362400"/>
            <a:ext cx="661680" cy="252360"/>
            <a:chOff x="2428920" y="3362400"/>
            <a:chExt cx="661680" cy="252360"/>
          </a:xfrm>
        </p:grpSpPr>
        <p:sp>
          <p:nvSpPr>
            <p:cNvPr id="143" name=""/>
            <p:cNvSpPr/>
            <p:nvPr/>
          </p:nvSpPr>
          <p:spPr>
            <a:xfrm>
              <a:off x="2481120" y="3362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28920" y="34293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41520" y="3135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68840" y="2954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0" idx="2"/>
            <a:endCxn id="133" idx="0"/>
          </p:cNvCxnSpPr>
          <p:nvPr/>
        </p:nvCxnSpPr>
        <p:spPr>
          <a:xfrm flipH="1" flipV="1" rot="5400000">
            <a:off x="3187800" y="3142800"/>
            <a:ext cx="210960" cy="976680"/>
          </a:xfrm>
          <a:prstGeom prst="bentConnector5">
            <a:avLst>
              <a:gd name="adj1" fmla="val -117094"/>
              <a:gd name="adj2" fmla="val -54977"/>
              <a:gd name="adj3" fmla="val 22239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7" name=""/>
          <p:cNvGrpSpPr/>
          <p:nvPr/>
        </p:nvGrpSpPr>
        <p:grpSpPr>
          <a:xfrm>
            <a:off x="2409480" y="4862520"/>
            <a:ext cx="662400" cy="252360"/>
            <a:chOff x="2409480" y="4862520"/>
            <a:chExt cx="662400" cy="252360"/>
          </a:xfrm>
        </p:grpSpPr>
        <p:sp>
          <p:nvSpPr>
            <p:cNvPr id="148" name=""/>
            <p:cNvSpPr/>
            <p:nvPr/>
          </p:nvSpPr>
          <p:spPr>
            <a:xfrm>
              <a:off x="2462400" y="4862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9480" y="4929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381400" y="4724280"/>
            <a:ext cx="661680" cy="252360"/>
            <a:chOff x="2381400" y="4724280"/>
            <a:chExt cx="661680" cy="252360"/>
          </a:xfrm>
        </p:grpSpPr>
        <p:sp>
          <p:nvSpPr>
            <p:cNvPr id="151" name=""/>
            <p:cNvSpPr/>
            <p:nvPr/>
          </p:nvSpPr>
          <p:spPr>
            <a:xfrm>
              <a:off x="2433600" y="472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81400" y="4791240"/>
              <a:ext cx="43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03360" y="449748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y verif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54120" y="52452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81320" y="542304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</p:cNvCxnSpPr>
          <p:nvPr/>
        </p:nvCxnSpPr>
        <p:spPr>
          <a:xfrm>
            <a:off x="3017880" y="5489640"/>
            <a:ext cx="1706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6" name=""/>
          <p:cNvSpPr/>
          <p:nvPr/>
        </p:nvSpPr>
        <p:spPr>
          <a:xfrm>
            <a:off x="2926440" y="53276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79840" y="565164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49" idx="2"/>
            <a:endCxn id="153" idx="0"/>
          </p:cNvCxnSpPr>
          <p:nvPr/>
        </p:nvCxnSpPr>
        <p:spPr>
          <a:xfrm flipH="1">
            <a:off x="2736000" y="5114880"/>
            <a:ext cx="1080" cy="13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2897280" y="4327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03240" y="6278400"/>
            <a:ext cx="662400" cy="252360"/>
            <a:chOff x="3603240" y="6278400"/>
            <a:chExt cx="662400" cy="252360"/>
          </a:xfrm>
        </p:grpSpPr>
        <p:sp>
          <p:nvSpPr>
            <p:cNvPr id="161" name=""/>
            <p:cNvSpPr/>
            <p:nvPr/>
          </p:nvSpPr>
          <p:spPr>
            <a:xfrm>
              <a:off x="3656160" y="6278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3240" y="63453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575160" y="6140520"/>
            <a:ext cx="661680" cy="252360"/>
            <a:chOff x="3575160" y="6140520"/>
            <a:chExt cx="661680" cy="252360"/>
          </a:xfrm>
        </p:grpSpPr>
        <p:sp>
          <p:nvSpPr>
            <p:cNvPr id="164" name=""/>
            <p:cNvSpPr/>
            <p:nvPr/>
          </p:nvSpPr>
          <p:spPr>
            <a:xfrm>
              <a:off x="3627360" y="6140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5160" y="6207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97120" y="59133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VoBo,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53" idx="2"/>
            <a:endCxn id="166" idx="0"/>
          </p:cNvCxnSpPr>
          <p:nvPr/>
        </p:nvCxnSpPr>
        <p:spPr>
          <a:xfrm flipH="1" rot="16200000">
            <a:off x="3229200" y="5240520"/>
            <a:ext cx="179640" cy="1166400"/>
          </a:xfrm>
          <a:prstGeom prst="bentConnector5">
            <a:avLst>
              <a:gd name="adj1" fmla="val 130321"/>
              <a:gd name="adj2" fmla="val 49150"/>
              <a:gd name="adj3" fmla="val -2951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8" name=""/>
          <p:cNvSpPr/>
          <p:nvPr/>
        </p:nvSpPr>
        <p:spPr>
          <a:xfrm>
            <a:off x="4008600" y="57675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22800" y="7097760"/>
            <a:ext cx="661680" cy="252360"/>
            <a:chOff x="2422800" y="7097760"/>
            <a:chExt cx="661680" cy="252360"/>
          </a:xfrm>
        </p:grpSpPr>
        <p:sp>
          <p:nvSpPr>
            <p:cNvPr id="170" name=""/>
            <p:cNvSpPr/>
            <p:nvPr/>
          </p:nvSpPr>
          <p:spPr>
            <a:xfrm>
              <a:off x="2475000" y="7097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2800" y="71647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93280" y="6959520"/>
            <a:ext cx="662400" cy="252360"/>
            <a:chOff x="2393280" y="6959520"/>
            <a:chExt cx="662400" cy="252360"/>
          </a:xfrm>
        </p:grpSpPr>
        <p:sp>
          <p:nvSpPr>
            <p:cNvPr id="173" name=""/>
            <p:cNvSpPr/>
            <p:nvPr/>
          </p:nvSpPr>
          <p:spPr>
            <a:xfrm>
              <a:off x="2446200" y="6959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93280" y="7026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416320" y="673272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7440" y="6567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2" idx="2"/>
            <a:endCxn id="175" idx="0"/>
          </p:cNvCxnSpPr>
          <p:nvPr/>
        </p:nvCxnSpPr>
        <p:spPr>
          <a:xfrm rot="5400000">
            <a:off x="3224520" y="6027120"/>
            <a:ext cx="202320" cy="1209600"/>
          </a:xfrm>
          <a:prstGeom prst="bentConnector5">
            <a:avLst>
              <a:gd name="adj1" fmla="val 112299"/>
              <a:gd name="adj2" fmla="val 50759"/>
              <a:gd name="adj3" fmla="val -1461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8" name=""/>
          <p:cNvSpPr/>
          <p:nvPr/>
        </p:nvSpPr>
        <p:spPr>
          <a:xfrm>
            <a:off x="2641680" y="741060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8" idx="0"/>
          </p:cNvCxnSpPr>
          <p:nvPr/>
        </p:nvCxnSpPr>
        <p:spPr>
          <a:xfrm>
            <a:off x="2709000" y="7350120"/>
            <a:ext cx="9360" cy="60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0" name=""/>
          <p:cNvSpPr/>
          <p:nvPr/>
        </p:nvSpPr>
        <p:spPr>
          <a:xfrm>
            <a:off x="5822280" y="687240"/>
            <a:ext cx="60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1  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374120" y="2657520"/>
            <a:ext cx="662400" cy="252360"/>
            <a:chOff x="1374120" y="2657520"/>
            <a:chExt cx="662400" cy="252360"/>
          </a:xfrm>
        </p:grpSpPr>
        <p:sp>
          <p:nvSpPr>
            <p:cNvPr id="182" name=""/>
            <p:cNvSpPr/>
            <p:nvPr/>
          </p:nvSpPr>
          <p:spPr>
            <a:xfrm>
              <a:off x="1427040" y="2657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74120" y="2724480"/>
              <a:ext cx="61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55040" y="2523960"/>
            <a:ext cx="662400" cy="252360"/>
            <a:chOff x="1355040" y="2523960"/>
            <a:chExt cx="662400" cy="252360"/>
          </a:xfrm>
        </p:grpSpPr>
        <p:sp>
          <p:nvSpPr>
            <p:cNvPr id="185" name=""/>
            <p:cNvSpPr/>
            <p:nvPr/>
          </p:nvSpPr>
          <p:spPr>
            <a:xfrm>
              <a:off x="1407960" y="2523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55040" y="25909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833480" y="2173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5760" y="205416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90" idx="0"/>
          </p:cNvCxnSpPr>
          <p:nvPr/>
        </p:nvCxnSpPr>
        <p:spPr>
          <a:xfrm>
            <a:off x="1701360" y="2199960"/>
            <a:ext cx="3960" cy="122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1" name=""/>
          <p:cNvGrpSpPr/>
          <p:nvPr/>
        </p:nvGrpSpPr>
        <p:grpSpPr>
          <a:xfrm>
            <a:off x="3448440" y="3603600"/>
            <a:ext cx="661680" cy="252360"/>
            <a:chOff x="3448440" y="3603600"/>
            <a:chExt cx="661680" cy="252360"/>
          </a:xfrm>
        </p:grpSpPr>
        <p:sp>
          <p:nvSpPr>
            <p:cNvPr id="192" name=""/>
            <p:cNvSpPr/>
            <p:nvPr/>
          </p:nvSpPr>
          <p:spPr>
            <a:xfrm>
              <a:off x="3500640" y="3603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8440" y="36705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434760" y="3483000"/>
            <a:ext cx="662400" cy="252360"/>
            <a:chOff x="3434760" y="3483000"/>
            <a:chExt cx="662400" cy="252360"/>
          </a:xfrm>
        </p:grpSpPr>
        <p:sp>
          <p:nvSpPr>
            <p:cNvPr id="195" name=""/>
            <p:cNvSpPr/>
            <p:nvPr/>
          </p:nvSpPr>
          <p:spPr>
            <a:xfrm>
              <a:off x="3487680" y="3483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34760" y="3549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408480" y="32558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memo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07080" y="311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83" idx="2"/>
            <a:endCxn id="197" idx="0"/>
          </p:cNvCxnSpPr>
          <p:nvPr/>
        </p:nvCxnSpPr>
        <p:spPr>
          <a:xfrm flipH="1" rot="16200000">
            <a:off x="2536560" y="2052720"/>
            <a:ext cx="347760" cy="2057760"/>
          </a:xfrm>
          <a:prstGeom prst="bentConnector3">
            <a:avLst>
              <a:gd name="adj1" fmla="val 4974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0" name=""/>
          <p:cNvCxnSpPr>
            <a:stCxn id="192" idx="2"/>
            <a:endCxn id="201" idx="0"/>
          </p:cNvCxnSpPr>
          <p:nvPr/>
        </p:nvCxnSpPr>
        <p:spPr>
          <a:xfrm flipH="1" rot="16200000">
            <a:off x="3724920" y="3919320"/>
            <a:ext cx="161280" cy="2520"/>
          </a:xfrm>
          <a:prstGeom prst="bentConnector3">
            <a:avLst>
              <a:gd name="adj1" fmla="val 543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0" name=""/>
          <p:cNvSpPr/>
          <p:nvPr/>
        </p:nvSpPr>
        <p:spPr>
          <a:xfrm>
            <a:off x="1400040" y="23223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0" y="40006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6960" y="41464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9400" y="417528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1" idx="3"/>
            <a:endCxn id="203" idx="2"/>
          </p:cNvCxnSpPr>
          <p:nvPr/>
        </p:nvCxnSpPr>
        <p:spPr>
          <a:xfrm>
            <a:off x="4087800" y="4244760"/>
            <a:ext cx="20232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5" name=""/>
          <p:cNvSpPr/>
          <p:nvPr/>
        </p:nvSpPr>
        <p:spPr>
          <a:xfrm>
            <a:off x="4021560" y="40892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1" idx="2"/>
            <a:endCxn id="207" idx="0"/>
          </p:cNvCxnSpPr>
          <p:nvPr/>
        </p:nvCxnSpPr>
        <p:spPr>
          <a:xfrm>
            <a:off x="3806640" y="4489560"/>
            <a:ext cx="1080" cy="202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8" name=""/>
          <p:cNvSpPr/>
          <p:nvPr/>
        </p:nvSpPr>
        <p:spPr>
          <a:xfrm>
            <a:off x="3589200" y="44830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75080" y="46911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cia la oper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l docum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1840" y="520056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7" idx="2"/>
            <a:endCxn id="209" idx="0"/>
          </p:cNvCxnSpPr>
          <p:nvPr/>
        </p:nvCxnSpPr>
        <p:spPr>
          <a:xfrm flipH="1">
            <a:off x="3803040" y="4995360"/>
            <a:ext cx="3960" cy="20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1" name=""/>
          <p:cNvSpPr/>
          <p:nvPr/>
        </p:nvSpPr>
        <p:spPr>
          <a:xfrm>
            <a:off x="5822280" y="687240"/>
            <a:ext cx="60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2    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9:46:22Z</dcterms:modified>
  <cp:revision>69</cp:revision>
  <dc:subject/>
  <dc:title>Presentación de PowerPoint</dc:title>
</cp:coreProperties>
</file>