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9640"/>
            <a:ext cx="6332400" cy="5856480"/>
            <a:chOff x="304920" y="1709640"/>
            <a:chExt cx="6332400" cy="5856480"/>
          </a:xfrm>
        </p:grpSpPr>
        <p:sp>
          <p:nvSpPr>
            <p:cNvPr id="1" name=""/>
            <p:cNvSpPr/>
            <p:nvPr/>
          </p:nvSpPr>
          <p:spPr>
            <a:xfrm>
              <a:off x="5181480" y="2298600"/>
              <a:ext cx="14558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741840" y="2298600"/>
              <a:ext cx="1439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413080" y="2298600"/>
              <a:ext cx="132876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360440" y="229860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04920" y="229860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181480" y="1709640"/>
              <a:ext cx="14558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rectivos en los Estados de los Servicios   de Salud</a:t>
              </a: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741840" y="1709640"/>
              <a:ext cx="1439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Interculturalidad en los Servicio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413080" y="1709640"/>
              <a:ext cx="13287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Medicina Tradicional y Desarrollo Intercultur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6044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Diseño de Sistemas de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04920" y="2298600"/>
              <a:ext cx="633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7566120"/>
              <a:ext cx="6332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1709640"/>
              <a:ext cx="0" cy="5856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6044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41308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74184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18148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637320" y="1709640"/>
              <a:ext cx="0" cy="5856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60440" y="1709640"/>
              <a:ext cx="238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04920" y="1709640"/>
              <a:ext cx="105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741840" y="1709640"/>
              <a:ext cx="2895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3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5 de 6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</a:t>
              </a:r>
              <a:r>
                <a:rPr b="0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ra la implantación del Modelo Intercultural, en la Sensibilización y capacitación del personal de salud en operación.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Medicina Tradicional y Desarrollo Intercultural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39" name=""/>
          <p:cNvGrpSpPr/>
          <p:nvPr/>
        </p:nvGrpSpPr>
        <p:grpSpPr>
          <a:xfrm>
            <a:off x="320760" y="7710480"/>
            <a:ext cx="6324480" cy="1201680"/>
            <a:chOff x="320760" y="7710480"/>
            <a:chExt cx="6324480" cy="1201680"/>
          </a:xfrm>
        </p:grpSpPr>
        <p:sp>
          <p:nvSpPr>
            <p:cNvPr id="40" name=""/>
            <p:cNvSpPr/>
            <p:nvPr/>
          </p:nvSpPr>
          <p:spPr>
            <a:xfrm>
              <a:off x="4816440" y="793908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911320" y="793908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930240" y="793908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20760" y="793908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16440" y="869940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4 DE AGOSTO 2005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911320" y="869940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4 DE AGOSTO 2005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30240" y="869940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4 DE AGOSTO 2005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760" y="869940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16440" y="848664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11320" y="848664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30240" y="848664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0760" y="848664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16440" y="8151840"/>
              <a:ext cx="18288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R. JOSE ALEJANDRO ALMAGUER GONZÁLEZ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11320" y="8151840"/>
              <a:ext cx="19051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ICENTE VARGAS VITE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30240" y="815184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OEMÍ LUGO MALDONAD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0760" y="8151840"/>
              <a:ext cx="6094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0760" y="771048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20760" y="771048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0760" y="815184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0760" y="848664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0760" y="869940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0760" y="891216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20760" y="7710480"/>
              <a:ext cx="0" cy="1201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45240" y="7710480"/>
              <a:ext cx="0" cy="1201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0760" y="7939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0240" y="7939080"/>
              <a:ext cx="0" cy="9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11320" y="7939080"/>
              <a:ext cx="0" cy="9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16440" y="7939080"/>
              <a:ext cx="0" cy="9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2844720" y="3033720"/>
            <a:ext cx="587160" cy="250920"/>
            <a:chOff x="2844720" y="3033720"/>
            <a:chExt cx="587160" cy="250920"/>
          </a:xfrm>
        </p:grpSpPr>
        <p:sp>
          <p:nvSpPr>
            <p:cNvPr id="105" name=""/>
            <p:cNvSpPr/>
            <p:nvPr/>
          </p:nvSpPr>
          <p:spPr>
            <a:xfrm>
              <a:off x="2892240" y="3033720"/>
              <a:ext cx="53964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44720" y="3113280"/>
              <a:ext cx="50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50800" y="2979720"/>
            <a:ext cx="587160" cy="250920"/>
            <a:chOff x="550800" y="2979720"/>
            <a:chExt cx="587160" cy="250920"/>
          </a:xfrm>
        </p:grpSpPr>
        <p:sp>
          <p:nvSpPr>
            <p:cNvPr id="108" name=""/>
            <p:cNvSpPr/>
            <p:nvPr/>
          </p:nvSpPr>
          <p:spPr>
            <a:xfrm>
              <a:off x="598320" y="2979720"/>
              <a:ext cx="53964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0800" y="3059280"/>
              <a:ext cx="50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87600" y="3006720"/>
            <a:ext cx="586800" cy="250920"/>
            <a:chOff x="1587600" y="3006720"/>
            <a:chExt cx="586800" cy="250920"/>
          </a:xfrm>
        </p:grpSpPr>
        <p:sp>
          <p:nvSpPr>
            <p:cNvPr id="111" name=""/>
            <p:cNvSpPr/>
            <p:nvPr/>
          </p:nvSpPr>
          <p:spPr>
            <a:xfrm>
              <a:off x="1635120" y="3006720"/>
              <a:ext cx="5392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87600" y="3086280"/>
              <a:ext cx="50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749320" y="6508800"/>
            <a:ext cx="490320" cy="250920"/>
            <a:chOff x="2749320" y="6508800"/>
            <a:chExt cx="490320" cy="250920"/>
          </a:xfrm>
        </p:grpSpPr>
        <p:sp>
          <p:nvSpPr>
            <p:cNvPr id="114" name=""/>
            <p:cNvSpPr/>
            <p:nvPr/>
          </p:nvSpPr>
          <p:spPr>
            <a:xfrm>
              <a:off x="2789280" y="6508800"/>
              <a:ext cx="45036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49320" y="6588360"/>
              <a:ext cx="3970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Inform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7960" y="243828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274320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Iniciar el proceso d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Implantació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05120" y="26035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8" idx="2"/>
            <a:endCxn id="119" idx="0"/>
          </p:cNvCxnSpPr>
          <p:nvPr/>
        </p:nvCxnSpPr>
        <p:spPr>
          <a:xfrm flipH="1">
            <a:off x="837360" y="2590560"/>
            <a:ext cx="2520" cy="153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2" name=""/>
          <p:cNvSpPr/>
          <p:nvPr/>
        </p:nvSpPr>
        <p:spPr>
          <a:xfrm>
            <a:off x="1562040" y="2765520"/>
            <a:ext cx="609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ir en la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búsqueda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e contactos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estatales</a:t>
            </a: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7320" y="26226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56120" y="2646360"/>
            <a:ext cx="226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27360" y="5661000"/>
            <a:ext cx="52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0760" y="708660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TERMIN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4641840"/>
            <a:ext cx="226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08" idx="2"/>
            <a:endCxn id="122" idx="0"/>
          </p:cNvCxnSpPr>
          <p:nvPr/>
        </p:nvCxnSpPr>
        <p:spPr>
          <a:xfrm flipH="1" flipV="1" rot="5400000">
            <a:off x="1141920" y="2491200"/>
            <a:ext cx="451440" cy="999000"/>
          </a:xfrm>
          <a:prstGeom prst="bentConnector5">
            <a:avLst>
              <a:gd name="adj1" fmla="val -53870"/>
              <a:gd name="adj2" fmla="val 35904"/>
              <a:gd name="adj3" fmla="val 1506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11" idx="2"/>
            <a:endCxn id="130" idx="0"/>
          </p:cNvCxnSpPr>
          <p:nvPr/>
        </p:nvCxnSpPr>
        <p:spPr>
          <a:xfrm flipH="1" flipV="1" rot="5400000">
            <a:off x="2285640" y="2403720"/>
            <a:ext cx="457920" cy="1221480"/>
          </a:xfrm>
          <a:prstGeom prst="bentConnector5">
            <a:avLst>
              <a:gd name="adj1" fmla="val -53107"/>
              <a:gd name="adj2" fmla="val 48614"/>
              <a:gd name="adj3" fmla="val 1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05" idx="2"/>
            <a:endCxn id="132" idx="0"/>
          </p:cNvCxnSpPr>
          <p:nvPr/>
        </p:nvCxnSpPr>
        <p:spPr>
          <a:xfrm flipH="1" flipV="1" rot="5400000">
            <a:off x="3790800" y="2434680"/>
            <a:ext cx="207000" cy="1464480"/>
          </a:xfrm>
          <a:prstGeom prst="bentConnector5">
            <a:avLst>
              <a:gd name="adj1" fmla="val -117595"/>
              <a:gd name="adj2" fmla="val 48782"/>
              <a:gd name="adj3" fmla="val 2106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34" idx="2"/>
            <a:endCxn id="135" idx="0"/>
          </p:cNvCxnSpPr>
          <p:nvPr/>
        </p:nvCxnSpPr>
        <p:spPr>
          <a:xfrm flipV="1" rot="16200000">
            <a:off x="4963320" y="5144400"/>
            <a:ext cx="810360" cy="1470240"/>
          </a:xfrm>
          <a:prstGeom prst="bentConnector5">
            <a:avLst>
              <a:gd name="adj1" fmla="val -28222"/>
              <a:gd name="adj2" fmla="val 46338"/>
              <a:gd name="adj3" fmla="val 1282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233960" y="53197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14720" y="591984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748240" y="6348240"/>
            <a:ext cx="489960" cy="252360"/>
            <a:chOff x="2748240" y="6348240"/>
            <a:chExt cx="489960" cy="252360"/>
          </a:xfrm>
        </p:grpSpPr>
        <p:sp>
          <p:nvSpPr>
            <p:cNvPr id="139" name=""/>
            <p:cNvSpPr/>
            <p:nvPr/>
          </p:nvSpPr>
          <p:spPr>
            <a:xfrm>
              <a:off x="2787480" y="6348240"/>
              <a:ext cx="45072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48240" y="6415200"/>
              <a:ext cx="365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820960" y="278604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Arial"/>
              </a:rPr>
              <a:t>Identificación de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Arial"/>
              </a:rPr>
              <a:t>Instancias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Arial"/>
              </a:rPr>
              <a:t>de capacitación</a:t>
            </a:r>
            <a:r>
              <a:rPr b="0" lang="es-ES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MX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366440" y="3441600"/>
            <a:ext cx="561240" cy="259920"/>
            <a:chOff x="4366440" y="3441600"/>
            <a:chExt cx="561240" cy="259920"/>
          </a:xfrm>
        </p:grpSpPr>
        <p:sp>
          <p:nvSpPr>
            <p:cNvPr id="142" name=""/>
            <p:cNvSpPr/>
            <p:nvPr/>
          </p:nvSpPr>
          <p:spPr>
            <a:xfrm>
              <a:off x="4411440" y="3441600"/>
              <a:ext cx="516240" cy="259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66440" y="3524040"/>
              <a:ext cx="3438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348080" y="3306600"/>
            <a:ext cx="587160" cy="250920"/>
            <a:chOff x="4348080" y="3306600"/>
            <a:chExt cx="587160" cy="250920"/>
          </a:xfrm>
        </p:grpSpPr>
        <p:sp>
          <p:nvSpPr>
            <p:cNvPr id="145" name=""/>
            <p:cNvSpPr/>
            <p:nvPr/>
          </p:nvSpPr>
          <p:spPr>
            <a:xfrm>
              <a:off x="4395600" y="3306600"/>
              <a:ext cx="53964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48080" y="3386160"/>
              <a:ext cx="50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799160" y="2928960"/>
            <a:ext cx="226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21080" y="3063960"/>
            <a:ext cx="609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ifundir el Modelo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e Sensibilización /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ación</a:t>
            </a:r>
            <a:r>
              <a:rPr b="0" lang="es-ES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46800" y="3211560"/>
            <a:ext cx="227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000480" y="3662280"/>
            <a:ext cx="444240" cy="230760"/>
            <a:chOff x="6000480" y="3662280"/>
            <a:chExt cx="444240" cy="230760"/>
          </a:xfrm>
        </p:grpSpPr>
        <p:sp>
          <p:nvSpPr>
            <p:cNvPr id="150" name=""/>
            <p:cNvSpPr/>
            <p:nvPr/>
          </p:nvSpPr>
          <p:spPr>
            <a:xfrm>
              <a:off x="6035040" y="3662280"/>
              <a:ext cx="409680" cy="19224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00480" y="3723120"/>
              <a:ext cx="3286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816520" y="337968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Recep. del modelo y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ef. de acciones por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las Insti. Estatales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005520" y="5075280"/>
            <a:ext cx="487080" cy="261360"/>
            <a:chOff x="6005520" y="5075280"/>
            <a:chExt cx="487080" cy="261360"/>
          </a:xfrm>
        </p:grpSpPr>
        <p:sp>
          <p:nvSpPr>
            <p:cNvPr id="154" name=""/>
            <p:cNvSpPr/>
            <p:nvPr/>
          </p:nvSpPr>
          <p:spPr>
            <a:xfrm>
              <a:off x="6043680" y="5140080"/>
              <a:ext cx="448920" cy="1771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05520" y="5075280"/>
              <a:ext cx="328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888160" y="485460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dades d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Implantación</a:t>
            </a:r>
            <a:r>
              <a:rPr b="0" lang="es-ES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329000" y="5475240"/>
            <a:ext cx="609840" cy="627120"/>
            <a:chOff x="4329000" y="5475240"/>
            <a:chExt cx="609840" cy="627120"/>
          </a:xfrm>
        </p:grpSpPr>
        <p:grpSp>
          <p:nvGrpSpPr>
            <p:cNvPr id="158" name=""/>
            <p:cNvGrpSpPr/>
            <p:nvPr/>
          </p:nvGrpSpPr>
          <p:grpSpPr>
            <a:xfrm>
              <a:off x="4444920" y="5851440"/>
              <a:ext cx="490320" cy="250920"/>
              <a:chOff x="4444920" y="5851440"/>
              <a:chExt cx="490320" cy="250920"/>
            </a:xfrm>
          </p:grpSpPr>
          <p:sp>
            <p:nvSpPr>
              <p:cNvPr id="159" name=""/>
              <p:cNvSpPr/>
              <p:nvPr/>
            </p:nvSpPr>
            <p:spPr>
              <a:xfrm>
                <a:off x="4484520" y="5851440"/>
                <a:ext cx="450720" cy="25092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444920" y="5931000"/>
                <a:ext cx="39708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</a:rPr>
                  <a:t>Inform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4448520" y="5711760"/>
              <a:ext cx="489960" cy="252360"/>
              <a:chOff x="4448520" y="5711760"/>
              <a:chExt cx="489960" cy="252360"/>
            </a:xfrm>
          </p:grpSpPr>
          <p:sp>
            <p:nvSpPr>
              <p:cNvPr id="162" name=""/>
              <p:cNvSpPr/>
              <p:nvPr/>
            </p:nvSpPr>
            <p:spPr>
              <a:xfrm>
                <a:off x="4487760" y="5711760"/>
                <a:ext cx="450720" cy="25092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48520" y="5778720"/>
                <a:ext cx="3650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</a:rPr>
                  <a:t>Oficio</a:t>
                </a: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4329000" y="5475240"/>
              <a:ext cx="60984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solida inclu. de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puesta en prog.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l. de capacitació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594400" y="5310360"/>
            <a:ext cx="807840" cy="977760"/>
            <a:chOff x="5594400" y="5310360"/>
            <a:chExt cx="807840" cy="977760"/>
          </a:xfrm>
        </p:grpSpPr>
        <p:grpSp>
          <p:nvGrpSpPr>
            <p:cNvPr id="165" name=""/>
            <p:cNvGrpSpPr/>
            <p:nvPr/>
          </p:nvGrpSpPr>
          <p:grpSpPr>
            <a:xfrm>
              <a:off x="5905440" y="6037200"/>
              <a:ext cx="490320" cy="250920"/>
              <a:chOff x="5905440" y="6037200"/>
              <a:chExt cx="490320" cy="250920"/>
            </a:xfrm>
          </p:grpSpPr>
          <p:sp>
            <p:nvSpPr>
              <p:cNvPr id="166" name=""/>
              <p:cNvSpPr/>
              <p:nvPr/>
            </p:nvSpPr>
            <p:spPr>
              <a:xfrm>
                <a:off x="5945040" y="6037200"/>
                <a:ext cx="450720" cy="25092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905440" y="6116760"/>
                <a:ext cx="39708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</a:rPr>
                  <a:t>Inform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5907600" y="5886360"/>
              <a:ext cx="489600" cy="250920"/>
              <a:chOff x="5907600" y="5886360"/>
              <a:chExt cx="489600" cy="250920"/>
            </a:xfrm>
          </p:grpSpPr>
          <p:sp>
            <p:nvSpPr>
              <p:cNvPr id="168" name=""/>
              <p:cNvSpPr/>
              <p:nvPr/>
            </p:nvSpPr>
            <p:spPr>
              <a:xfrm>
                <a:off x="5946480" y="5886360"/>
                <a:ext cx="450720" cy="25092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907600" y="5965920"/>
                <a:ext cx="36216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00" spc="-1" strike="noStrike">
                    <a:solidFill>
                      <a:srgbClr val="000000"/>
                    </a:solidFill>
                    <a:latin typeface="Arial"/>
                  </a:rPr>
                  <a:t>Oficio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594400" y="559764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24680" y="5310360"/>
              <a:ext cx="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2760" y="5676840"/>
              <a:ext cx="609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Prop. de Inclusión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Al prog. Anual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De capacitació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631960" y="609912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Entrega de Informe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Final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97360" y="6757920"/>
            <a:ext cx="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452840" y="4605480"/>
            <a:ext cx="444240" cy="230760"/>
            <a:chOff x="4452840" y="4605480"/>
            <a:chExt cx="444240" cy="230760"/>
          </a:xfrm>
        </p:grpSpPr>
        <p:sp>
          <p:nvSpPr>
            <p:cNvPr id="176" name=""/>
            <p:cNvSpPr/>
            <p:nvPr/>
          </p:nvSpPr>
          <p:spPr>
            <a:xfrm>
              <a:off x="4487400" y="4605480"/>
              <a:ext cx="409680" cy="19224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52840" y="4666320"/>
              <a:ext cx="3286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5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880160" y="41972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94080" y="435924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Recibe req.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e Asesoría.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Prog. actividad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59" idx="2"/>
            <a:endCxn id="173" idx="0"/>
          </p:cNvCxnSpPr>
          <p:nvPr/>
        </p:nvCxnSpPr>
        <p:spPr>
          <a:xfrm rot="5400000">
            <a:off x="3817440" y="5206680"/>
            <a:ext cx="11880" cy="1774080"/>
          </a:xfrm>
          <a:prstGeom prst="bentConnector5">
            <a:avLst>
              <a:gd name="adj1" fmla="val 2184375"/>
              <a:gd name="adj2" fmla="val 47716"/>
              <a:gd name="adj3" fmla="val -19562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4583160" y="2576520"/>
            <a:ext cx="97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42" idx="2"/>
            <a:endCxn id="152" idx="0"/>
          </p:cNvCxnSpPr>
          <p:nvPr/>
        </p:nvCxnSpPr>
        <p:spPr>
          <a:xfrm flipH="1" flipV="1" rot="5400000">
            <a:off x="5240520" y="2807640"/>
            <a:ext cx="308880" cy="1451880"/>
          </a:xfrm>
          <a:prstGeom prst="bentConnector5">
            <a:avLst>
              <a:gd name="adj1" fmla="val -78763"/>
              <a:gd name="adj2" fmla="val 48338"/>
              <a:gd name="adj3" fmla="val 1742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51" idx="2"/>
            <a:endCxn id="179" idx="0"/>
          </p:cNvCxnSpPr>
          <p:nvPr/>
        </p:nvCxnSpPr>
        <p:spPr>
          <a:xfrm rot="5400000">
            <a:off x="5147640" y="3341520"/>
            <a:ext cx="469080" cy="1567440"/>
          </a:xfrm>
          <a:prstGeom prst="bentConnector3">
            <a:avLst>
              <a:gd name="adj1" fmla="val 497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6172200" y="4627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4800600"/>
            <a:ext cx="0" cy="1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48320" y="4968720"/>
            <a:ext cx="47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13440" y="4616280"/>
            <a:ext cx="1440" cy="35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4626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Noemi Lugo Maldonado</cp:lastModifiedBy>
  <dcterms:modified xsi:type="dcterms:W3CDTF">2005-08-08T15:48:12Z</dcterms:modified>
  <cp:revision>57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53122290</vt:r8>
  </property>
  <property fmtid="{D5CDD505-2E9C-101B-9397-08002B2CF9AE}" pid="3" name="_AuthorEmail">
    <vt:lpwstr>HERNANG@DGPEC-S01.SSA.com</vt:lpwstr>
  </property>
  <property fmtid="{D5CDD505-2E9C-101B-9397-08002B2CF9AE}" pid="4" name="_AuthorEmailDisplayName">
    <vt:lpwstr>HERNAN JOSE GARCIA RAMIREZ</vt:lpwstr>
  </property>
  <property fmtid="{D5CDD505-2E9C-101B-9397-08002B2CF9AE}" pid="5" name="_EmailSubject">
    <vt:lpwstr>docs manual</vt:lpwstr>
  </property>
</Properties>
</file>