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15080"/>
            <a:chOff x="304920" y="1709640"/>
            <a:chExt cx="6324480" cy="5815080"/>
          </a:xfrm>
        </p:grpSpPr>
        <p:sp>
          <p:nvSpPr>
            <p:cNvPr id="1" name=""/>
            <p:cNvSpPr/>
            <p:nvPr/>
          </p:nvSpPr>
          <p:spPr>
            <a:xfrm>
              <a:off x="557676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575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24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44640"/>
            <a:chOff x="304920" y="228600"/>
            <a:chExt cx="6324480" cy="94464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c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ordinar y desarrollar estudios de evaluación económica para determinar áreas de oportunidad y/o proyectos costo-efectivos innovadores susceptibles de inversión estratégica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Análisis de Innovaciones en los Servicios de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732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44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9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44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740040" y="3567240"/>
            <a:ext cx="662040" cy="252000"/>
            <a:chOff x="3740040" y="3567240"/>
            <a:chExt cx="662040" cy="252000"/>
          </a:xfrm>
        </p:grpSpPr>
        <p:sp>
          <p:nvSpPr>
            <p:cNvPr id="108" name=""/>
            <p:cNvSpPr/>
            <p:nvPr/>
          </p:nvSpPr>
          <p:spPr>
            <a:xfrm>
              <a:off x="3792600" y="35672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40040" y="3633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63360" y="3440160"/>
            <a:ext cx="662400" cy="252360"/>
            <a:chOff x="3663360" y="3440160"/>
            <a:chExt cx="662400" cy="252360"/>
          </a:xfrm>
        </p:grpSpPr>
        <p:sp>
          <p:nvSpPr>
            <p:cNvPr id="111" name=""/>
            <p:cNvSpPr/>
            <p:nvPr/>
          </p:nvSpPr>
          <p:spPr>
            <a:xfrm>
              <a:off x="3716280" y="34401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63360" y="35071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V="1" rot="16200000">
            <a:off x="3222720" y="4037040"/>
            <a:ext cx="319320" cy="1078200"/>
          </a:xfrm>
          <a:prstGeom prst="bentConnector5">
            <a:avLst>
              <a:gd name="adj1" fmla="val -72573"/>
              <a:gd name="adj2" fmla="val 50033"/>
              <a:gd name="adj3" fmla="val 17279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6" name=""/>
          <p:cNvCxnSpPr>
            <a:stCxn id="117" idx="2"/>
            <a:endCxn id="118" idx="0"/>
          </p:cNvCxnSpPr>
          <p:nvPr/>
        </p:nvCxnSpPr>
        <p:spPr>
          <a:xfrm flipH="1" flipV="1" rot="5400000">
            <a:off x="3309840" y="2315880"/>
            <a:ext cx="244800" cy="1073520"/>
          </a:xfrm>
          <a:prstGeom prst="bentConnector5">
            <a:avLst>
              <a:gd name="adj1" fmla="val -94845"/>
              <a:gd name="adj2" fmla="val 49949"/>
              <a:gd name="adj3" fmla="val 194845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9" name=""/>
          <p:cNvCxnSpPr>
            <a:stCxn id="120" idx="2"/>
            <a:endCxn id="121" idx="0"/>
          </p:cNvCxnSpPr>
          <p:nvPr/>
        </p:nvCxnSpPr>
        <p:spPr>
          <a:xfrm flipH="1" flipV="1" rot="5400000">
            <a:off x="1027800" y="2313360"/>
            <a:ext cx="493920" cy="1058040"/>
          </a:xfrm>
          <a:prstGeom prst="bentConnector5">
            <a:avLst>
              <a:gd name="adj1" fmla="val -45951"/>
              <a:gd name="adj2" fmla="val 150680"/>
              <a:gd name="adj3" fmla="val 14697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22" name=""/>
          <p:cNvGrpSpPr/>
          <p:nvPr/>
        </p:nvGrpSpPr>
        <p:grpSpPr>
          <a:xfrm>
            <a:off x="418680" y="2836800"/>
            <a:ext cx="662400" cy="252360"/>
            <a:chOff x="418680" y="2836800"/>
            <a:chExt cx="662400" cy="252360"/>
          </a:xfrm>
        </p:grpSpPr>
        <p:sp>
          <p:nvSpPr>
            <p:cNvPr id="123" name=""/>
            <p:cNvSpPr/>
            <p:nvPr/>
          </p:nvSpPr>
          <p:spPr>
            <a:xfrm>
              <a:off x="471600" y="28368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8680" y="29037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40560" y="143028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3080" y="186516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7" idx="2"/>
            <a:endCxn id="117" idx="0"/>
          </p:cNvCxnSpPr>
          <p:nvPr/>
        </p:nvCxnSpPr>
        <p:spPr>
          <a:xfrm flipH="1" flipV="1" rot="5400000">
            <a:off x="2154960" y="2330640"/>
            <a:ext cx="401760" cy="1080360"/>
          </a:xfrm>
          <a:prstGeom prst="bentConnector5">
            <a:avLst>
              <a:gd name="adj1" fmla="val -56502"/>
              <a:gd name="adj2" fmla="val 149633"/>
              <a:gd name="adj3" fmla="val 157757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28" name=""/>
          <p:cNvGrpSpPr/>
          <p:nvPr/>
        </p:nvGrpSpPr>
        <p:grpSpPr>
          <a:xfrm>
            <a:off x="1488600" y="2819520"/>
            <a:ext cx="662400" cy="252000"/>
            <a:chOff x="1488600" y="2819520"/>
            <a:chExt cx="662400" cy="252000"/>
          </a:xfrm>
        </p:grpSpPr>
        <p:sp>
          <p:nvSpPr>
            <p:cNvPr id="129" name=""/>
            <p:cNvSpPr/>
            <p:nvPr/>
          </p:nvSpPr>
          <p:spPr>
            <a:xfrm>
              <a:off x="1541520" y="281952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88600" y="28861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14360" y="26100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mis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lineamient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06440" y="2293920"/>
            <a:ext cx="663480" cy="308520"/>
            <a:chOff x="406440" y="2293920"/>
            <a:chExt cx="663480" cy="308520"/>
          </a:xfrm>
        </p:grpSpPr>
        <p:sp>
          <p:nvSpPr>
            <p:cNvPr id="132" name=""/>
            <p:cNvSpPr/>
            <p:nvPr/>
          </p:nvSpPr>
          <p:spPr>
            <a:xfrm>
              <a:off x="406440" y="2293920"/>
              <a:ext cx="663480" cy="15264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/>
            <p:nvPr/>
          </p:nvCxnSpPr>
          <p:spPr>
            <a:xfrm flipH="1">
              <a:off x="736200" y="2449440"/>
              <a:ext cx="2160" cy="153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121" name=""/>
          <p:cNvSpPr/>
          <p:nvPr/>
        </p:nvSpPr>
        <p:spPr>
          <a:xfrm>
            <a:off x="1498680" y="25956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fini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ínea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90640" y="2470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68480" y="24400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16200" y="4267080"/>
            <a:ext cx="669960" cy="468360"/>
            <a:chOff x="3616200" y="4267080"/>
            <a:chExt cx="669960" cy="468360"/>
          </a:xfrm>
        </p:grpSpPr>
        <p:sp>
          <p:nvSpPr>
            <p:cNvPr id="114" name=""/>
            <p:cNvSpPr/>
            <p:nvPr/>
          </p:nvSpPr>
          <p:spPr>
            <a:xfrm>
              <a:off x="3616200" y="443052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opuesta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éto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59000" y="4267080"/>
              <a:ext cx="22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590920" y="2516040"/>
            <a:ext cx="609480" cy="458640"/>
            <a:chOff x="2590920" y="2516040"/>
            <a:chExt cx="609480" cy="458640"/>
          </a:xfrm>
        </p:grpSpPr>
        <p:sp>
          <p:nvSpPr>
            <p:cNvPr id="139" name=""/>
            <p:cNvSpPr/>
            <p:nvPr/>
          </p:nvSpPr>
          <p:spPr>
            <a:xfrm>
              <a:off x="2974680" y="25160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90920" y="267012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olicitud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opuest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664080" y="2557440"/>
            <a:ext cx="609480" cy="477360"/>
            <a:chOff x="3664080" y="2557440"/>
            <a:chExt cx="609480" cy="477360"/>
          </a:xfrm>
        </p:grpSpPr>
        <p:sp>
          <p:nvSpPr>
            <p:cNvPr id="118" name=""/>
            <p:cNvSpPr/>
            <p:nvPr/>
          </p:nvSpPr>
          <p:spPr>
            <a:xfrm>
              <a:off x="3664080" y="273024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dentific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oyec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8200" y="25574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433240" y="181764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de Análsi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novaciones de l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ervicios de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1680" y="1817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General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eaci´+on y Desarro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b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15880" y="1817640"/>
            <a:ext cx="9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General Adjunta de Diseño de Sistemas de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0920" y="1817640"/>
            <a:ext cx="895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direc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versión Estratég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/>
          <p:nvPr/>
        </p:nvCxnSpPr>
        <p:spPr>
          <a:xfrm flipH="1">
            <a:off x="3971160" y="3057120"/>
            <a:ext cx="252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47" name=""/>
          <p:cNvGrpSpPr/>
          <p:nvPr/>
        </p:nvGrpSpPr>
        <p:grpSpPr>
          <a:xfrm>
            <a:off x="3657600" y="3051000"/>
            <a:ext cx="609480" cy="478080"/>
            <a:chOff x="3657600" y="3051000"/>
            <a:chExt cx="609480" cy="478080"/>
          </a:xfrm>
        </p:grpSpPr>
        <p:sp>
          <p:nvSpPr>
            <p:cNvPr id="148" name=""/>
            <p:cNvSpPr/>
            <p:nvPr/>
          </p:nvSpPr>
          <p:spPr>
            <a:xfrm>
              <a:off x="3657600" y="322416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olicit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41720" y="305100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666960" y="3786120"/>
            <a:ext cx="609480" cy="478080"/>
            <a:chOff x="3666960" y="3786120"/>
            <a:chExt cx="609480" cy="478080"/>
          </a:xfrm>
        </p:grpSpPr>
        <p:sp>
          <p:nvSpPr>
            <p:cNvPr id="151" name=""/>
            <p:cNvSpPr/>
            <p:nvPr/>
          </p:nvSpPr>
          <p:spPr>
            <a:xfrm>
              <a:off x="3666960" y="395928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tegra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51080" y="378612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538360" y="4253040"/>
            <a:ext cx="669960" cy="468360"/>
            <a:chOff x="2538360" y="4253040"/>
            <a:chExt cx="669960" cy="468360"/>
          </a:xfrm>
        </p:grpSpPr>
        <p:sp>
          <p:nvSpPr>
            <p:cNvPr id="115" name=""/>
            <p:cNvSpPr/>
            <p:nvPr/>
          </p:nvSpPr>
          <p:spPr>
            <a:xfrm>
              <a:off x="2538360" y="441648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ctame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viabilida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81160" y="4253040"/>
              <a:ext cx="22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02040" y="731988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/>
          <p:nvPr/>
        </p:nvCxnSpPr>
        <p:spPr>
          <a:xfrm flipH="1">
            <a:off x="3916080" y="3811320"/>
            <a:ext cx="216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 flipH="1">
            <a:off x="3909240" y="4271760"/>
            <a:ext cx="252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8" name=""/>
          <p:cNvCxnSpPr/>
          <p:nvPr/>
        </p:nvCxnSpPr>
        <p:spPr>
          <a:xfrm flipH="1">
            <a:off x="2801160" y="4725720"/>
            <a:ext cx="252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9" name=""/>
          <p:cNvSpPr/>
          <p:nvPr/>
        </p:nvSpPr>
        <p:spPr>
          <a:xfrm>
            <a:off x="2517840" y="488160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86240" y="504360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98680" y="507528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9" idx="3"/>
            <a:endCxn id="161" idx="2"/>
          </p:cNvCxnSpPr>
          <p:nvPr/>
        </p:nvCxnSpPr>
        <p:spPr>
          <a:xfrm>
            <a:off x="3081240" y="5126040"/>
            <a:ext cx="217800" cy="19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3" name=""/>
          <p:cNvSpPr/>
          <p:nvPr/>
        </p:nvSpPr>
        <p:spPr>
          <a:xfrm>
            <a:off x="3031200" y="498636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7480" y="537840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6" idx="2"/>
            <a:endCxn id="167" idx="0"/>
          </p:cNvCxnSpPr>
          <p:nvPr/>
        </p:nvCxnSpPr>
        <p:spPr>
          <a:xfrm flipH="1" rot="16200000">
            <a:off x="3175200" y="5474880"/>
            <a:ext cx="462240" cy="1141920"/>
          </a:xfrm>
          <a:prstGeom prst="bentConnector5">
            <a:avLst>
              <a:gd name="adj1" fmla="val 50116"/>
              <a:gd name="adj2" fmla="val 49952"/>
              <a:gd name="adj3" fmla="val 49805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68" name=""/>
          <p:cNvGrpSpPr/>
          <p:nvPr/>
        </p:nvGrpSpPr>
        <p:grpSpPr>
          <a:xfrm>
            <a:off x="3672000" y="6113520"/>
            <a:ext cx="669960" cy="468360"/>
            <a:chOff x="3672000" y="6113520"/>
            <a:chExt cx="669960" cy="468360"/>
          </a:xfrm>
        </p:grpSpPr>
        <p:sp>
          <p:nvSpPr>
            <p:cNvPr id="167" name=""/>
            <p:cNvSpPr/>
            <p:nvPr/>
          </p:nvSpPr>
          <p:spPr>
            <a:xfrm>
              <a:off x="3672000" y="627696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stablecimi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cuer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14800" y="6113520"/>
              <a:ext cx="22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0" name=""/>
          <p:cNvCxnSpPr>
            <a:stCxn id="167" idx="2"/>
            <a:endCxn id="171" idx="0"/>
          </p:cNvCxnSpPr>
          <p:nvPr/>
        </p:nvCxnSpPr>
        <p:spPr>
          <a:xfrm>
            <a:off x="3976920" y="6581880"/>
            <a:ext cx="360" cy="171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6" name=""/>
          <p:cNvSpPr/>
          <p:nvPr/>
        </p:nvSpPr>
        <p:spPr>
          <a:xfrm>
            <a:off x="2530440" y="55101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ntinua co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tap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/>
          <p:nvPr/>
        </p:nvCxnSpPr>
        <p:spPr>
          <a:xfrm flipH="1">
            <a:off x="2797920" y="5364000"/>
            <a:ext cx="252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1" name=""/>
          <p:cNvSpPr/>
          <p:nvPr/>
        </p:nvSpPr>
        <p:spPr>
          <a:xfrm>
            <a:off x="3672000" y="675324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valu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08320" y="6608880"/>
            <a:ext cx="27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1" idx="2"/>
            <a:endCxn id="155" idx="0"/>
          </p:cNvCxnSpPr>
          <p:nvPr/>
        </p:nvCxnSpPr>
        <p:spPr>
          <a:xfrm>
            <a:off x="3976920" y="7058160"/>
            <a:ext cx="1800" cy="262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5" name=""/>
          <p:cNvSpPr/>
          <p:nvPr/>
        </p:nvSpPr>
        <p:spPr>
          <a:xfrm>
            <a:off x="1001880" y="8331120"/>
            <a:ext cx="145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ic. Virginia Barragán Pér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9720" y="8331120"/>
            <a:ext cx="1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ic. Laura Díaz Nie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2720" y="8331120"/>
            <a:ext cx="172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Dra. Carmen Rodríguez Dehaib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1628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216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8196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80960" y="722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58880" y="722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775240" y="3570120"/>
            <a:ext cx="661680" cy="252360"/>
            <a:chOff x="2775240" y="3570120"/>
            <a:chExt cx="661680" cy="252360"/>
          </a:xfrm>
        </p:grpSpPr>
        <p:sp>
          <p:nvSpPr>
            <p:cNvPr id="184" name=""/>
            <p:cNvSpPr/>
            <p:nvPr/>
          </p:nvSpPr>
          <p:spPr>
            <a:xfrm>
              <a:off x="2827440" y="35701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75240" y="363708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por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691720" y="3449520"/>
            <a:ext cx="662400" cy="252360"/>
            <a:chOff x="2691720" y="3449520"/>
            <a:chExt cx="662400" cy="252360"/>
          </a:xfrm>
        </p:grpSpPr>
        <p:sp>
          <p:nvSpPr>
            <p:cNvPr id="187" name=""/>
            <p:cNvSpPr/>
            <p:nvPr/>
          </p:nvSpPr>
          <p:spPr>
            <a:xfrm>
              <a:off x="2744640" y="34495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91720" y="35164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43080" y="186516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3240" y="181764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de Análsi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novaciones de l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ervicios de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1680" y="1817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General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eaci´+on y Desarro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b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15880" y="1817640"/>
            <a:ext cx="9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General Adjunta de Diseño de Sistemas de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91280" y="181764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direc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portunidad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la Innov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44800" y="2298600"/>
            <a:ext cx="15264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4" idx="2"/>
            <a:endCxn id="196" idx="0"/>
          </p:cNvCxnSpPr>
          <p:nvPr/>
        </p:nvCxnSpPr>
        <p:spPr>
          <a:xfrm>
            <a:off x="3920760" y="2444760"/>
            <a:ext cx="3960" cy="170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7" name=""/>
          <p:cNvCxnSpPr/>
          <p:nvPr/>
        </p:nvCxnSpPr>
        <p:spPr>
          <a:xfrm flipH="1">
            <a:off x="1784160" y="4216320"/>
            <a:ext cx="216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98" name=""/>
          <p:cNvSpPr/>
          <p:nvPr/>
        </p:nvSpPr>
        <p:spPr>
          <a:xfrm>
            <a:off x="1484280" y="4370400"/>
            <a:ext cx="56376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53040" y="453240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73400" y="456408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8" idx="3"/>
            <a:endCxn id="200" idx="2"/>
          </p:cNvCxnSpPr>
          <p:nvPr/>
        </p:nvCxnSpPr>
        <p:spPr>
          <a:xfrm>
            <a:off x="2048040" y="4614480"/>
            <a:ext cx="226080" cy="19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2" name=""/>
          <p:cNvSpPr/>
          <p:nvPr/>
        </p:nvSpPr>
        <p:spPr>
          <a:xfrm>
            <a:off x="2005560" y="447516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33240" y="486900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19440" y="2441520"/>
            <a:ext cx="650520" cy="477360"/>
            <a:chOff x="3619440" y="2441520"/>
            <a:chExt cx="650520" cy="477360"/>
          </a:xfrm>
        </p:grpSpPr>
        <p:sp>
          <p:nvSpPr>
            <p:cNvPr id="196" name=""/>
            <p:cNvSpPr/>
            <p:nvPr/>
          </p:nvSpPr>
          <p:spPr>
            <a:xfrm>
              <a:off x="3619440" y="261432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elección de pro-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yectos y elab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 report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03920" y="244152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647800" y="3084480"/>
            <a:ext cx="650520" cy="477360"/>
            <a:chOff x="2647800" y="3084480"/>
            <a:chExt cx="650520" cy="477360"/>
          </a:xfrm>
        </p:grpSpPr>
        <p:sp>
          <p:nvSpPr>
            <p:cNvPr id="207" name=""/>
            <p:cNvSpPr/>
            <p:nvPr/>
          </p:nvSpPr>
          <p:spPr>
            <a:xfrm>
              <a:off x="2647800" y="325728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 y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agnostico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32280" y="308448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469880" y="506556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ntinua con l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tap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52560" y="4892760"/>
            <a:ext cx="1843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/>
          <p:nvPr/>
        </p:nvCxnSpPr>
        <p:spPr>
          <a:xfrm flipH="1">
            <a:off x="1761840" y="4894200"/>
            <a:ext cx="216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12" name=""/>
          <p:cNvCxnSpPr>
            <a:stCxn id="196" idx="2"/>
            <a:endCxn id="207" idx="0"/>
          </p:cNvCxnSpPr>
          <p:nvPr/>
        </p:nvCxnSpPr>
        <p:spPr>
          <a:xfrm rot="5400000">
            <a:off x="3268440" y="2602440"/>
            <a:ext cx="339120" cy="972360"/>
          </a:xfrm>
          <a:prstGeom prst="bentConnector3">
            <a:avLst>
              <a:gd name="adj1" fmla="val 49734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13" name=""/>
          <p:cNvGrpSpPr/>
          <p:nvPr/>
        </p:nvGrpSpPr>
        <p:grpSpPr>
          <a:xfrm>
            <a:off x="1625760" y="3951360"/>
            <a:ext cx="661680" cy="252360"/>
            <a:chOff x="1625760" y="3951360"/>
            <a:chExt cx="661680" cy="252360"/>
          </a:xfrm>
        </p:grpSpPr>
        <p:sp>
          <p:nvSpPr>
            <p:cNvPr id="214" name=""/>
            <p:cNvSpPr/>
            <p:nvPr/>
          </p:nvSpPr>
          <p:spPr>
            <a:xfrm>
              <a:off x="1677960" y="39513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25760" y="4018320"/>
              <a:ext cx="45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por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542600" y="3817800"/>
            <a:ext cx="662400" cy="252360"/>
            <a:chOff x="1542600" y="3817800"/>
            <a:chExt cx="662400" cy="252360"/>
          </a:xfrm>
        </p:grpSpPr>
        <p:sp>
          <p:nvSpPr>
            <p:cNvPr id="217" name=""/>
            <p:cNvSpPr/>
            <p:nvPr/>
          </p:nvSpPr>
          <p:spPr>
            <a:xfrm>
              <a:off x="1595520" y="38178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42600" y="38847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498680" y="3452760"/>
            <a:ext cx="650160" cy="477360"/>
            <a:chOff x="1498680" y="3452760"/>
            <a:chExt cx="650160" cy="477360"/>
          </a:xfrm>
        </p:grpSpPr>
        <p:sp>
          <p:nvSpPr>
            <p:cNvPr id="220" name=""/>
            <p:cNvSpPr/>
            <p:nvPr/>
          </p:nvSpPr>
          <p:spPr>
            <a:xfrm>
              <a:off x="1498680" y="3625560"/>
              <a:ext cx="60912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creditación de l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82800" y="345276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88880" y="5472000"/>
            <a:ext cx="650520" cy="478080"/>
            <a:chOff x="488880" y="5472000"/>
            <a:chExt cx="650520" cy="478080"/>
          </a:xfrm>
        </p:grpSpPr>
        <p:sp>
          <p:nvSpPr>
            <p:cNvPr id="223" name=""/>
            <p:cNvSpPr/>
            <p:nvPr/>
          </p:nvSpPr>
          <p:spPr>
            <a:xfrm>
              <a:off x="488880" y="564516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valua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3360" y="547200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5" name=""/>
          <p:cNvCxnSpPr>
            <a:stCxn id="184" idx="2"/>
            <a:endCxn id="220" idx="0"/>
          </p:cNvCxnSpPr>
          <p:nvPr/>
        </p:nvCxnSpPr>
        <p:spPr>
          <a:xfrm flipV="1" rot="16200000">
            <a:off x="2376360" y="3051360"/>
            <a:ext cx="181800" cy="1329480"/>
          </a:xfrm>
          <a:prstGeom prst="bentConnector5">
            <a:avLst>
              <a:gd name="adj1" fmla="val -134126"/>
              <a:gd name="adj2" fmla="val 49918"/>
              <a:gd name="adj3" fmla="val 226190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6" name=""/>
          <p:cNvSpPr/>
          <p:nvPr/>
        </p:nvSpPr>
        <p:spPr>
          <a:xfrm>
            <a:off x="446040" y="611028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endCxn id="226" idx="0"/>
          </p:cNvCxnSpPr>
          <p:nvPr/>
        </p:nvCxnSpPr>
        <p:spPr>
          <a:xfrm>
            <a:off x="772920" y="5965560"/>
            <a:ext cx="5400" cy="144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28" name=""/>
          <p:cNvCxnSpPr>
            <a:stCxn id="209" idx="2"/>
            <a:endCxn id="223" idx="0"/>
          </p:cNvCxnSpPr>
          <p:nvPr/>
        </p:nvCxnSpPr>
        <p:spPr>
          <a:xfrm rot="5400000">
            <a:off x="1146240" y="5016960"/>
            <a:ext cx="275400" cy="981720"/>
          </a:xfrm>
          <a:prstGeom prst="bentConnector3">
            <a:avLst>
              <a:gd name="adj1" fmla="val 49607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9" name=""/>
          <p:cNvSpPr/>
          <p:nvPr/>
        </p:nvSpPr>
        <p:spPr>
          <a:xfrm>
            <a:off x="1001880" y="8331120"/>
            <a:ext cx="145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ic. Virginia Barragán Pér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9720" y="8331120"/>
            <a:ext cx="1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ic. Laura Díaz Nie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32720" y="8331120"/>
            <a:ext cx="172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Dra. Carmen Rodríguez Dehaib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1628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7216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8196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80960" y="722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8880" y="722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SECRETARIA DE SALUD</cp:lastModifiedBy>
  <dcterms:modified xsi:type="dcterms:W3CDTF">2005-08-05T17:49:19Z</dcterms:modified>
  <cp:revision>5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10148517</vt:r8>
  </property>
  <property fmtid="{D5CDD505-2E9C-101B-9397-08002B2CF9AE}" pid="3" name="_AuthorEmail">
    <vt:lpwstr>VIRGINIAB@DGPEC-S01.SSA.com</vt:lpwstr>
  </property>
  <property fmtid="{D5CDD505-2E9C-101B-9397-08002B2CF9AE}" pid="4" name="_AuthorEmailDisplayName">
    <vt:lpwstr>VIRGINIA BARRAGAN PEREZ</vt:lpwstr>
  </property>
  <property fmtid="{D5CDD505-2E9C-101B-9397-08002B2CF9AE}" pid="5" name="_EmailSubject">
    <vt:lpwstr>Procedimientos DAISS</vt:lpwstr>
  </property>
</Properties>
</file>