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884160"/>
            <a:chOff x="304920" y="228600"/>
            <a:chExt cx="6324480" cy="884160"/>
          </a:xfrm>
        </p:grpSpPr>
        <p:sp>
          <p:nvSpPr>
            <p:cNvPr id="1" name=""/>
            <p:cNvSpPr/>
            <p:nvPr/>
          </p:nvSpPr>
          <p:spPr>
            <a:xfrm>
              <a:off x="5638680" y="68580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Hoja:49    de 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68580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mbre del Procedimiento:Procedimeinto para la elaboración de un modelo opertivo de gerencia estratégica que funcione dentro del esquema de red de servicios de salu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2552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2552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12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2552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6858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015920"/>
            <a:chOff x="304920" y="7848720"/>
            <a:chExt cx="6324480" cy="1015920"/>
          </a:xfrm>
        </p:grpSpPr>
        <p:sp>
          <p:nvSpPr>
            <p:cNvPr id="18" name=""/>
            <p:cNvSpPr/>
            <p:nvPr/>
          </p:nvSpPr>
          <p:spPr>
            <a:xfrm>
              <a:off x="4800600" y="805824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Autoriz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5824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vis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5824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abor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5824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6518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/2005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6518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/2005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6518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/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6518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ech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46936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46936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46936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46936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93240" indent="-9324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irm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4076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4076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G. JUAN CARLOS TRUJILLO 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4076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TOMÁS GABINO ROME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40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CONTROL DE EMIS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407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4693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651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8646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01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01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582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58240"/>
              <a:ext cx="0" cy="80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24000" y="1454040"/>
            <a:ext cx="6216480" cy="6332760"/>
            <a:chOff x="324000" y="1454040"/>
            <a:chExt cx="6216480" cy="6332760"/>
          </a:xfrm>
        </p:grpSpPr>
        <p:sp>
          <p:nvSpPr>
            <p:cNvPr id="47" name=""/>
            <p:cNvSpPr/>
            <p:nvPr/>
          </p:nvSpPr>
          <p:spPr>
            <a:xfrm>
              <a:off x="5705640" y="2004840"/>
              <a:ext cx="83484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05640" y="1454040"/>
              <a:ext cx="83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1520" y="2004840"/>
              <a:ext cx="92412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81520" y="1454040"/>
              <a:ext cx="924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86200" y="2004840"/>
              <a:ext cx="89532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1454040"/>
              <a:ext cx="89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tidades Federativ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43360" y="2004840"/>
              <a:ext cx="94284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43360" y="1454040"/>
              <a:ext cx="94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Gerencia Estratég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52640" y="2004840"/>
              <a:ext cx="99072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2640" y="145404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3000" y="2004840"/>
              <a:ext cx="80964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1454040"/>
              <a:ext cx="80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2004840"/>
              <a:ext cx="819000" cy="57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1454040"/>
              <a:ext cx="819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1454040"/>
              <a:ext cx="6216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000" y="7786800"/>
              <a:ext cx="6216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1454040"/>
              <a:ext cx="0" cy="633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40480" y="1454040"/>
              <a:ext cx="0" cy="633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000" y="2004840"/>
              <a:ext cx="62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264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4336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8152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05640" y="1454040"/>
              <a:ext cx="0" cy="63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2400" y="114156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70800" y="2865600"/>
            <a:ext cx="662400" cy="252000"/>
            <a:chOff x="370800" y="2865600"/>
            <a:chExt cx="662400" cy="252000"/>
          </a:xfrm>
        </p:grpSpPr>
        <p:sp>
          <p:nvSpPr>
            <p:cNvPr id="110" name=""/>
            <p:cNvSpPr/>
            <p:nvPr/>
          </p:nvSpPr>
          <p:spPr>
            <a:xfrm>
              <a:off x="423720" y="2865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800" y="2932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83840" y="3890880"/>
            <a:ext cx="662400" cy="252360"/>
            <a:chOff x="3183840" y="3890880"/>
            <a:chExt cx="662400" cy="252360"/>
          </a:xfrm>
        </p:grpSpPr>
        <p:sp>
          <p:nvSpPr>
            <p:cNvPr id="113" name=""/>
            <p:cNvSpPr/>
            <p:nvPr/>
          </p:nvSpPr>
          <p:spPr>
            <a:xfrm>
              <a:off x="3236760" y="389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83840" y="39578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09240" y="3198960"/>
            <a:ext cx="662400" cy="252000"/>
            <a:chOff x="1209240" y="3198960"/>
            <a:chExt cx="662400" cy="252000"/>
          </a:xfrm>
        </p:grpSpPr>
        <p:sp>
          <p:nvSpPr>
            <p:cNvPr id="116" name=""/>
            <p:cNvSpPr/>
            <p:nvPr/>
          </p:nvSpPr>
          <p:spPr>
            <a:xfrm>
              <a:off x="1262160" y="31989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09240" y="3265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84760" y="3059280"/>
            <a:ext cx="661320" cy="252000"/>
            <a:chOff x="1184760" y="3059280"/>
            <a:chExt cx="661320" cy="252000"/>
          </a:xfrm>
        </p:grpSpPr>
        <p:sp>
          <p:nvSpPr>
            <p:cNvPr id="119" name=""/>
            <p:cNvSpPr/>
            <p:nvPr/>
          </p:nvSpPr>
          <p:spPr>
            <a:xfrm>
              <a:off x="1236600" y="3059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4760" y="312588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8760" y="2720880"/>
            <a:ext cx="661320" cy="252360"/>
            <a:chOff x="338760" y="2720880"/>
            <a:chExt cx="661320" cy="252360"/>
          </a:xfrm>
        </p:grpSpPr>
        <p:sp>
          <p:nvSpPr>
            <p:cNvPr id="122" name=""/>
            <p:cNvSpPr/>
            <p:nvPr/>
          </p:nvSpPr>
          <p:spPr>
            <a:xfrm>
              <a:off x="390600" y="272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760" y="278784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4760" y="219384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960" y="24987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lineamien-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s para elab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mode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0640" y="234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5" idx="2"/>
            <a:endCxn id="126" idx="0"/>
          </p:cNvCxnSpPr>
          <p:nvPr/>
        </p:nvCxnSpPr>
        <p:spPr>
          <a:xfrm flipH="1">
            <a:off x="704880" y="2346480"/>
            <a:ext cx="21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9" name=""/>
          <p:cNvSpPr/>
          <p:nvPr/>
        </p:nvSpPr>
        <p:spPr>
          <a:xfrm>
            <a:off x="1197000" y="28321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9640" y="2682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1" idx="2"/>
            <a:endCxn id="129" idx="0"/>
          </p:cNvCxnSpPr>
          <p:nvPr/>
        </p:nvCxnSpPr>
        <p:spPr>
          <a:xfrm flipH="1" flipV="1" rot="5400000">
            <a:off x="956880" y="2572920"/>
            <a:ext cx="285840" cy="804240"/>
          </a:xfrm>
          <a:prstGeom prst="bentConnector5">
            <a:avLst>
              <a:gd name="adj1" fmla="val -87894"/>
              <a:gd name="adj2" fmla="val 166681"/>
              <a:gd name="adj3" fmla="val 18121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2" name=""/>
          <p:cNvGrpSpPr/>
          <p:nvPr/>
        </p:nvGrpSpPr>
        <p:grpSpPr>
          <a:xfrm>
            <a:off x="3156120" y="3753000"/>
            <a:ext cx="661680" cy="252000"/>
            <a:chOff x="3156120" y="3753000"/>
            <a:chExt cx="661680" cy="252000"/>
          </a:xfrm>
        </p:grpSpPr>
        <p:sp>
          <p:nvSpPr>
            <p:cNvPr id="133" name=""/>
            <p:cNvSpPr/>
            <p:nvPr/>
          </p:nvSpPr>
          <p:spPr>
            <a:xfrm>
              <a:off x="3208320" y="3753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56120" y="38196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78080" y="35258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linea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e doc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citud de 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7080" y="3376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7" idx="2"/>
            <a:endCxn id="138" idx="0"/>
          </p:cNvCxnSpPr>
          <p:nvPr/>
        </p:nvCxnSpPr>
        <p:spPr>
          <a:xfrm flipH="1" flipV="1" rot="5400000">
            <a:off x="1850040" y="2821320"/>
            <a:ext cx="316080" cy="943560"/>
          </a:xfrm>
          <a:prstGeom prst="bentConnector5">
            <a:avLst>
              <a:gd name="adj1" fmla="val -71835"/>
              <a:gd name="adj2" fmla="val 156908"/>
              <a:gd name="adj3" fmla="val 17343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9" name=""/>
          <p:cNvCxnSpPr>
            <a:stCxn id="114" idx="2"/>
            <a:endCxn id="140" idx="0"/>
          </p:cNvCxnSpPr>
          <p:nvPr/>
        </p:nvCxnSpPr>
        <p:spPr>
          <a:xfrm rot="5400000">
            <a:off x="2770560" y="3757320"/>
            <a:ext cx="354600" cy="1126800"/>
          </a:xfrm>
          <a:prstGeom prst="bentConnector5">
            <a:avLst>
              <a:gd name="adj1" fmla="val 64024"/>
              <a:gd name="adj2" fmla="val 50814"/>
              <a:gd name="adj3" fmla="val 345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1" name=""/>
          <p:cNvGrpSpPr/>
          <p:nvPr/>
        </p:nvGrpSpPr>
        <p:grpSpPr>
          <a:xfrm>
            <a:off x="2180880" y="3500280"/>
            <a:ext cx="662400" cy="252360"/>
            <a:chOff x="2180880" y="3500280"/>
            <a:chExt cx="662400" cy="252360"/>
          </a:xfrm>
        </p:grpSpPr>
        <p:sp>
          <p:nvSpPr>
            <p:cNvPr id="142" name=""/>
            <p:cNvSpPr/>
            <p:nvPr/>
          </p:nvSpPr>
          <p:spPr>
            <a:xfrm>
              <a:off x="2233800" y="3500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0880" y="35672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62880" y="3362400"/>
            <a:ext cx="661320" cy="252360"/>
            <a:chOff x="2162880" y="3362400"/>
            <a:chExt cx="661320" cy="252360"/>
          </a:xfrm>
        </p:grpSpPr>
        <p:sp>
          <p:nvSpPr>
            <p:cNvPr id="145" name=""/>
            <p:cNvSpPr/>
            <p:nvPr/>
          </p:nvSpPr>
          <p:spPr>
            <a:xfrm>
              <a:off x="2214720" y="3362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62880" y="342936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74760" y="3135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02080" y="2954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2" idx="2"/>
            <a:endCxn id="135" idx="0"/>
          </p:cNvCxnSpPr>
          <p:nvPr/>
        </p:nvCxnSpPr>
        <p:spPr>
          <a:xfrm flipH="1" flipV="1" rot="5400000">
            <a:off x="2905200" y="3159000"/>
            <a:ext cx="210960" cy="944640"/>
          </a:xfrm>
          <a:prstGeom prst="bentConnector5">
            <a:avLst>
              <a:gd name="adj1" fmla="val -117094"/>
              <a:gd name="adj2" fmla="val -56881"/>
              <a:gd name="adj3" fmla="val 22239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9" name=""/>
          <p:cNvGrpSpPr/>
          <p:nvPr/>
        </p:nvGrpSpPr>
        <p:grpSpPr>
          <a:xfrm>
            <a:off x="2085480" y="4862520"/>
            <a:ext cx="662400" cy="252360"/>
            <a:chOff x="2085480" y="4862520"/>
            <a:chExt cx="662400" cy="252360"/>
          </a:xfrm>
        </p:grpSpPr>
        <p:sp>
          <p:nvSpPr>
            <p:cNvPr id="150" name=""/>
            <p:cNvSpPr/>
            <p:nvPr/>
          </p:nvSpPr>
          <p:spPr>
            <a:xfrm>
              <a:off x="2138400" y="4862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5480" y="4929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057760" y="4724280"/>
            <a:ext cx="661680" cy="252360"/>
            <a:chOff x="2057760" y="4724280"/>
            <a:chExt cx="661680" cy="252360"/>
          </a:xfrm>
        </p:grpSpPr>
        <p:sp>
          <p:nvSpPr>
            <p:cNvPr id="153" name=""/>
            <p:cNvSpPr/>
            <p:nvPr/>
          </p:nvSpPr>
          <p:spPr>
            <a:xfrm>
              <a:off x="2109960" y="472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7760" y="47912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079720" y="44974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erificac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480" y="524520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57680" y="542304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5" idx="3"/>
          </p:cNvCxnSpPr>
          <p:nvPr/>
        </p:nvCxnSpPr>
        <p:spPr>
          <a:xfrm>
            <a:off x="2693880" y="5489640"/>
            <a:ext cx="1706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2602440" y="53276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0840" y="565164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1" idx="2"/>
            <a:endCxn id="155" idx="0"/>
          </p:cNvCxnSpPr>
          <p:nvPr/>
        </p:nvCxnSpPr>
        <p:spPr>
          <a:xfrm flipH="1">
            <a:off x="2412360" y="5114880"/>
            <a:ext cx="720" cy="13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611440" y="4327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158640" y="6278400"/>
            <a:ext cx="662400" cy="252360"/>
            <a:chOff x="3158640" y="6278400"/>
            <a:chExt cx="662400" cy="252360"/>
          </a:xfrm>
        </p:grpSpPr>
        <p:sp>
          <p:nvSpPr>
            <p:cNvPr id="163" name=""/>
            <p:cNvSpPr/>
            <p:nvPr/>
          </p:nvSpPr>
          <p:spPr>
            <a:xfrm>
              <a:off x="3211560" y="6278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58640" y="63453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30920" y="6140520"/>
            <a:ext cx="661680" cy="252360"/>
            <a:chOff x="3130920" y="6140520"/>
            <a:chExt cx="661680" cy="252360"/>
          </a:xfrm>
        </p:grpSpPr>
        <p:sp>
          <p:nvSpPr>
            <p:cNvPr id="166" name=""/>
            <p:cNvSpPr/>
            <p:nvPr/>
          </p:nvSpPr>
          <p:spPr>
            <a:xfrm>
              <a:off x="3183120" y="6140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0920" y="6207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152880" y="5913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VoBo,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70" idx="2"/>
            <a:endCxn id="168" idx="0"/>
          </p:cNvCxnSpPr>
          <p:nvPr/>
        </p:nvCxnSpPr>
        <p:spPr>
          <a:xfrm flipH="1" flipV="1" rot="5400000">
            <a:off x="2816280" y="5532120"/>
            <a:ext cx="260640" cy="1022760"/>
          </a:xfrm>
          <a:prstGeom prst="bentConnector5">
            <a:avLst>
              <a:gd name="adj1" fmla="val -89073"/>
              <a:gd name="adj2" fmla="val -52500"/>
              <a:gd name="adj3" fmla="val 20594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1" name=""/>
          <p:cNvSpPr/>
          <p:nvPr/>
        </p:nvSpPr>
        <p:spPr>
          <a:xfrm>
            <a:off x="3564000" y="5767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32360" y="7078680"/>
            <a:ext cx="661680" cy="252360"/>
            <a:chOff x="2232360" y="7078680"/>
            <a:chExt cx="661680" cy="252360"/>
          </a:xfrm>
        </p:grpSpPr>
        <p:sp>
          <p:nvSpPr>
            <p:cNvPr id="173" name=""/>
            <p:cNvSpPr/>
            <p:nvPr/>
          </p:nvSpPr>
          <p:spPr>
            <a:xfrm>
              <a:off x="2284560" y="7078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32360" y="71456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02840" y="6940440"/>
            <a:ext cx="662400" cy="252360"/>
            <a:chOff x="2202840" y="6940440"/>
            <a:chExt cx="662400" cy="252360"/>
          </a:xfrm>
        </p:grpSpPr>
        <p:sp>
          <p:nvSpPr>
            <p:cNvPr id="176" name=""/>
            <p:cNvSpPr/>
            <p:nvPr/>
          </p:nvSpPr>
          <p:spPr>
            <a:xfrm>
              <a:off x="2255760" y="6940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2840" y="70074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225520" y="67136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docum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7000" y="6567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4" idx="2"/>
            <a:endCxn id="178" idx="0"/>
          </p:cNvCxnSpPr>
          <p:nvPr/>
        </p:nvCxnSpPr>
        <p:spPr>
          <a:xfrm rot="5400000">
            <a:off x="2916720" y="6144480"/>
            <a:ext cx="183240" cy="955800"/>
          </a:xfrm>
          <a:prstGeom prst="bentConnector5">
            <a:avLst>
              <a:gd name="adj1" fmla="val 393307"/>
              <a:gd name="adj2" fmla="val 156141"/>
              <a:gd name="adj3" fmla="val -2657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1" name=""/>
          <p:cNvSpPr/>
          <p:nvPr/>
        </p:nvSpPr>
        <p:spPr>
          <a:xfrm>
            <a:off x="2451240" y="741060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4" idx="2"/>
            <a:endCxn id="181" idx="0"/>
          </p:cNvCxnSpPr>
          <p:nvPr/>
        </p:nvCxnSpPr>
        <p:spPr>
          <a:xfrm>
            <a:off x="2518560" y="7331040"/>
            <a:ext cx="9360" cy="79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0" name=""/>
          <p:cNvSpPr/>
          <p:nvPr/>
        </p:nvSpPr>
        <p:spPr>
          <a:xfrm>
            <a:off x="2130480" y="58690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ia mem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>
            <a:off x="2418840" y="5735520"/>
            <a:ext cx="108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98880" y="5838840"/>
            <a:ext cx="661680" cy="252360"/>
            <a:chOff x="3098880" y="5838840"/>
            <a:chExt cx="661680" cy="252360"/>
          </a:xfrm>
        </p:grpSpPr>
        <p:sp>
          <p:nvSpPr>
            <p:cNvPr id="185" name=""/>
            <p:cNvSpPr/>
            <p:nvPr/>
          </p:nvSpPr>
          <p:spPr>
            <a:xfrm>
              <a:off x="3151080" y="5838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8880" y="590580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85560" y="5718240"/>
            <a:ext cx="662400" cy="252360"/>
            <a:chOff x="3085560" y="5718240"/>
            <a:chExt cx="662400" cy="252360"/>
          </a:xfrm>
        </p:grpSpPr>
        <p:sp>
          <p:nvSpPr>
            <p:cNvPr id="188" name=""/>
            <p:cNvSpPr/>
            <p:nvPr/>
          </p:nvSpPr>
          <p:spPr>
            <a:xfrm>
              <a:off x="3138480" y="5718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85560" y="5785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69440" y="4898880"/>
            <a:ext cx="662760" cy="252360"/>
            <a:chOff x="4069440" y="4898880"/>
            <a:chExt cx="662760" cy="252360"/>
          </a:xfrm>
        </p:grpSpPr>
        <p:sp>
          <p:nvSpPr>
            <p:cNvPr id="191" name=""/>
            <p:cNvSpPr/>
            <p:nvPr/>
          </p:nvSpPr>
          <p:spPr>
            <a:xfrm>
              <a:off x="4122720" y="4898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69440" y="496584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25880" y="4778280"/>
            <a:ext cx="662040" cy="252360"/>
            <a:chOff x="4025880" y="4778280"/>
            <a:chExt cx="662040" cy="252360"/>
          </a:xfrm>
        </p:grpSpPr>
        <p:sp>
          <p:nvSpPr>
            <p:cNvPr id="194" name=""/>
            <p:cNvSpPr/>
            <p:nvPr/>
          </p:nvSpPr>
          <p:spPr>
            <a:xfrm>
              <a:off x="4078440" y="4778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25880" y="48452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90160" y="2657520"/>
            <a:ext cx="662400" cy="252360"/>
            <a:chOff x="1190160" y="2657520"/>
            <a:chExt cx="662400" cy="252360"/>
          </a:xfrm>
        </p:grpSpPr>
        <p:sp>
          <p:nvSpPr>
            <p:cNvPr id="197" name=""/>
            <p:cNvSpPr/>
            <p:nvPr/>
          </p:nvSpPr>
          <p:spPr>
            <a:xfrm>
              <a:off x="1243080" y="2657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90160" y="272448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171440" y="2523960"/>
            <a:ext cx="662040" cy="252360"/>
            <a:chOff x="1171440" y="2523960"/>
            <a:chExt cx="662040" cy="252360"/>
          </a:xfrm>
        </p:grpSpPr>
        <p:sp>
          <p:nvSpPr>
            <p:cNvPr id="200" name=""/>
            <p:cNvSpPr/>
            <p:nvPr/>
          </p:nvSpPr>
          <p:spPr>
            <a:xfrm>
              <a:off x="1224000" y="2523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71440" y="25909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49520" y="2173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54040" y="204156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2"/>
            <a:endCxn id="205" idx="0"/>
          </p:cNvCxnSpPr>
          <p:nvPr/>
        </p:nvCxnSpPr>
        <p:spPr>
          <a:xfrm flipH="1">
            <a:off x="1520640" y="2187720"/>
            <a:ext cx="10080" cy="135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6" name=""/>
          <p:cNvGrpSpPr/>
          <p:nvPr/>
        </p:nvGrpSpPr>
        <p:grpSpPr>
          <a:xfrm>
            <a:off x="2978280" y="2689200"/>
            <a:ext cx="661680" cy="252360"/>
            <a:chOff x="2978280" y="2689200"/>
            <a:chExt cx="661680" cy="252360"/>
          </a:xfrm>
        </p:grpSpPr>
        <p:sp>
          <p:nvSpPr>
            <p:cNvPr id="207" name=""/>
            <p:cNvSpPr/>
            <p:nvPr/>
          </p:nvSpPr>
          <p:spPr>
            <a:xfrm>
              <a:off x="3030480" y="2689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8280" y="27561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965320" y="2568600"/>
            <a:ext cx="662040" cy="252360"/>
            <a:chOff x="2965320" y="2568600"/>
            <a:chExt cx="662040" cy="252360"/>
          </a:xfrm>
        </p:grpSpPr>
        <p:sp>
          <p:nvSpPr>
            <p:cNvPr id="210" name=""/>
            <p:cNvSpPr/>
            <p:nvPr/>
          </p:nvSpPr>
          <p:spPr>
            <a:xfrm>
              <a:off x="3017880" y="2568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65320" y="26355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938320" y="234144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 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6920" y="2205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198" idx="2"/>
            <a:endCxn id="212" idx="0"/>
          </p:cNvCxnSpPr>
          <p:nvPr/>
        </p:nvCxnSpPr>
        <p:spPr>
          <a:xfrm flipH="1" flipV="1" rot="5400000">
            <a:off x="2099880" y="1738440"/>
            <a:ext cx="567720" cy="1772280"/>
          </a:xfrm>
          <a:prstGeom prst="bentConnector5">
            <a:avLst>
              <a:gd name="adj1" fmla="val -22652"/>
              <a:gd name="adj2" fmla="val 23283"/>
              <a:gd name="adj3" fmla="val 14029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5" name=""/>
          <p:cNvCxnSpPr>
            <a:stCxn id="207" idx="2"/>
            <a:endCxn id="216" idx="0"/>
          </p:cNvCxnSpPr>
          <p:nvPr/>
        </p:nvCxnSpPr>
        <p:spPr>
          <a:xfrm flipH="1" rot="16200000">
            <a:off x="3255840" y="3004920"/>
            <a:ext cx="161280" cy="2160"/>
          </a:xfrm>
          <a:prstGeom prst="bentConnector3">
            <a:avLst>
              <a:gd name="adj1" fmla="val 543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5" name=""/>
          <p:cNvSpPr/>
          <p:nvPr/>
        </p:nvSpPr>
        <p:spPr>
          <a:xfrm>
            <a:off x="1216080" y="2322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 Vo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o. documento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4240" y="308628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07160" y="32320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19600" y="32608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3"/>
            <a:endCxn id="218" idx="2"/>
          </p:cNvCxnSpPr>
          <p:nvPr/>
        </p:nvCxnSpPr>
        <p:spPr>
          <a:xfrm>
            <a:off x="3618000" y="3330360"/>
            <a:ext cx="20232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0" name=""/>
          <p:cNvSpPr/>
          <p:nvPr/>
        </p:nvSpPr>
        <p:spPr>
          <a:xfrm>
            <a:off x="3551760" y="31748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3336480" y="3575160"/>
            <a:ext cx="1080" cy="202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3" name=""/>
          <p:cNvSpPr/>
          <p:nvPr/>
        </p:nvSpPr>
        <p:spPr>
          <a:xfrm>
            <a:off x="3119400" y="35686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05280" y="37767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torga 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env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40280" y="45576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doc. 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a la  Impla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ción y envía inf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2" idx="2"/>
            <a:endCxn id="224" idx="0"/>
          </p:cNvCxnSpPr>
          <p:nvPr/>
        </p:nvCxnSpPr>
        <p:spPr>
          <a:xfrm flipH="1" rot="16200000">
            <a:off x="3615120" y="3801600"/>
            <a:ext cx="477000" cy="103572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4472280" y="43513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4480" y="55040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informe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 repor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191" idx="2"/>
            <a:endCxn id="227" idx="0"/>
          </p:cNvCxnSpPr>
          <p:nvPr/>
        </p:nvCxnSpPr>
        <p:spPr>
          <a:xfrm rot="5400000">
            <a:off x="3736800" y="4813920"/>
            <a:ext cx="369360" cy="1011960"/>
          </a:xfrm>
          <a:prstGeom prst="bentConnector3">
            <a:avLst>
              <a:gd name="adj1" fmla="val 5170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29" name=""/>
          <p:cNvGrpSpPr/>
          <p:nvPr/>
        </p:nvGrpSpPr>
        <p:grpSpPr>
          <a:xfrm>
            <a:off x="2095560" y="5978520"/>
            <a:ext cx="661680" cy="252360"/>
            <a:chOff x="2095560" y="5978520"/>
            <a:chExt cx="661680" cy="252360"/>
          </a:xfrm>
        </p:grpSpPr>
        <p:sp>
          <p:nvSpPr>
            <p:cNvPr id="230" name=""/>
            <p:cNvSpPr/>
            <p:nvPr/>
          </p:nvSpPr>
          <p:spPr>
            <a:xfrm>
              <a:off x="2147760" y="5978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5560" y="604548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82240" y="5857920"/>
            <a:ext cx="662400" cy="252360"/>
            <a:chOff x="2082240" y="5857920"/>
            <a:chExt cx="662400" cy="252360"/>
          </a:xfrm>
        </p:grpSpPr>
        <p:sp>
          <p:nvSpPr>
            <p:cNvPr id="233" name=""/>
            <p:cNvSpPr/>
            <p:nvPr/>
          </p:nvSpPr>
          <p:spPr>
            <a:xfrm>
              <a:off x="2135160" y="5857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2240" y="59248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081160" y="564372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porte y 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0640" y="5329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6400" y="54561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185" idx="2"/>
            <a:endCxn id="235" idx="0"/>
          </p:cNvCxnSpPr>
          <p:nvPr/>
        </p:nvCxnSpPr>
        <p:spPr>
          <a:xfrm flipV="1" rot="16200000">
            <a:off x="2718000" y="5337360"/>
            <a:ext cx="432360" cy="1043640"/>
          </a:xfrm>
          <a:prstGeom prst="bentConnector5">
            <a:avLst>
              <a:gd name="adj1" fmla="val -56250"/>
              <a:gd name="adj2" fmla="val 38957"/>
              <a:gd name="adj3" fmla="val 15291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1270080" y="6251400"/>
            <a:ext cx="661680" cy="252360"/>
            <a:chOff x="1270080" y="6251400"/>
            <a:chExt cx="661680" cy="252360"/>
          </a:xfrm>
        </p:grpSpPr>
        <p:sp>
          <p:nvSpPr>
            <p:cNvPr id="240" name=""/>
            <p:cNvSpPr/>
            <p:nvPr/>
          </p:nvSpPr>
          <p:spPr>
            <a:xfrm>
              <a:off x="1322280" y="6251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0080" y="631836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256760" y="6130800"/>
            <a:ext cx="662400" cy="252360"/>
            <a:chOff x="1256760" y="6130800"/>
            <a:chExt cx="662400" cy="252360"/>
          </a:xfrm>
        </p:grpSpPr>
        <p:sp>
          <p:nvSpPr>
            <p:cNvPr id="243" name=""/>
            <p:cNvSpPr/>
            <p:nvPr/>
          </p:nvSpPr>
          <p:spPr>
            <a:xfrm>
              <a:off x="1309680" y="6130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56760" y="6197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255680" y="59166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porte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90920" y="57294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9440" y="70470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cono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miento del rep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4680" y="68594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7" idx="2"/>
            <a:endCxn id="250" idx="0"/>
          </p:cNvCxnSpPr>
          <p:nvPr/>
        </p:nvCxnSpPr>
        <p:spPr>
          <a:xfrm>
            <a:off x="711360" y="7351560"/>
            <a:ext cx="2160" cy="170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1" name=""/>
          <p:cNvCxnSpPr>
            <a:stCxn id="240" idx="2"/>
            <a:endCxn id="247" idx="0"/>
          </p:cNvCxnSpPr>
          <p:nvPr/>
        </p:nvCxnSpPr>
        <p:spPr>
          <a:xfrm rot="5400000">
            <a:off x="889560" y="6309720"/>
            <a:ext cx="559080" cy="916560"/>
          </a:xfrm>
          <a:prstGeom prst="bentConnector3">
            <a:avLst>
              <a:gd name="adj1" fmla="val 5115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0" name=""/>
          <p:cNvSpPr/>
          <p:nvPr/>
        </p:nvSpPr>
        <p:spPr>
          <a:xfrm>
            <a:off x="380880" y="7521480"/>
            <a:ext cx="66384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0" idx="2"/>
            <a:endCxn id="245" idx="0"/>
          </p:cNvCxnSpPr>
          <p:nvPr/>
        </p:nvCxnSpPr>
        <p:spPr>
          <a:xfrm flipV="1" rot="16200000">
            <a:off x="1870200" y="5632560"/>
            <a:ext cx="299160" cy="865800"/>
          </a:xfrm>
          <a:prstGeom prst="bentConnector5">
            <a:avLst>
              <a:gd name="adj1" fmla="val -81325"/>
              <a:gd name="adj2" fmla="val 48419"/>
              <a:gd name="adj3" fmla="val 17650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20:08:55Z</dcterms:modified>
  <cp:revision>71</cp:revision>
  <dc:subject/>
  <dc:title>Presentación de PowerPoint</dc:title>
</cp:coreProperties>
</file>