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5771880" cy="5837400"/>
            <a:chOff x="304920" y="1709640"/>
            <a:chExt cx="5771880" cy="5837400"/>
          </a:xfrm>
        </p:grpSpPr>
        <p:sp>
          <p:nvSpPr>
            <p:cNvPr id="1" name=""/>
            <p:cNvSpPr/>
            <p:nvPr/>
          </p:nvSpPr>
          <p:spPr>
            <a:xfrm>
              <a:off x="4768920" y="2279520"/>
              <a:ext cx="130788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68600" y="2279520"/>
              <a:ext cx="13003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413080" y="227952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360440" y="227952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20" y="227952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768920" y="1709640"/>
              <a:ext cx="13078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. Gral. de Planeación y Desarrollo en Salud o Entidades Estatales y Federativ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68600" y="1709640"/>
              <a:ext cx="1300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iseño de Herramientas Gerencial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413080" y="1709640"/>
              <a:ext cx="10555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60440" y="1709640"/>
              <a:ext cx="1052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1709640"/>
              <a:ext cx="10555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2279520"/>
              <a:ext cx="577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7547040"/>
              <a:ext cx="577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709640"/>
              <a:ext cx="0" cy="583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60440" y="1709640"/>
              <a:ext cx="0" cy="58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413080" y="1709640"/>
              <a:ext cx="0" cy="58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468600" y="1709640"/>
              <a:ext cx="0" cy="58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768920" y="1709640"/>
              <a:ext cx="0" cy="58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076800" y="1709640"/>
              <a:ext cx="0" cy="583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468600" y="1709640"/>
              <a:ext cx="260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3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85 de 11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Procedimiento para participar en el diseño y aplicación de pruebas piloto para el uso de Herramientas para la Gerencia en la atención a la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Sistemas Gerenci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0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ECTOR ROBLEDO GALV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GONZALEZ ISASS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COLIN DIA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3781080" y="3603600"/>
            <a:ext cx="662400" cy="252360"/>
            <a:chOff x="3781080" y="3603600"/>
            <a:chExt cx="662400" cy="252360"/>
          </a:xfrm>
        </p:grpSpPr>
        <p:sp>
          <p:nvSpPr>
            <p:cNvPr id="105" name=""/>
            <p:cNvSpPr/>
            <p:nvPr/>
          </p:nvSpPr>
          <p:spPr>
            <a:xfrm>
              <a:off x="3834000" y="36036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81080" y="3670560"/>
              <a:ext cx="61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762360" y="3019320"/>
            <a:ext cx="662040" cy="252360"/>
            <a:chOff x="3762360" y="3019320"/>
            <a:chExt cx="662040" cy="252360"/>
          </a:xfrm>
        </p:grpSpPr>
        <p:sp>
          <p:nvSpPr>
            <p:cNvPr id="108" name=""/>
            <p:cNvSpPr/>
            <p:nvPr/>
          </p:nvSpPr>
          <p:spPr>
            <a:xfrm>
              <a:off x="3814920" y="3019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62360" y="308628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742920" y="2847960"/>
            <a:ext cx="662400" cy="252360"/>
            <a:chOff x="3742920" y="2847960"/>
            <a:chExt cx="662400" cy="252360"/>
          </a:xfrm>
        </p:grpSpPr>
        <p:sp>
          <p:nvSpPr>
            <p:cNvPr id="111" name=""/>
            <p:cNvSpPr/>
            <p:nvPr/>
          </p:nvSpPr>
          <p:spPr>
            <a:xfrm>
              <a:off x="3795840" y="2847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42920" y="2914920"/>
              <a:ext cx="657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1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53320" y="2833560"/>
            <a:ext cx="676080" cy="252360"/>
            <a:chOff x="1453320" y="2833560"/>
            <a:chExt cx="676080" cy="252360"/>
          </a:xfrm>
        </p:grpSpPr>
        <p:sp>
          <p:nvSpPr>
            <p:cNvPr id="114" name=""/>
            <p:cNvSpPr/>
            <p:nvPr/>
          </p:nvSpPr>
          <p:spPr>
            <a:xfrm>
              <a:off x="1506600" y="28335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53320" y="2900520"/>
              <a:ext cx="67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400" y="2965320"/>
            <a:ext cx="676080" cy="252360"/>
            <a:chOff x="518400" y="2965320"/>
            <a:chExt cx="676080" cy="252360"/>
          </a:xfrm>
        </p:grpSpPr>
        <p:sp>
          <p:nvSpPr>
            <p:cNvPr id="117" name=""/>
            <p:cNvSpPr/>
            <p:nvPr/>
          </p:nvSpPr>
          <p:spPr>
            <a:xfrm>
              <a:off x="571680" y="2965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400" y="3032280"/>
              <a:ext cx="67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743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quisi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Pba. Pilo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8480" y="2654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2"/>
            <a:endCxn id="122" idx="0"/>
          </p:cNvCxnSpPr>
          <p:nvPr/>
        </p:nvCxnSpPr>
        <p:spPr>
          <a:xfrm flipH="1">
            <a:off x="838440" y="2590920"/>
            <a:ext cx="1800" cy="152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5" name=""/>
          <p:cNvSpPr/>
          <p:nvPr/>
        </p:nvSpPr>
        <p:spPr>
          <a:xfrm>
            <a:off x="1467000" y="26067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querimento.,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44720" y="24573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2"/>
            <a:endCxn id="125" idx="0"/>
          </p:cNvCxnSpPr>
          <p:nvPr/>
        </p:nvCxnSpPr>
        <p:spPr>
          <a:xfrm flipH="1" flipV="1" rot="5400000">
            <a:off x="1026720" y="2456640"/>
            <a:ext cx="595080" cy="895680"/>
          </a:xfrm>
          <a:prstGeom prst="bentConnector5">
            <a:avLst>
              <a:gd name="adj1" fmla="val -41464"/>
              <a:gd name="adj2" fmla="val -59951"/>
              <a:gd name="adj3" fmla="val 13898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186440" y="2478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5" idx="2"/>
            <a:endCxn id="130" idx="0"/>
          </p:cNvCxnSpPr>
          <p:nvPr/>
        </p:nvCxnSpPr>
        <p:spPr>
          <a:xfrm flipH="1" flipV="1" rot="5400000">
            <a:off x="2090160" y="2337840"/>
            <a:ext cx="449280" cy="1047600"/>
          </a:xfrm>
          <a:prstGeom prst="bentConnector5">
            <a:avLst>
              <a:gd name="adj1" fmla="val -50521"/>
              <a:gd name="adj2" fmla="val 151185"/>
              <a:gd name="adj3" fmla="val 15156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0" name=""/>
          <p:cNvSpPr/>
          <p:nvPr/>
        </p:nvSpPr>
        <p:spPr>
          <a:xfrm>
            <a:off x="2533680" y="26370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querim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pba. pilo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16080" y="248760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0" idx="2"/>
            <a:endCxn id="133" idx="0"/>
          </p:cNvCxnSpPr>
          <p:nvPr/>
        </p:nvCxnSpPr>
        <p:spPr>
          <a:xfrm flipH="1" flipV="1" rot="5400000">
            <a:off x="3300480" y="2165040"/>
            <a:ext cx="314640" cy="1238760"/>
          </a:xfrm>
          <a:prstGeom prst="bentConnector5">
            <a:avLst>
              <a:gd name="adj1" fmla="val -73768"/>
              <a:gd name="adj2" fmla="val 49970"/>
              <a:gd name="adj3" fmla="val 17376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3" name=""/>
          <p:cNvSpPr/>
          <p:nvPr/>
        </p:nvSpPr>
        <p:spPr>
          <a:xfrm>
            <a:off x="3772080" y="26272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señar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ueb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09" idx="2"/>
            <a:endCxn id="135" idx="0"/>
          </p:cNvCxnSpPr>
          <p:nvPr/>
        </p:nvCxnSpPr>
        <p:spPr>
          <a:xfrm>
            <a:off x="4080600" y="3271680"/>
            <a:ext cx="2880" cy="118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5" name=""/>
          <p:cNvSpPr/>
          <p:nvPr/>
        </p:nvSpPr>
        <p:spPr>
          <a:xfrm>
            <a:off x="3778200" y="33894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dentif. de recur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s y adapta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40440" y="3268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53040" y="38847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4680" y="40244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vestig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jores prác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06" idx="2"/>
            <a:endCxn id="138" idx="0"/>
          </p:cNvCxnSpPr>
          <p:nvPr/>
        </p:nvCxnSpPr>
        <p:spPr>
          <a:xfrm>
            <a:off x="4088520" y="3855960"/>
            <a:ext cx="1440" cy="168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0" name=""/>
          <p:cNvSpPr/>
          <p:nvPr/>
        </p:nvSpPr>
        <p:spPr>
          <a:xfrm>
            <a:off x="5459400" y="38908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08680" y="40370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ugar físico de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ba. Pilo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69120" y="4491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8" idx="2"/>
            <a:endCxn id="141" idx="0"/>
          </p:cNvCxnSpPr>
          <p:nvPr/>
        </p:nvCxnSpPr>
        <p:spPr>
          <a:xfrm flipH="1" flipV="1" rot="5400000">
            <a:off x="4568760" y="3557520"/>
            <a:ext cx="292320" cy="1251360"/>
          </a:xfrm>
          <a:prstGeom prst="bentConnector5">
            <a:avLst>
              <a:gd name="adj1" fmla="val -79408"/>
              <a:gd name="adj2" fmla="val 48892"/>
              <a:gd name="adj3" fmla="val 179408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4" name=""/>
          <p:cNvSpPr/>
          <p:nvPr/>
        </p:nvSpPr>
        <p:spPr>
          <a:xfrm>
            <a:off x="5008680" y="46339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os particip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1" idx="2"/>
            <a:endCxn id="144" idx="0"/>
          </p:cNvCxnSpPr>
          <p:nvPr/>
        </p:nvCxnSpPr>
        <p:spPr>
          <a:xfrm>
            <a:off x="5340600" y="4341960"/>
            <a:ext cx="360" cy="29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6" name=""/>
          <p:cNvGrpSpPr/>
          <p:nvPr/>
        </p:nvGrpSpPr>
        <p:grpSpPr>
          <a:xfrm>
            <a:off x="3795840" y="6854760"/>
            <a:ext cx="703080" cy="250920"/>
            <a:chOff x="3795840" y="6854760"/>
            <a:chExt cx="703080" cy="250920"/>
          </a:xfrm>
        </p:grpSpPr>
        <p:sp>
          <p:nvSpPr>
            <p:cNvPr id="147" name=""/>
            <p:cNvSpPr/>
            <p:nvPr/>
          </p:nvSpPr>
          <p:spPr>
            <a:xfrm>
              <a:off x="3798720" y="6854760"/>
              <a:ext cx="60912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95840" y="6883200"/>
              <a:ext cx="70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67240" y="6175440"/>
            <a:ext cx="1160280" cy="250920"/>
            <a:chOff x="3567240" y="6175440"/>
            <a:chExt cx="1160280" cy="250920"/>
          </a:xfrm>
        </p:grpSpPr>
        <p:sp>
          <p:nvSpPr>
            <p:cNvPr id="150" name=""/>
            <p:cNvSpPr/>
            <p:nvPr/>
          </p:nvSpPr>
          <p:spPr>
            <a:xfrm>
              <a:off x="3735360" y="6175440"/>
              <a:ext cx="60984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7240" y="6222960"/>
              <a:ext cx="1160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670200" y="5553000"/>
            <a:ext cx="662040" cy="252360"/>
            <a:chOff x="3670200" y="5553000"/>
            <a:chExt cx="662040" cy="252360"/>
          </a:xfrm>
        </p:grpSpPr>
        <p:sp>
          <p:nvSpPr>
            <p:cNvPr id="153" name=""/>
            <p:cNvSpPr/>
            <p:nvPr/>
          </p:nvSpPr>
          <p:spPr>
            <a:xfrm>
              <a:off x="3722760" y="5553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70200" y="561996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643200" y="531972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pl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a pba. pilo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43200" y="595476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sultados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prueba pilo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006440" y="5789160"/>
            <a:ext cx="1080" cy="159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4256280" y="5189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42160" y="58118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06920" y="660888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troalimient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0" idx="2"/>
            <a:endCxn id="160" idx="0"/>
          </p:cNvCxnSpPr>
          <p:nvPr/>
        </p:nvCxnSpPr>
        <p:spPr>
          <a:xfrm flipH="1">
            <a:off x="4038840" y="6411600"/>
            <a:ext cx="1800" cy="197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/>
          <p:nvPr/>
        </p:nvCxnSpPr>
        <p:spPr>
          <a:xfrm>
            <a:off x="4086360" y="7095960"/>
            <a:ext cx="3600" cy="224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3" name=""/>
          <p:cNvSpPr/>
          <p:nvPr/>
        </p:nvSpPr>
        <p:spPr>
          <a:xfrm>
            <a:off x="3759120" y="733752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56280" y="64720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44" idx="2"/>
            <a:endCxn id="155" idx="0"/>
          </p:cNvCxnSpPr>
          <p:nvPr/>
        </p:nvCxnSpPr>
        <p:spPr>
          <a:xfrm rot="5400000">
            <a:off x="4467240" y="4446720"/>
            <a:ext cx="381240" cy="1365840"/>
          </a:xfrm>
          <a:prstGeom prst="bentConnector5">
            <a:avLst>
              <a:gd name="adj1" fmla="val 60775"/>
              <a:gd name="adj2" fmla="val 49986"/>
              <a:gd name="adj3" fmla="val 39130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ICTORIAR</cp:lastModifiedBy>
  <dcterms:modified xsi:type="dcterms:W3CDTF">2005-08-10T16:04:54Z</dcterms:modified>
  <cp:revision>61</cp:revision>
  <dc:subject/>
  <dc:title>Presentación de PowerPoint</dc:title>
</cp:coreProperties>
</file>