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4216320" cy="5856480"/>
            <a:chOff x="304920" y="1709640"/>
            <a:chExt cx="4216320" cy="5856480"/>
          </a:xfrm>
        </p:grpSpPr>
        <p:sp>
          <p:nvSpPr>
            <p:cNvPr id="1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ubdirección de Integración Sustentable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 de  Desarrollo y Sustentabilidad  de Servicio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2298600"/>
              <a:ext cx="421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7566120"/>
              <a:ext cx="4216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1052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0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dimiento para Recopilar Información Nacional e Internacional de Aspectos de Integración Sustentable de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 de Desarrollo y  Sustentabilidad de Servicios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6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7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731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7310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7310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731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5186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5186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829008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Juan Gabriel Gay Mol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829008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553200" y="4321080"/>
            <a:ext cx="663120" cy="252360"/>
            <a:chOff x="3553200" y="4321080"/>
            <a:chExt cx="663120" cy="252360"/>
          </a:xfrm>
        </p:grpSpPr>
        <p:sp>
          <p:nvSpPr>
            <p:cNvPr id="102" name=""/>
            <p:cNvSpPr/>
            <p:nvPr/>
          </p:nvSpPr>
          <p:spPr>
            <a:xfrm>
              <a:off x="3606840" y="4321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53200" y="4388040"/>
              <a:ext cx="581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f. impres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554640" y="4179960"/>
            <a:ext cx="661680" cy="252360"/>
            <a:chOff x="3554640" y="4179960"/>
            <a:chExt cx="661680" cy="252360"/>
          </a:xfrm>
        </p:grpSpPr>
        <p:sp>
          <p:nvSpPr>
            <p:cNvPr id="105" name=""/>
            <p:cNvSpPr/>
            <p:nvPr/>
          </p:nvSpPr>
          <p:spPr>
            <a:xfrm>
              <a:off x="3606840" y="4179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54640" y="4246920"/>
              <a:ext cx="38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ibr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7367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 la recopi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ción de inform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2"/>
            <a:endCxn id="110" idx="0"/>
          </p:cNvCxnSpPr>
          <p:nvPr/>
        </p:nvCxnSpPr>
        <p:spPr>
          <a:xfrm flipH="1">
            <a:off x="838440" y="2590920"/>
            <a:ext cx="1800" cy="146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3" name=""/>
          <p:cNvSpPr/>
          <p:nvPr/>
        </p:nvSpPr>
        <p:spPr>
          <a:xfrm>
            <a:off x="1444680" y="29592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dicacione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turna a la DDS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4480" y="283212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03600" y="39416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Compil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formación na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nal e internac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0800" y="378288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37000" y="4815000"/>
            <a:ext cx="64440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centr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3280" y="4660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8040" y="518652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4800" y="3046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5240" y="319572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struccione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turna a la SISS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rot="5400000">
            <a:off x="3306240" y="4158720"/>
            <a:ext cx="244800" cy="1070640"/>
          </a:xfrm>
          <a:prstGeom prst="bentConnector3">
            <a:avLst>
              <a:gd name="adj1" fmla="val 4992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3" name=""/>
          <p:cNvCxnSpPr>
            <a:stCxn id="110" idx="2"/>
            <a:endCxn id="113" idx="0"/>
          </p:cNvCxnSpPr>
          <p:nvPr/>
        </p:nvCxnSpPr>
        <p:spPr>
          <a:xfrm flipH="1" flipV="1" rot="5400000">
            <a:off x="1252440" y="2544840"/>
            <a:ext cx="82800" cy="911520"/>
          </a:xfrm>
          <a:prstGeom prst="bentConnector5">
            <a:avLst>
              <a:gd name="adj1" fmla="val -550655"/>
              <a:gd name="adj2" fmla="val 158830"/>
              <a:gd name="adj3" fmla="val 38078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4" name=""/>
          <p:cNvSpPr/>
          <p:nvPr/>
        </p:nvSpPr>
        <p:spPr>
          <a:xfrm>
            <a:off x="3595680" y="531648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if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2"/>
            <a:endCxn id="115" idx="0"/>
          </p:cNvCxnSpPr>
          <p:nvPr/>
        </p:nvCxnSpPr>
        <p:spPr>
          <a:xfrm flipH="1" rot="16200000">
            <a:off x="3138480" y="3171600"/>
            <a:ext cx="441720" cy="1098720"/>
          </a:xfrm>
          <a:prstGeom prst="bentConnector5">
            <a:avLst>
              <a:gd name="adj1" fmla="val 52528"/>
              <a:gd name="adj2" fmla="val 49885"/>
              <a:gd name="adj3" fmla="val 4747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6" name=""/>
          <p:cNvCxnSpPr/>
          <p:nvPr/>
        </p:nvCxnSpPr>
        <p:spPr>
          <a:xfrm flipH="1" flipV="1" rot="5400000">
            <a:off x="2197800" y="2772720"/>
            <a:ext cx="83160" cy="911880"/>
          </a:xfrm>
          <a:prstGeom prst="bentConnector5">
            <a:avLst>
              <a:gd name="adj1" fmla="val -276521"/>
              <a:gd name="adj2" fmla="val 50000"/>
              <a:gd name="adj3" fmla="val 37652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7" name=""/>
          <p:cNvCxnSpPr>
            <a:stCxn id="117" idx="2"/>
            <a:endCxn id="124" idx="0"/>
          </p:cNvCxnSpPr>
          <p:nvPr/>
        </p:nvCxnSpPr>
        <p:spPr>
          <a:xfrm flipH="1" rot="16200000">
            <a:off x="3345120" y="4733640"/>
            <a:ext cx="197280" cy="968760"/>
          </a:xfrm>
          <a:prstGeom prst="bentConnector5">
            <a:avLst>
              <a:gd name="adj1" fmla="val 117733"/>
              <a:gd name="adj2" fmla="val -57174"/>
              <a:gd name="adj3" fmla="val -27239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2765520" y="59450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asif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4" idx="2"/>
            <a:endCxn id="128" idx="0"/>
          </p:cNvCxnSpPr>
          <p:nvPr/>
        </p:nvCxnSpPr>
        <p:spPr>
          <a:xfrm rot="5400000">
            <a:off x="3350520" y="5367960"/>
            <a:ext cx="324000" cy="830520"/>
          </a:xfrm>
          <a:prstGeom prst="bentConnector5">
            <a:avLst>
              <a:gd name="adj1" fmla="val 265739"/>
              <a:gd name="adj2" fmla="val 167909"/>
              <a:gd name="adj3" fmla="val 2825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0" name=""/>
          <p:cNvSpPr/>
          <p:nvPr/>
        </p:nvSpPr>
        <p:spPr>
          <a:xfrm>
            <a:off x="3201840" y="578952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8240" y="63770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tegr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8" idx="2"/>
            <a:endCxn id="131" idx="0"/>
          </p:cNvCxnSpPr>
          <p:nvPr/>
        </p:nvCxnSpPr>
        <p:spPr>
          <a:xfrm flipH="1" rot="16200000">
            <a:off x="3475440" y="5871960"/>
            <a:ext cx="127440" cy="883080"/>
          </a:xfrm>
          <a:prstGeom prst="bentConnector5">
            <a:avLst>
              <a:gd name="adj1" fmla="val 182152"/>
              <a:gd name="adj2" fmla="val -63866"/>
              <a:gd name="adj3" fmla="val -42266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3" name=""/>
          <p:cNvSpPr/>
          <p:nvPr/>
        </p:nvSpPr>
        <p:spPr>
          <a:xfrm>
            <a:off x="561960" y="68342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teración c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stitu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nacionales e Inte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9960" y="62802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1" idx="2"/>
            <a:endCxn id="133" idx="0"/>
          </p:cNvCxnSpPr>
          <p:nvPr/>
        </p:nvCxnSpPr>
        <p:spPr>
          <a:xfrm rot="5400000">
            <a:off x="2360520" y="5214960"/>
            <a:ext cx="152640" cy="3086640"/>
          </a:xfrm>
          <a:prstGeom prst="bentConnector5">
            <a:avLst>
              <a:gd name="adj1" fmla="val 152009"/>
              <a:gd name="adj2" fmla="val 50005"/>
              <a:gd name="adj3" fmla="val -5224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6" name=""/>
          <p:cNvSpPr/>
          <p:nvPr/>
        </p:nvSpPr>
        <p:spPr>
          <a:xfrm>
            <a:off x="1017720" y="6705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/>
          <p:nvPr/>
        </p:nvCxnSpPr>
        <p:spPr>
          <a:xfrm>
            <a:off x="888840" y="7125840"/>
            <a:ext cx="5760" cy="151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568440" y="728352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67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9:35:02Z</dcterms:modified>
  <cp:revision>65</cp:revision>
  <dc:subject/>
  <dc:title>Presentación de PowerPoint</dc:title>
</cp:coreProperties>
</file>