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72880" y="1663560"/>
            <a:ext cx="6324840" cy="5815080"/>
            <a:chOff x="272880" y="1663560"/>
            <a:chExt cx="6324840" cy="5815080"/>
          </a:xfrm>
        </p:grpSpPr>
        <p:sp>
          <p:nvSpPr>
            <p:cNvPr id="1" name=""/>
            <p:cNvSpPr/>
            <p:nvPr/>
          </p:nvSpPr>
          <p:spPr>
            <a:xfrm>
              <a:off x="554508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8956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3692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8140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2876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2880" y="2211480"/>
              <a:ext cx="105588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508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48956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3692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8140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da institución del sector salud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2876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bdirección de Innovación Logística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2880" y="1663560"/>
              <a:ext cx="1055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2880" y="2211480"/>
              <a:ext cx="632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72880" y="7478640"/>
              <a:ext cx="6324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7288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8140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3692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4895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4508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59772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166356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72880" y="1663560"/>
              <a:ext cx="1055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36920" y="166356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537160" y="716040"/>
              <a:ext cx="1092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 44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108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el ordenamiento sistemático de encuestas e información obtenida en relación a la cadena de suministro</a:t>
              </a:r>
              <a:r>
                <a:rPr b="1" lang="es-MX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537160" y="455760"/>
              <a:ext cx="10922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1083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537160" y="228600"/>
              <a:ext cx="10922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1083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53716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20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6920"/>
            <a:chOff x="304920" y="7848720"/>
            <a:chExt cx="6324480" cy="1096920"/>
          </a:xfrm>
        </p:grpSpPr>
        <p:sp>
          <p:nvSpPr>
            <p:cNvPr id="43" name=""/>
            <p:cNvSpPr/>
            <p:nvPr/>
          </p:nvSpPr>
          <p:spPr>
            <a:xfrm>
              <a:off x="4800600" y="8077320"/>
              <a:ext cx="1828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7320"/>
              <a:ext cx="1905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7320"/>
              <a:ext cx="1981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7320"/>
              <a:ext cx="609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2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2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2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2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201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201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201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201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9152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9152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Blanca Chávez Buenrost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9152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Marisol Osorio Marí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152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915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201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2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56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90960" y="36050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01880" y="5338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2880" y="2762280"/>
            <a:ext cx="609480" cy="297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ordin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a ordenar l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cuest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9760" y="3049560"/>
            <a:ext cx="6094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fini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rdenamient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encuest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/>
          <p:nvPr/>
        </p:nvCxnSpPr>
        <p:spPr>
          <a:xfrm flipH="1" flipV="1" rot="5400000">
            <a:off x="1276200" y="2620440"/>
            <a:ext cx="10440" cy="867600"/>
          </a:xfrm>
          <a:prstGeom prst="bentConnector5">
            <a:avLst>
              <a:gd name="adj1" fmla="val -2400000"/>
              <a:gd name="adj2" fmla="val 49979"/>
              <a:gd name="adj3" fmla="val 2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855800" y="29224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76320" y="2614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/>
          <p:nvPr/>
        </p:nvCxnSpPr>
        <p:spPr>
          <a:xfrm>
            <a:off x="839880" y="2590920"/>
            <a:ext cx="864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1339920" y="2914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7680" y="619128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2880" y="548172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ordenamient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inform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/>
          <p:nvPr/>
        </p:nvCxnSpPr>
        <p:spPr>
          <a:xfrm>
            <a:off x="847800" y="5785920"/>
            <a:ext cx="2160" cy="40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1463760" y="469116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ordenamient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inform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28880" y="4546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/>
          <p:nvPr/>
        </p:nvCxnSpPr>
        <p:spPr>
          <a:xfrm rot="5400000">
            <a:off x="1064160" y="4778280"/>
            <a:ext cx="486720" cy="92124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7" name=""/>
          <p:cNvGrpSpPr/>
          <p:nvPr/>
        </p:nvGrpSpPr>
        <p:grpSpPr>
          <a:xfrm>
            <a:off x="2636640" y="3951360"/>
            <a:ext cx="662040" cy="252360"/>
            <a:chOff x="2636640" y="3951360"/>
            <a:chExt cx="662040" cy="252360"/>
          </a:xfrm>
        </p:grpSpPr>
        <p:sp>
          <p:nvSpPr>
            <p:cNvPr id="88" name=""/>
            <p:cNvSpPr/>
            <p:nvPr/>
          </p:nvSpPr>
          <p:spPr>
            <a:xfrm>
              <a:off x="2689200" y="39513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36640" y="401832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635200" y="3747960"/>
            <a:ext cx="6094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finición de pro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uesta ordenami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to de encuest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/>
          <p:nvPr/>
        </p:nvCxnSpPr>
        <p:spPr>
          <a:xfrm flipH="1" rot="16200000">
            <a:off x="2135160" y="2942640"/>
            <a:ext cx="384840" cy="1226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rot="5400000">
            <a:off x="2128680" y="3826440"/>
            <a:ext cx="504000" cy="1226520"/>
          </a:xfrm>
          <a:prstGeom prst="bentConnector3">
            <a:avLst>
              <a:gd name="adj1" fmla="val 513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Base" hidden="1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4992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MARISOLO</cp:lastModifiedBy>
  <dcterms:modified xsi:type="dcterms:W3CDTF">2005-08-05T18:46:25Z</dcterms:modified>
  <cp:revision>6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40261479</vt:r8>
  </property>
  <property fmtid="{D5CDD505-2E9C-101B-9397-08002B2CF9AE}" pid="3" name="_AuthorEmail">
    <vt:lpwstr>MARISOLO@DGPEC-S01.SSA.com</vt:lpwstr>
  </property>
  <property fmtid="{D5CDD505-2E9C-101B-9397-08002B2CF9AE}" pid="4" name="_AuthorEmailDisplayName">
    <vt:lpwstr>MARISOL OSORIO MARIN</vt:lpwstr>
  </property>
  <property fmtid="{D5CDD505-2E9C-101B-9397-08002B2CF9AE}" pid="5" name="_EmailSubject">
    <vt:lpwstr>ISO 9001-2000</vt:lpwstr>
  </property>
  <property fmtid="{D5CDD505-2E9C-101B-9397-08002B2CF9AE}" pid="6" name="_PreviousAdHocReviewCycleID">
    <vt:r8>-1233094112</vt:r8>
  </property>
</Properties>
</file>