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70040"/>
            <a:ext cx="6311520" cy="5854320"/>
            <a:chOff x="304920" y="1670040"/>
            <a:chExt cx="6311520" cy="5854320"/>
          </a:xfrm>
        </p:grpSpPr>
        <p:sp>
          <p:nvSpPr>
            <p:cNvPr id="1" name=""/>
            <p:cNvSpPr/>
            <p:nvPr/>
          </p:nvSpPr>
          <p:spPr>
            <a:xfrm>
              <a:off x="4510440" y="2221560"/>
              <a:ext cx="2105640" cy="53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0560" y="2221560"/>
              <a:ext cx="2099880" cy="53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2221560"/>
              <a:ext cx="2105640" cy="53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10440" y="1670040"/>
              <a:ext cx="2105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0560" y="1670040"/>
              <a:ext cx="209988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1670040"/>
              <a:ext cx="2105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21560"/>
              <a:ext cx="631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7524360"/>
              <a:ext cx="631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670040"/>
              <a:ext cx="0" cy="5854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0560" y="1670040"/>
              <a:ext cx="0" cy="58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10440" y="1670040"/>
              <a:ext cx="0" cy="58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16440" y="1670040"/>
              <a:ext cx="0" cy="5854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670040"/>
              <a:ext cx="210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0560" y="1670040"/>
              <a:ext cx="42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113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Desarrollar proyectos orientados hacia la tercerización de procesos en la cadena de suministr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052800" y="3902040"/>
            <a:ext cx="763560" cy="361800"/>
            <a:chOff x="3052800" y="3902040"/>
            <a:chExt cx="763560" cy="361800"/>
          </a:xfrm>
        </p:grpSpPr>
        <p:sp>
          <p:nvSpPr>
            <p:cNvPr id="98" name=""/>
            <p:cNvSpPr/>
            <p:nvPr/>
          </p:nvSpPr>
          <p:spPr>
            <a:xfrm>
              <a:off x="3092760" y="390204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52800" y="407844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0880" y="28558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2200" y="45878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pil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4760" y="582624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uniones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287000" y="257976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030480" y="377820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teg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8520" y="2720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14840" y="36464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11920" y="44719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1600" y="50576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6680" y="5345280"/>
            <a:ext cx="88920" cy="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6560" y="65372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68600" y="63817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68500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5800" y="236376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00160" y="2384280"/>
            <a:ext cx="41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22400" y="718668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6560" y="718488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3320" y="51688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41480" y="6589800"/>
            <a:ext cx="763560" cy="361800"/>
            <a:chOff x="1041480" y="6589800"/>
            <a:chExt cx="763560" cy="361800"/>
          </a:xfrm>
        </p:grpSpPr>
        <p:sp>
          <p:nvSpPr>
            <p:cNvPr id="121" name=""/>
            <p:cNvSpPr/>
            <p:nvPr/>
          </p:nvSpPr>
          <p:spPr>
            <a:xfrm>
              <a:off x="1081440" y="65898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1480" y="67662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015920" y="64962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id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ava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7135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2"/>
            <a:endCxn id="104" idx="0"/>
          </p:cNvCxnSpPr>
          <p:nvPr/>
        </p:nvCxnSpPr>
        <p:spPr>
          <a:xfrm>
            <a:off x="1370160" y="548280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4" idx="2"/>
            <a:endCxn id="123" idx="0"/>
          </p:cNvCxnSpPr>
          <p:nvPr/>
        </p:nvCxnSpPr>
        <p:spPr>
          <a:xfrm>
            <a:off x="1371240" y="6140520"/>
            <a:ext cx="1188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/>
          <p:nvPr/>
        </p:nvCxnSpPr>
        <p:spPr>
          <a:xfrm>
            <a:off x="1363320" y="6951240"/>
            <a:ext cx="11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02" idx="2"/>
            <a:endCxn id="106" idx="0"/>
          </p:cNvCxnSpPr>
          <p:nvPr/>
        </p:nvCxnSpPr>
        <p:spPr>
          <a:xfrm flipH="1" rot="16200000">
            <a:off x="2037240" y="2418840"/>
            <a:ext cx="608760" cy="211068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99" idx="2"/>
            <a:endCxn id="103" idx="0"/>
          </p:cNvCxnSpPr>
          <p:nvPr/>
        </p:nvCxnSpPr>
        <p:spPr>
          <a:xfrm flipH="1" rot="16200000">
            <a:off x="4333680" y="3283560"/>
            <a:ext cx="326160" cy="228348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3" idx="2"/>
            <a:endCxn id="119" idx="0"/>
          </p:cNvCxnSpPr>
          <p:nvPr/>
        </p:nvCxnSpPr>
        <p:spPr>
          <a:xfrm rot="5400000">
            <a:off x="3370320" y="2900520"/>
            <a:ext cx="267120" cy="42692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21:42:48Z</dcterms:modified>
  <cp:revision>8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5378702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