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04920" y="1709640"/>
            <a:ext cx="5271840" cy="5815080"/>
            <a:chOff x="304920" y="1709640"/>
            <a:chExt cx="5271840" cy="5815080"/>
          </a:xfrm>
        </p:grpSpPr>
        <p:sp>
          <p:nvSpPr>
            <p:cNvPr id="1" name=""/>
            <p:cNvSpPr/>
            <p:nvPr/>
          </p:nvSpPr>
          <p:spPr>
            <a:xfrm>
              <a:off x="4521240" y="2257560"/>
              <a:ext cx="105552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468600" y="2257560"/>
              <a:ext cx="105264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413080" y="2257560"/>
              <a:ext cx="105552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360440" y="2257560"/>
              <a:ext cx="105264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04920" y="2257560"/>
              <a:ext cx="105552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4521240" y="1709640"/>
              <a:ext cx="105552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de Planeación en el estado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468600" y="1709640"/>
              <a:ext cx="10526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Subdirección de Manejo de Riesgos en Unidades de Salud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413080" y="1709640"/>
              <a:ext cx="105552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Dirección de Desarrollo y Sustentabilidad de Servicios de Salu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60440" y="1709640"/>
              <a:ext cx="10526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Dirección General Adjunta de Implantación de Sistemas de Salu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1709640"/>
              <a:ext cx="105552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Dirección General de Planeación y Desarrollo en Salu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04920" y="2257560"/>
              <a:ext cx="5271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04920" y="7524720"/>
              <a:ext cx="52718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04920" y="1709640"/>
              <a:ext cx="0" cy="5815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360440" y="1709640"/>
              <a:ext cx="0" cy="581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413080" y="1709640"/>
              <a:ext cx="0" cy="581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468600" y="1709640"/>
              <a:ext cx="0" cy="581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521240" y="1709640"/>
              <a:ext cx="0" cy="581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576760" y="1709640"/>
              <a:ext cx="0" cy="5815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360440" y="1709640"/>
              <a:ext cx="2108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04920" y="1709640"/>
              <a:ext cx="10555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468600" y="1709640"/>
              <a:ext cx="21081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" name=""/>
          <p:cNvGrpSpPr/>
          <p:nvPr/>
        </p:nvGrpSpPr>
        <p:grpSpPr>
          <a:xfrm>
            <a:off x="304920" y="228600"/>
            <a:ext cx="6324480" cy="914400"/>
            <a:chOff x="304920" y="228600"/>
            <a:chExt cx="6324480" cy="914400"/>
          </a:xfrm>
        </p:grpSpPr>
        <p:sp>
          <p:nvSpPr>
            <p:cNvPr id="23" name=""/>
            <p:cNvSpPr/>
            <p:nvPr/>
          </p:nvSpPr>
          <p:spPr>
            <a:xfrm>
              <a:off x="5638680" y="716040"/>
              <a:ext cx="990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Hoja:    de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428840" y="716040"/>
              <a:ext cx="42098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ocedimiento para Asesorar la Ejecución de la Metodología de Manejo de Riesgos en las Unidades de Salud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5638680" y="455760"/>
              <a:ext cx="99072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Rev. No aplic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28840" y="455760"/>
              <a:ext cx="42098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Dirección de Desarrollo y Sustentabilidad  de Servicios de Salu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5638680" y="228600"/>
              <a:ext cx="99072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Código: No aplic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28840" y="228600"/>
              <a:ext cx="420984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900" spc="-1" strike="noStrike">
                  <a:solidFill>
                    <a:srgbClr val="000000"/>
                  </a:solidFill>
                  <a:latin typeface="Arial"/>
                </a:rPr>
                <a:t>MANUAL DE PROCEDIMIENTO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04920" y="228600"/>
              <a:ext cx="11239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04920" y="22860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304920" y="114300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304920" y="228600"/>
              <a:ext cx="0" cy="914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428840" y="2286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638680" y="2286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6629400" y="228600"/>
              <a:ext cx="0" cy="914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28840" y="455760"/>
              <a:ext cx="52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428840" y="716040"/>
              <a:ext cx="52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8" name="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90720" cy="530280"/>
          </a:xfrm>
          <a:prstGeom prst="rect">
            <a:avLst/>
          </a:prstGeom>
          <a:ln w="0">
            <a:noFill/>
          </a:ln>
        </p:spPr>
      </p:pic>
      <p:grpSp>
        <p:nvGrpSpPr>
          <p:cNvPr id="39" name=""/>
          <p:cNvGrpSpPr/>
          <p:nvPr/>
        </p:nvGrpSpPr>
        <p:grpSpPr>
          <a:xfrm>
            <a:off x="304920" y="7848720"/>
            <a:ext cx="6324480" cy="1095120"/>
            <a:chOff x="304920" y="7848720"/>
            <a:chExt cx="6324480" cy="1095120"/>
          </a:xfrm>
        </p:grpSpPr>
        <p:sp>
          <p:nvSpPr>
            <p:cNvPr id="40" name=""/>
            <p:cNvSpPr/>
            <p:nvPr/>
          </p:nvSpPr>
          <p:spPr>
            <a:xfrm>
              <a:off x="4800600" y="8076960"/>
              <a:ext cx="182880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Autoriz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2895480" y="8076960"/>
              <a:ext cx="190512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Revis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914400" y="8076960"/>
              <a:ext cx="19810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Elabor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4920" y="8076960"/>
              <a:ext cx="6094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800600" y="8731080"/>
              <a:ext cx="182880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28 de julio de 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895480" y="8731080"/>
              <a:ext cx="190512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28 de julio de 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914400" y="8731080"/>
              <a:ext cx="19810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28 de julio de 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04920" y="8731080"/>
              <a:ext cx="6094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Fecha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800600" y="8518320"/>
              <a:ext cx="182880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895480" y="8518320"/>
              <a:ext cx="190512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914400" y="8518320"/>
              <a:ext cx="19810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4920" y="8518320"/>
              <a:ext cx="6094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Firma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800600" y="8289720"/>
              <a:ext cx="18288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Lucero Rodríguez Cabrer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895480" y="8289720"/>
              <a:ext cx="19051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Lilia Rivero Rodríguez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914400" y="8289720"/>
              <a:ext cx="19810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Felipe de Jesús Vargas Garcí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04920" y="8289720"/>
              <a:ext cx="6094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Nomb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04920" y="7848720"/>
              <a:ext cx="63244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CONTROL DE EMISIÓN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04920" y="784872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04920" y="828972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04920" y="851832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04920" y="873108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04920" y="894384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04920" y="7848720"/>
              <a:ext cx="0" cy="10951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629400" y="7848720"/>
              <a:ext cx="0" cy="10951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04920" y="807696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14400" y="8076960"/>
              <a:ext cx="0" cy="86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95480" y="8076960"/>
              <a:ext cx="0" cy="86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800600" y="8076960"/>
              <a:ext cx="0" cy="86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4609080" y="6064200"/>
            <a:ext cx="662760" cy="252360"/>
            <a:chOff x="4609080" y="6064200"/>
            <a:chExt cx="662760" cy="252360"/>
          </a:xfrm>
        </p:grpSpPr>
        <p:sp>
          <p:nvSpPr>
            <p:cNvPr id="105" name=""/>
            <p:cNvSpPr/>
            <p:nvPr/>
          </p:nvSpPr>
          <p:spPr>
            <a:xfrm>
              <a:off x="4662360" y="606420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609080" y="6131160"/>
              <a:ext cx="4795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Inform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4597200" y="5931000"/>
            <a:ext cx="662040" cy="252000"/>
            <a:chOff x="4597200" y="5931000"/>
            <a:chExt cx="662040" cy="252000"/>
          </a:xfrm>
        </p:grpSpPr>
        <p:sp>
          <p:nvSpPr>
            <p:cNvPr id="108" name=""/>
            <p:cNvSpPr/>
            <p:nvPr/>
          </p:nvSpPr>
          <p:spPr>
            <a:xfrm>
              <a:off x="4649760" y="5931000"/>
              <a:ext cx="609480" cy="25056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597200" y="5997600"/>
              <a:ext cx="414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Oficio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3618720" y="5584680"/>
            <a:ext cx="662760" cy="252360"/>
            <a:chOff x="3618720" y="5584680"/>
            <a:chExt cx="662760" cy="252360"/>
          </a:xfrm>
        </p:grpSpPr>
        <p:sp>
          <p:nvSpPr>
            <p:cNvPr id="111" name=""/>
            <p:cNvSpPr/>
            <p:nvPr/>
          </p:nvSpPr>
          <p:spPr>
            <a:xfrm>
              <a:off x="3672000" y="558468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618720" y="5651640"/>
              <a:ext cx="4795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Inform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3605400" y="4238640"/>
            <a:ext cx="686520" cy="252360"/>
            <a:chOff x="3605400" y="4238640"/>
            <a:chExt cx="686520" cy="252360"/>
          </a:xfrm>
        </p:grpSpPr>
        <p:sp>
          <p:nvSpPr>
            <p:cNvPr id="114" name=""/>
            <p:cNvSpPr/>
            <p:nvPr/>
          </p:nvSpPr>
          <p:spPr>
            <a:xfrm>
              <a:off x="3657600" y="423864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605400" y="4305600"/>
              <a:ext cx="6865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Vía electrónic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4654440" y="4745160"/>
            <a:ext cx="662040" cy="252000"/>
            <a:chOff x="4654440" y="4745160"/>
            <a:chExt cx="662040" cy="252000"/>
          </a:xfrm>
        </p:grpSpPr>
        <p:sp>
          <p:nvSpPr>
            <p:cNvPr id="117" name=""/>
            <p:cNvSpPr/>
            <p:nvPr/>
          </p:nvSpPr>
          <p:spPr>
            <a:xfrm>
              <a:off x="4707000" y="4745160"/>
              <a:ext cx="609480" cy="25056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654440" y="4811760"/>
              <a:ext cx="414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Oficio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3605040" y="4121280"/>
            <a:ext cx="662040" cy="252000"/>
            <a:chOff x="3605040" y="4121280"/>
            <a:chExt cx="662040" cy="252000"/>
          </a:xfrm>
        </p:grpSpPr>
        <p:sp>
          <p:nvSpPr>
            <p:cNvPr id="120" name=""/>
            <p:cNvSpPr/>
            <p:nvPr/>
          </p:nvSpPr>
          <p:spPr>
            <a:xfrm>
              <a:off x="3657600" y="4121280"/>
              <a:ext cx="609480" cy="25056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605040" y="4187880"/>
              <a:ext cx="414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Oficio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302400" y="1325520"/>
            <a:ext cx="203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5.0 Diagrama del proc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4920" y="1760400"/>
            <a:ext cx="1839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07960" y="2311560"/>
            <a:ext cx="663480" cy="1522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645000" y="3936960"/>
            <a:ext cx="609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Analiza la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utilización de l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metodologí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79560" y="259092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/>
          <p:nvPr/>
        </p:nvCxnSpPr>
        <p:spPr>
          <a:xfrm flipH="1">
            <a:off x="837360" y="2463840"/>
            <a:ext cx="2520" cy="1782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28" name=""/>
          <p:cNvSpPr/>
          <p:nvPr/>
        </p:nvSpPr>
        <p:spPr>
          <a:xfrm>
            <a:off x="4705200" y="4572000"/>
            <a:ext cx="60984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ción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Comunicado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001960" y="294624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"/>
          <p:cNvCxnSpPr>
            <a:stCxn id="114" idx="2"/>
            <a:endCxn id="128" idx="0"/>
          </p:cNvCxnSpPr>
          <p:nvPr/>
        </p:nvCxnSpPr>
        <p:spPr>
          <a:xfrm flipH="1" rot="16200000">
            <a:off x="4437720" y="3999600"/>
            <a:ext cx="97560" cy="1047960"/>
          </a:xfrm>
          <a:prstGeom prst="bentConnector5">
            <a:avLst>
              <a:gd name="adj1" fmla="val 253703"/>
              <a:gd name="adj2" fmla="val -51271"/>
              <a:gd name="adj3" fmla="val -481481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31" name=""/>
          <p:cNvCxnSpPr>
            <a:stCxn id="117" idx="2"/>
            <a:endCxn id="132" idx="0"/>
          </p:cNvCxnSpPr>
          <p:nvPr/>
        </p:nvCxnSpPr>
        <p:spPr>
          <a:xfrm rot="5400000">
            <a:off x="4357440" y="4604760"/>
            <a:ext cx="278640" cy="1030680"/>
          </a:xfrm>
          <a:prstGeom prst="bentConnector5">
            <a:avLst>
              <a:gd name="adj1" fmla="val 88615"/>
              <a:gd name="adj2" fmla="val -52026"/>
              <a:gd name="adj3" fmla="val -167917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33" name=""/>
          <p:cNvSpPr/>
          <p:nvPr/>
        </p:nvSpPr>
        <p:spPr>
          <a:xfrm>
            <a:off x="5024880" y="6404040"/>
            <a:ext cx="278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22680" y="6708600"/>
            <a:ext cx="252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Sí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619440" y="5446800"/>
            <a:ext cx="662040" cy="252000"/>
            <a:chOff x="3619440" y="5446800"/>
            <a:chExt cx="662040" cy="252000"/>
          </a:xfrm>
        </p:grpSpPr>
        <p:sp>
          <p:nvSpPr>
            <p:cNvPr id="136" name=""/>
            <p:cNvSpPr/>
            <p:nvPr/>
          </p:nvSpPr>
          <p:spPr>
            <a:xfrm>
              <a:off x="3672000" y="5446800"/>
              <a:ext cx="609480" cy="25056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619440" y="5513400"/>
              <a:ext cx="414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Oficio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3676680" y="5259240"/>
            <a:ext cx="609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Ejecución 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sugerencia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17880" y="349740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635360" y="5708520"/>
            <a:ext cx="60984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Verificación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La información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637160" y="6416640"/>
            <a:ext cx="563400" cy="48888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 Unicode MS"/>
              </a:rPr>
              <a:t>Proce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" name=""/>
          <p:cNvCxnSpPr/>
          <p:nvPr/>
        </p:nvCxnSpPr>
        <p:spPr>
          <a:xfrm>
            <a:off x="4916160" y="6295680"/>
            <a:ext cx="3960" cy="1278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42" name=""/>
          <p:cNvCxnSpPr>
            <a:stCxn id="140" idx="2"/>
            <a:endCxn id="143" idx="0"/>
          </p:cNvCxnSpPr>
          <p:nvPr/>
        </p:nvCxnSpPr>
        <p:spPr>
          <a:xfrm flipV="1" rot="16200000">
            <a:off x="4325040" y="6311160"/>
            <a:ext cx="213120" cy="975960"/>
          </a:xfrm>
          <a:prstGeom prst="bentConnector5">
            <a:avLst>
              <a:gd name="adj1" fmla="val -109813"/>
              <a:gd name="adj2" fmla="val -52841"/>
              <a:gd name="adj3" fmla="val 339424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44" name=""/>
          <p:cNvSpPr/>
          <p:nvPr/>
        </p:nvSpPr>
        <p:spPr>
          <a:xfrm>
            <a:off x="520560" y="2644920"/>
            <a:ext cx="609840" cy="304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Emite la orde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para asesorar l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ejecución de met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30360" y="3095640"/>
            <a:ext cx="609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epción 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nstruccione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ra le asesorí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6" name=""/>
          <p:cNvCxnSpPr>
            <a:stCxn id="144" idx="2"/>
            <a:endCxn id="145" idx="0"/>
          </p:cNvCxnSpPr>
          <p:nvPr/>
        </p:nvCxnSpPr>
        <p:spPr>
          <a:xfrm flipH="1" rot="16200000">
            <a:off x="1257120" y="2517480"/>
            <a:ext cx="146520" cy="1010160"/>
          </a:xfrm>
          <a:prstGeom prst="bentConnector5">
            <a:avLst>
              <a:gd name="adj1" fmla="val 466995"/>
              <a:gd name="adj2" fmla="val 153083"/>
              <a:gd name="adj3" fmla="val -58620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47" name=""/>
          <p:cNvSpPr/>
          <p:nvPr/>
        </p:nvSpPr>
        <p:spPr>
          <a:xfrm>
            <a:off x="2546280" y="3540240"/>
            <a:ext cx="609840" cy="304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epción 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nstruccione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ra ejecuc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8" name=""/>
          <p:cNvCxnSpPr>
            <a:stCxn id="145" idx="2"/>
            <a:endCxn id="147" idx="0"/>
          </p:cNvCxnSpPr>
          <p:nvPr/>
        </p:nvCxnSpPr>
        <p:spPr>
          <a:xfrm flipH="1" rot="16200000">
            <a:off x="2273400" y="2962440"/>
            <a:ext cx="140040" cy="1016280"/>
          </a:xfrm>
          <a:prstGeom prst="bentConnector5">
            <a:avLst>
              <a:gd name="adj1" fmla="val 165721"/>
              <a:gd name="adj2" fmla="val -52834"/>
              <a:gd name="adj3" fmla="val -384278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49" name=""/>
          <p:cNvCxnSpPr>
            <a:stCxn id="147" idx="2"/>
            <a:endCxn id="125" idx="0"/>
          </p:cNvCxnSpPr>
          <p:nvPr/>
        </p:nvCxnSpPr>
        <p:spPr>
          <a:xfrm flipH="1" rot="16200000">
            <a:off x="3354480" y="3341520"/>
            <a:ext cx="92520" cy="1099080"/>
          </a:xfrm>
          <a:prstGeom prst="bentConnector5">
            <a:avLst>
              <a:gd name="adj1" fmla="val 251562"/>
              <a:gd name="adj2" fmla="val 50000"/>
              <a:gd name="adj3" fmla="val -151562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50" name=""/>
          <p:cNvSpPr/>
          <p:nvPr/>
        </p:nvSpPr>
        <p:spPr>
          <a:xfrm>
            <a:off x="4110120" y="380196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70680" y="438768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129200" y="512460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24360" y="3403440"/>
            <a:ext cx="22356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4" name=""/>
          <p:cNvCxnSpPr>
            <a:stCxn id="111" idx="2"/>
            <a:endCxn id="139" idx="0"/>
          </p:cNvCxnSpPr>
          <p:nvPr/>
        </p:nvCxnSpPr>
        <p:spPr>
          <a:xfrm flipH="1" flipV="1" rot="5400000">
            <a:off x="4402440" y="5283000"/>
            <a:ext cx="112680" cy="963720"/>
          </a:xfrm>
          <a:prstGeom prst="bentConnector5">
            <a:avLst>
              <a:gd name="adj1" fmla="val -219551"/>
              <a:gd name="adj2" fmla="val -55754"/>
              <a:gd name="adj3" fmla="val 416666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55" name=""/>
          <p:cNvSpPr/>
          <p:nvPr/>
        </p:nvSpPr>
        <p:spPr>
          <a:xfrm>
            <a:off x="5113440" y="556884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638520" y="6692760"/>
            <a:ext cx="609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mplantación de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as sugerencia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para la utilización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103640" y="653400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870120" y="7094160"/>
            <a:ext cx="2160" cy="183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58" name=""/>
          <p:cNvSpPr/>
          <p:nvPr/>
        </p:nvSpPr>
        <p:spPr>
          <a:xfrm>
            <a:off x="544680" y="7264440"/>
            <a:ext cx="663480" cy="1522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TÉRMI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46120" y="6788160"/>
            <a:ext cx="609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termina lo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vances de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esoramient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0" name=""/>
          <p:cNvCxnSpPr>
            <a:stCxn id="143" idx="2"/>
            <a:endCxn id="159" idx="0"/>
          </p:cNvCxnSpPr>
          <p:nvPr/>
        </p:nvCxnSpPr>
        <p:spPr>
          <a:xfrm flipV="1" rot="16200000">
            <a:off x="2292480" y="5346720"/>
            <a:ext cx="209880" cy="3092760"/>
          </a:xfrm>
          <a:prstGeom prst="bentConnector5">
            <a:avLst>
              <a:gd name="adj1" fmla="val -110481"/>
              <a:gd name="adj2" fmla="val 50011"/>
              <a:gd name="adj3" fmla="val 210652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61" name=""/>
          <p:cNvSpPr/>
          <p:nvPr/>
        </p:nvSpPr>
        <p:spPr>
          <a:xfrm>
            <a:off x="986040" y="662940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6648480"/>
            <a:ext cx="196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294160" y="6559560"/>
            <a:ext cx="218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670720" y="747720"/>
            <a:ext cx="90792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oja:61 de 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7:18:20Z</dcterms:created>
  <dc:creator>SECRETARIA DE SALUD</dc:creator>
  <dc:description/>
  <dc:language>en-US</dc:language>
  <cp:lastModifiedBy>Raquel Almazán</cp:lastModifiedBy>
  <dcterms:modified xsi:type="dcterms:W3CDTF">2005-08-05T19:33:12Z</dcterms:modified>
  <cp:revision>68</cp:revision>
  <dc:subject/>
  <dc:title>Presentación de PowerPoint</dc:title>
</cp:coreProperties>
</file>