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24480" cy="5815080"/>
            <a:chOff x="304920" y="1709640"/>
            <a:chExt cx="6324480" cy="5815080"/>
          </a:xfrm>
        </p:grpSpPr>
        <p:sp>
          <p:nvSpPr>
            <p:cNvPr id="1" name=""/>
            <p:cNvSpPr/>
            <p:nvPr/>
          </p:nvSpPr>
          <p:spPr>
            <a:xfrm>
              <a:off x="557676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2124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6860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41308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044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7676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2124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6860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308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6044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22575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4920" y="7524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492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04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1308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860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212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7676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2940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68600" y="170964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   d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c</a:t>
              </a: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ordinar el proceso de integración y organización de información para generar ideas y propuestas en materia de inversión estratégica.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Análisis de Innovaciones en los Servicios de Salu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3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600000" y="5629320"/>
            <a:ext cx="662400" cy="252360"/>
            <a:chOff x="3600000" y="5629320"/>
            <a:chExt cx="662400" cy="252360"/>
          </a:xfrm>
        </p:grpSpPr>
        <p:sp>
          <p:nvSpPr>
            <p:cNvPr id="108" name=""/>
            <p:cNvSpPr/>
            <p:nvPr/>
          </p:nvSpPr>
          <p:spPr>
            <a:xfrm>
              <a:off x="3652920" y="56293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00000" y="56962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0" name=""/>
          <p:cNvCxnSpPr/>
          <p:nvPr/>
        </p:nvCxnSpPr>
        <p:spPr>
          <a:xfrm rot="5400000">
            <a:off x="3243600" y="5548680"/>
            <a:ext cx="299160" cy="967680"/>
          </a:xfrm>
          <a:prstGeom prst="bentConnector3">
            <a:avLst>
              <a:gd name="adj1" fmla="val 5204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1" name=""/>
          <p:cNvCxnSpPr/>
          <p:nvPr/>
        </p:nvCxnSpPr>
        <p:spPr>
          <a:xfrm flipH="1" flipV="1" rot="5400000">
            <a:off x="3366000" y="3048840"/>
            <a:ext cx="212040" cy="1104120"/>
          </a:xfrm>
          <a:prstGeom prst="bentConnector5">
            <a:avLst>
              <a:gd name="adj1" fmla="val -114965"/>
              <a:gd name="adj2" fmla="val 39399"/>
              <a:gd name="adj3" fmla="val 20816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2" name=""/>
          <p:cNvCxnSpPr/>
          <p:nvPr/>
        </p:nvCxnSpPr>
        <p:spPr>
          <a:xfrm flipH="1" flipV="1" rot="5400000">
            <a:off x="1095120" y="2242800"/>
            <a:ext cx="212040" cy="1103400"/>
          </a:xfrm>
          <a:prstGeom prst="bentConnector5">
            <a:avLst>
              <a:gd name="adj1" fmla="val -114965"/>
              <a:gd name="adj2" fmla="val 50065"/>
              <a:gd name="adj3" fmla="val 20816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13" name=""/>
          <p:cNvGrpSpPr/>
          <p:nvPr/>
        </p:nvGrpSpPr>
        <p:grpSpPr>
          <a:xfrm>
            <a:off x="418680" y="2836800"/>
            <a:ext cx="662400" cy="252360"/>
            <a:chOff x="418680" y="2836800"/>
            <a:chExt cx="662400" cy="252360"/>
          </a:xfrm>
        </p:grpSpPr>
        <p:sp>
          <p:nvSpPr>
            <p:cNvPr id="114" name=""/>
            <p:cNvSpPr/>
            <p:nvPr/>
          </p:nvSpPr>
          <p:spPr>
            <a:xfrm>
              <a:off x="471600" y="28368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8680" y="29037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40560" y="143028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3080" y="186516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/>
          <p:nvPr/>
        </p:nvCxnSpPr>
        <p:spPr>
          <a:xfrm flipH="1" flipV="1" rot="5400000">
            <a:off x="2269080" y="2475720"/>
            <a:ext cx="212040" cy="1104120"/>
          </a:xfrm>
          <a:prstGeom prst="bentConnector5">
            <a:avLst>
              <a:gd name="adj1" fmla="val -114965"/>
              <a:gd name="adj2" fmla="val 40704"/>
              <a:gd name="adj3" fmla="val 20816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19" name=""/>
          <p:cNvGrpSpPr/>
          <p:nvPr/>
        </p:nvGrpSpPr>
        <p:grpSpPr>
          <a:xfrm>
            <a:off x="1482120" y="2940120"/>
            <a:ext cx="662400" cy="252360"/>
            <a:chOff x="1482120" y="2940120"/>
            <a:chExt cx="662400" cy="252360"/>
          </a:xfrm>
        </p:grpSpPr>
        <p:sp>
          <p:nvSpPr>
            <p:cNvPr id="120" name=""/>
            <p:cNvSpPr/>
            <p:nvPr/>
          </p:nvSpPr>
          <p:spPr>
            <a:xfrm>
              <a:off x="1535040" y="29401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82120" y="30070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4360" y="261000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mis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lineamient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6440" y="2293920"/>
            <a:ext cx="663480" cy="308520"/>
            <a:chOff x="406440" y="2293920"/>
            <a:chExt cx="663480" cy="308520"/>
          </a:xfrm>
        </p:grpSpPr>
        <p:sp>
          <p:nvSpPr>
            <p:cNvPr id="124" name=""/>
            <p:cNvSpPr/>
            <p:nvPr/>
          </p:nvSpPr>
          <p:spPr>
            <a:xfrm>
              <a:off x="406440" y="2293920"/>
              <a:ext cx="663480" cy="15264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/>
            <p:nvPr/>
          </p:nvCxnSpPr>
          <p:spPr>
            <a:xfrm flipH="1">
              <a:off x="736200" y="2449440"/>
              <a:ext cx="2160" cy="153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</p:cxnSp>
      </p:grpSp>
      <p:sp>
        <p:nvSpPr>
          <p:cNvPr id="126" name=""/>
          <p:cNvSpPr/>
          <p:nvPr/>
        </p:nvSpPr>
        <p:spPr>
          <a:xfrm>
            <a:off x="1492200" y="27162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fini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íneas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vestig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90640" y="24703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62360" y="2560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616200" y="4759200"/>
            <a:ext cx="669960" cy="468360"/>
            <a:chOff x="3616200" y="4759200"/>
            <a:chExt cx="669960" cy="468360"/>
          </a:xfrm>
        </p:grpSpPr>
        <p:sp>
          <p:nvSpPr>
            <p:cNvPr id="130" name=""/>
            <p:cNvSpPr/>
            <p:nvPr/>
          </p:nvSpPr>
          <p:spPr>
            <a:xfrm>
              <a:off x="3616200" y="492264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nálisis y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plic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59000" y="4759200"/>
              <a:ext cx="22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622600" y="2776680"/>
            <a:ext cx="609480" cy="458640"/>
            <a:chOff x="2622600" y="2776680"/>
            <a:chExt cx="609480" cy="458640"/>
          </a:xfrm>
        </p:grpSpPr>
        <p:sp>
          <p:nvSpPr>
            <p:cNvPr id="133" name=""/>
            <p:cNvSpPr/>
            <p:nvPr/>
          </p:nvSpPr>
          <p:spPr>
            <a:xfrm>
              <a:off x="3006360" y="277668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22600" y="2930760"/>
              <a:ext cx="60948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olicitud 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ropuest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665440" y="34020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pervis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l proces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560" y="32400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664080" y="3322800"/>
            <a:ext cx="609480" cy="477360"/>
            <a:chOff x="3664080" y="3322800"/>
            <a:chExt cx="609480" cy="477360"/>
          </a:xfrm>
        </p:grpSpPr>
        <p:sp>
          <p:nvSpPr>
            <p:cNvPr id="138" name=""/>
            <p:cNvSpPr/>
            <p:nvPr/>
          </p:nvSpPr>
          <p:spPr>
            <a:xfrm>
              <a:off x="3664080" y="3495600"/>
              <a:ext cx="60948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Búsqueda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8200" y="332280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33240" y="181764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rección de Análsis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novaciones de l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ervicios de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1680" y="181764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rección General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laneaci´+on y Desarro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b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15880" y="1817640"/>
            <a:ext cx="9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rección General Adjunta de Diseño de Sistemas de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90920" y="1817640"/>
            <a:ext cx="895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bdirec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versión Estratég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/>
          <p:nvPr/>
        </p:nvCxnSpPr>
        <p:spPr>
          <a:xfrm flipH="1">
            <a:off x="3971160" y="3790800"/>
            <a:ext cx="2520" cy="15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45" name=""/>
          <p:cNvGrpSpPr/>
          <p:nvPr/>
        </p:nvGrpSpPr>
        <p:grpSpPr>
          <a:xfrm>
            <a:off x="3657600" y="3784680"/>
            <a:ext cx="609480" cy="477360"/>
            <a:chOff x="3657600" y="3784680"/>
            <a:chExt cx="609480" cy="477360"/>
          </a:xfrm>
        </p:grpSpPr>
        <p:sp>
          <p:nvSpPr>
            <p:cNvPr id="146" name=""/>
            <p:cNvSpPr/>
            <p:nvPr/>
          </p:nvSpPr>
          <p:spPr>
            <a:xfrm>
              <a:off x="3657600" y="3957480"/>
              <a:ext cx="60948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Comparación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y selec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41720" y="378468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666960" y="4254480"/>
            <a:ext cx="609480" cy="477360"/>
            <a:chOff x="3666960" y="4254480"/>
            <a:chExt cx="609480" cy="477360"/>
          </a:xfrm>
        </p:grpSpPr>
        <p:sp>
          <p:nvSpPr>
            <p:cNvPr id="149" name=""/>
            <p:cNvSpPr/>
            <p:nvPr/>
          </p:nvSpPr>
          <p:spPr>
            <a:xfrm>
              <a:off x="3666960" y="4427280"/>
              <a:ext cx="60948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tegración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51080" y="425448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594240" y="5235480"/>
            <a:ext cx="669960" cy="468360"/>
            <a:chOff x="3594240" y="5235480"/>
            <a:chExt cx="669960" cy="468360"/>
          </a:xfrm>
        </p:grpSpPr>
        <p:sp>
          <p:nvSpPr>
            <p:cNvPr id="152" name=""/>
            <p:cNvSpPr/>
            <p:nvPr/>
          </p:nvSpPr>
          <p:spPr>
            <a:xfrm>
              <a:off x="3594240" y="539892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Elaboración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37040" y="5235480"/>
              <a:ext cx="22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681280" y="619596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puest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14720" y="6032520"/>
            <a:ext cx="37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6750000"/>
            <a:ext cx="15228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/>
          <p:nvPr/>
        </p:nvCxnSpPr>
        <p:spPr>
          <a:xfrm flipH="1">
            <a:off x="2920680" y="6538680"/>
            <a:ext cx="2160" cy="199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8" name=""/>
          <p:cNvCxnSpPr/>
          <p:nvPr/>
        </p:nvCxnSpPr>
        <p:spPr>
          <a:xfrm flipH="1">
            <a:off x="2913840" y="3244680"/>
            <a:ext cx="2520" cy="15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9" name=""/>
          <p:cNvCxnSpPr/>
          <p:nvPr/>
        </p:nvCxnSpPr>
        <p:spPr>
          <a:xfrm flipH="1">
            <a:off x="3916080" y="4269960"/>
            <a:ext cx="216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0" name=""/>
          <p:cNvCxnSpPr/>
          <p:nvPr/>
        </p:nvCxnSpPr>
        <p:spPr>
          <a:xfrm flipH="1">
            <a:off x="3909240" y="4748040"/>
            <a:ext cx="2520" cy="15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1" name=""/>
          <p:cNvCxnSpPr/>
          <p:nvPr/>
        </p:nvCxnSpPr>
        <p:spPr>
          <a:xfrm flipH="1">
            <a:off x="3886920" y="5233680"/>
            <a:ext cx="252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2" name=""/>
          <p:cNvSpPr/>
          <p:nvPr/>
        </p:nvSpPr>
        <p:spPr>
          <a:xfrm>
            <a:off x="1001880" y="8331120"/>
            <a:ext cx="145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Lic. Virginia Barragán Pér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79720" y="8331120"/>
            <a:ext cx="1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Lic. Laura Díaz Nie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32720" y="8331120"/>
            <a:ext cx="172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Dra. Carmen Rodríguez Dehaib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1628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216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8196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87440" y="7254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46280" y="7254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612440" y="4875120"/>
            <a:ext cx="662400" cy="252360"/>
            <a:chOff x="1612440" y="4875120"/>
            <a:chExt cx="662400" cy="252360"/>
          </a:xfrm>
        </p:grpSpPr>
        <p:sp>
          <p:nvSpPr>
            <p:cNvPr id="171" name=""/>
            <p:cNvSpPr/>
            <p:nvPr/>
          </p:nvSpPr>
          <p:spPr>
            <a:xfrm>
              <a:off x="1665360" y="48751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12440" y="49420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660040" y="4038480"/>
            <a:ext cx="662400" cy="252360"/>
            <a:chOff x="2660040" y="4038480"/>
            <a:chExt cx="662400" cy="252360"/>
          </a:xfrm>
        </p:grpSpPr>
        <p:sp>
          <p:nvSpPr>
            <p:cNvPr id="174" name=""/>
            <p:cNvSpPr/>
            <p:nvPr/>
          </p:nvSpPr>
          <p:spPr>
            <a:xfrm>
              <a:off x="2712960" y="40384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60040" y="41054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"/>
          <p:cNvCxnSpPr/>
          <p:nvPr/>
        </p:nvCxnSpPr>
        <p:spPr>
          <a:xfrm rot="5400000">
            <a:off x="2167200" y="3958200"/>
            <a:ext cx="299160" cy="967680"/>
          </a:xfrm>
          <a:prstGeom prst="bentConnector3">
            <a:avLst>
              <a:gd name="adj1" fmla="val 5204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7" name=""/>
          <p:cNvSpPr/>
          <p:nvPr/>
        </p:nvSpPr>
        <p:spPr>
          <a:xfrm>
            <a:off x="343080" y="186516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/>
          <p:nvPr/>
        </p:nvCxnSpPr>
        <p:spPr>
          <a:xfrm flipH="1">
            <a:off x="2863080" y="2989080"/>
            <a:ext cx="252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9" name=""/>
          <p:cNvSpPr/>
          <p:nvPr/>
        </p:nvSpPr>
        <p:spPr>
          <a:xfrm>
            <a:off x="2571840" y="315108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40240" y="331308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3344760"/>
            <a:ext cx="11448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9" idx="3"/>
            <a:endCxn id="181" idx="2"/>
          </p:cNvCxnSpPr>
          <p:nvPr/>
        </p:nvCxnSpPr>
        <p:spPr>
          <a:xfrm>
            <a:off x="3135240" y="3395160"/>
            <a:ext cx="218160" cy="198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3" name=""/>
          <p:cNvSpPr/>
          <p:nvPr/>
        </p:nvSpPr>
        <p:spPr>
          <a:xfrm>
            <a:off x="3085200" y="325584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12880" y="364968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33240" y="181764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rección de Análsis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novaciones de l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ervicios de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1680" y="181764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rección General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laneaci´+on y Desarro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b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15880" y="1817640"/>
            <a:ext cx="9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rección General Adjunta de Diseño de Sistemas de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91280" y="181764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bdirec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Oportunidad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ara la Innov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577960" y="2492280"/>
            <a:ext cx="650520" cy="478080"/>
            <a:chOff x="2577960" y="2492280"/>
            <a:chExt cx="650520" cy="478080"/>
          </a:xfrm>
        </p:grpSpPr>
        <p:sp>
          <p:nvSpPr>
            <p:cNvPr id="190" name=""/>
            <p:cNvSpPr/>
            <p:nvPr/>
          </p:nvSpPr>
          <p:spPr>
            <a:xfrm>
              <a:off x="2577960" y="266544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nálisi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elec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62440" y="249228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604960" y="3662280"/>
            <a:ext cx="650520" cy="478080"/>
            <a:chOff x="2604960" y="3662280"/>
            <a:chExt cx="650520" cy="478080"/>
          </a:xfrm>
        </p:grpSpPr>
        <p:sp>
          <p:nvSpPr>
            <p:cNvPr id="193" name=""/>
            <p:cNvSpPr/>
            <p:nvPr/>
          </p:nvSpPr>
          <p:spPr>
            <a:xfrm>
              <a:off x="2604960" y="383544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Notificación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89440" y="366228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755800" y="2322360"/>
            <a:ext cx="15264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/>
          <p:nvPr/>
        </p:nvCxnSpPr>
        <p:spPr>
          <a:xfrm flipH="1">
            <a:off x="2831760" y="2457000"/>
            <a:ext cx="2160" cy="199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97" name=""/>
          <p:cNvCxnSpPr/>
          <p:nvPr/>
        </p:nvCxnSpPr>
        <p:spPr>
          <a:xfrm flipH="1">
            <a:off x="2848680" y="3651120"/>
            <a:ext cx="2520" cy="15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98" name=""/>
          <p:cNvSpPr/>
          <p:nvPr/>
        </p:nvSpPr>
        <p:spPr>
          <a:xfrm>
            <a:off x="1612800" y="465948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credit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05200" y="448632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14440" y="5935680"/>
            <a:ext cx="650160" cy="477360"/>
            <a:chOff x="514440" y="5935680"/>
            <a:chExt cx="650160" cy="477360"/>
          </a:xfrm>
        </p:grpSpPr>
        <p:sp>
          <p:nvSpPr>
            <p:cNvPr id="201" name=""/>
            <p:cNvSpPr/>
            <p:nvPr/>
          </p:nvSpPr>
          <p:spPr>
            <a:xfrm>
              <a:off x="514440" y="6108480"/>
              <a:ext cx="60912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Evaluación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98560" y="593568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960" y="664848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endCxn id="203" idx="0"/>
          </p:cNvCxnSpPr>
          <p:nvPr/>
        </p:nvCxnSpPr>
        <p:spPr>
          <a:xfrm>
            <a:off x="807840" y="6440400"/>
            <a:ext cx="5400" cy="2088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5" name=""/>
          <p:cNvCxnSpPr/>
          <p:nvPr/>
        </p:nvCxnSpPr>
        <p:spPr>
          <a:xfrm flipH="1">
            <a:off x="1782000" y="5128920"/>
            <a:ext cx="252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6" name=""/>
          <p:cNvSpPr/>
          <p:nvPr/>
        </p:nvSpPr>
        <p:spPr>
          <a:xfrm>
            <a:off x="1490760" y="529128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59160" y="545292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71600" y="5484960"/>
            <a:ext cx="11448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6" idx="3"/>
            <a:endCxn id="208" idx="2"/>
          </p:cNvCxnSpPr>
          <p:nvPr/>
        </p:nvCxnSpPr>
        <p:spPr>
          <a:xfrm>
            <a:off x="2054160" y="5535360"/>
            <a:ext cx="218160" cy="198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10" name=""/>
          <p:cNvSpPr/>
          <p:nvPr/>
        </p:nvSpPr>
        <p:spPr>
          <a:xfrm>
            <a:off x="2004120" y="539604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31800" y="578952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/>
          <p:nvPr/>
        </p:nvCxnSpPr>
        <p:spPr>
          <a:xfrm rot="5400000">
            <a:off x="1151280" y="5463000"/>
            <a:ext cx="299160" cy="967680"/>
          </a:xfrm>
          <a:prstGeom prst="bentConnector3">
            <a:avLst>
              <a:gd name="adj1" fmla="val 5204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13" name=""/>
          <p:cNvSpPr/>
          <p:nvPr/>
        </p:nvSpPr>
        <p:spPr>
          <a:xfrm>
            <a:off x="1001880" y="8331120"/>
            <a:ext cx="145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Lic. Virginia Barragán Pér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9720" y="8331120"/>
            <a:ext cx="1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Lic. Laura Díaz Nie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32720" y="8331120"/>
            <a:ext cx="172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Dra. Carmen Rodríguez Dehaib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1628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216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8196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87440" y="7254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46280" y="7254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SECRETARIA DE SALUD</cp:lastModifiedBy>
  <dcterms:modified xsi:type="dcterms:W3CDTF">2005-08-05T17:26:03Z</dcterms:modified>
  <cp:revision>56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29197728</vt:r8>
  </property>
  <property fmtid="{D5CDD505-2E9C-101B-9397-08002B2CF9AE}" pid="3" name="_AuthorEmail">
    <vt:lpwstr>VIRGINIAB@DGPEC-S01.SSA.com</vt:lpwstr>
  </property>
  <property fmtid="{D5CDD505-2E9C-101B-9397-08002B2CF9AE}" pid="4" name="_AuthorEmailDisplayName">
    <vt:lpwstr>VIRGINIA BARRAGAN PEREZ</vt:lpwstr>
  </property>
  <property fmtid="{D5CDD505-2E9C-101B-9397-08002B2CF9AE}" pid="5" name="_EmailSubject">
    <vt:lpwstr>Procedimientos DAISS</vt:lpwstr>
  </property>
</Properties>
</file>