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15080"/>
            <a:chOff x="304920" y="1709640"/>
            <a:chExt cx="6324480" cy="5815080"/>
          </a:xfrm>
        </p:grpSpPr>
        <p:sp>
          <p:nvSpPr>
            <p:cNvPr id="1" name=""/>
            <p:cNvSpPr/>
            <p:nvPr/>
          </p:nvSpPr>
          <p:spPr>
            <a:xfrm>
              <a:off x="557676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57560"/>
              <a:ext cx="10526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57560"/>
              <a:ext cx="105552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575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24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1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i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tegrar, organizar y analizar información en materia de innovación de los servicios de salud.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Análisis de Innovaciones en los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751840" y="4132440"/>
            <a:ext cx="664200" cy="252000"/>
            <a:chOff x="2751840" y="4132440"/>
            <a:chExt cx="664200" cy="252000"/>
          </a:xfrm>
        </p:grpSpPr>
        <p:sp>
          <p:nvSpPr>
            <p:cNvPr id="108" name=""/>
            <p:cNvSpPr/>
            <p:nvPr/>
          </p:nvSpPr>
          <p:spPr>
            <a:xfrm>
              <a:off x="2806560" y="41324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51840" y="4199040"/>
              <a:ext cx="526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690280" y="4005360"/>
            <a:ext cx="662400" cy="252000"/>
            <a:chOff x="2690280" y="4005360"/>
            <a:chExt cx="662400" cy="252000"/>
          </a:xfrm>
        </p:grpSpPr>
        <p:sp>
          <p:nvSpPr>
            <p:cNvPr id="111" name=""/>
            <p:cNvSpPr/>
            <p:nvPr/>
          </p:nvSpPr>
          <p:spPr>
            <a:xfrm>
              <a:off x="2743200" y="400536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90280" y="40719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710880" y="3941640"/>
            <a:ext cx="664200" cy="252360"/>
            <a:chOff x="3710880" y="3941640"/>
            <a:chExt cx="664200" cy="252360"/>
          </a:xfrm>
        </p:grpSpPr>
        <p:sp>
          <p:nvSpPr>
            <p:cNvPr id="114" name=""/>
            <p:cNvSpPr/>
            <p:nvPr/>
          </p:nvSpPr>
          <p:spPr>
            <a:xfrm>
              <a:off x="3765600" y="39416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0880" y="4008600"/>
              <a:ext cx="526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6" name=""/>
          <p:cNvCxnSpPr>
            <a:stCxn id="114" idx="2"/>
            <a:endCxn id="117" idx="0"/>
          </p:cNvCxnSpPr>
          <p:nvPr/>
        </p:nvCxnSpPr>
        <p:spPr>
          <a:xfrm flipV="1" rot="16200000">
            <a:off x="3310200" y="3417120"/>
            <a:ext cx="363600" cy="1157760"/>
          </a:xfrm>
          <a:prstGeom prst="bentConnector5">
            <a:avLst>
              <a:gd name="adj1" fmla="val -67888"/>
              <a:gd name="adj2" fmla="val 50015"/>
              <a:gd name="adj3" fmla="val 163825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18" name=""/>
          <p:cNvGrpSpPr/>
          <p:nvPr/>
        </p:nvGrpSpPr>
        <p:grpSpPr>
          <a:xfrm>
            <a:off x="3649320" y="3795840"/>
            <a:ext cx="662400" cy="252000"/>
            <a:chOff x="3649320" y="3795840"/>
            <a:chExt cx="662400" cy="252000"/>
          </a:xfrm>
        </p:grpSpPr>
        <p:sp>
          <p:nvSpPr>
            <p:cNvPr id="119" name=""/>
            <p:cNvSpPr/>
            <p:nvPr/>
          </p:nvSpPr>
          <p:spPr>
            <a:xfrm>
              <a:off x="3702240" y="3795840"/>
              <a:ext cx="609480" cy="2505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49320" y="38624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1" name=""/>
          <p:cNvCxnSpPr>
            <a:stCxn id="122" idx="2"/>
            <a:endCxn id="123" idx="0"/>
          </p:cNvCxnSpPr>
          <p:nvPr/>
        </p:nvCxnSpPr>
        <p:spPr>
          <a:xfrm flipH="1" flipV="1" rot="5400000">
            <a:off x="3237840" y="2237760"/>
            <a:ext cx="265320" cy="1203480"/>
          </a:xfrm>
          <a:prstGeom prst="bentConnector5">
            <a:avLst>
              <a:gd name="adj1" fmla="val -87500"/>
              <a:gd name="adj2" fmla="val 50000"/>
              <a:gd name="adj3" fmla="val 18736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4" name=""/>
          <p:cNvCxnSpPr>
            <a:stCxn id="125" idx="2"/>
            <a:endCxn id="126" idx="0"/>
          </p:cNvCxnSpPr>
          <p:nvPr/>
        </p:nvCxnSpPr>
        <p:spPr>
          <a:xfrm flipH="1" flipV="1" rot="5400000">
            <a:off x="1043640" y="2301120"/>
            <a:ext cx="474840" cy="1070640"/>
          </a:xfrm>
          <a:prstGeom prst="bentConnector5">
            <a:avLst>
              <a:gd name="adj1" fmla="val -47799"/>
              <a:gd name="adj2" fmla="val 150084"/>
              <a:gd name="adj3" fmla="val 14878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27" name=""/>
          <p:cNvGrpSpPr/>
          <p:nvPr/>
        </p:nvGrpSpPr>
        <p:grpSpPr>
          <a:xfrm>
            <a:off x="418680" y="2820960"/>
            <a:ext cx="662400" cy="252360"/>
            <a:chOff x="418680" y="2820960"/>
            <a:chExt cx="662400" cy="252360"/>
          </a:xfrm>
        </p:grpSpPr>
        <p:sp>
          <p:nvSpPr>
            <p:cNvPr id="128" name=""/>
            <p:cNvSpPr/>
            <p:nvPr/>
          </p:nvSpPr>
          <p:spPr>
            <a:xfrm>
              <a:off x="471600" y="282096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8680" y="28879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40560" y="143028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186516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22" idx="0"/>
          </p:cNvCxnSpPr>
          <p:nvPr/>
        </p:nvCxnSpPr>
        <p:spPr>
          <a:xfrm flipH="1" flipV="1" rot="5400000">
            <a:off x="2094840" y="2400840"/>
            <a:ext cx="407880" cy="940680"/>
          </a:xfrm>
          <a:prstGeom prst="bentConnector5">
            <a:avLst>
              <a:gd name="adj1" fmla="val -55653"/>
              <a:gd name="adj2" fmla="val 157006"/>
              <a:gd name="adj3" fmla="val 15680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33" name=""/>
          <p:cNvGrpSpPr/>
          <p:nvPr/>
        </p:nvGrpSpPr>
        <p:grpSpPr>
          <a:xfrm>
            <a:off x="1501200" y="2822400"/>
            <a:ext cx="662400" cy="252360"/>
            <a:chOff x="1501200" y="2822400"/>
            <a:chExt cx="662400" cy="252360"/>
          </a:xfrm>
        </p:grpSpPr>
        <p:sp>
          <p:nvSpPr>
            <p:cNvPr id="134" name=""/>
            <p:cNvSpPr/>
            <p:nvPr/>
          </p:nvSpPr>
          <p:spPr>
            <a:xfrm>
              <a:off x="1554120" y="282240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1200" y="28893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14360" y="2593800"/>
            <a:ext cx="609480" cy="30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stableci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necesida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 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6440" y="2293920"/>
            <a:ext cx="663480" cy="308520"/>
            <a:chOff x="406440" y="2293920"/>
            <a:chExt cx="663480" cy="308520"/>
          </a:xfrm>
        </p:grpSpPr>
        <p:sp>
          <p:nvSpPr>
            <p:cNvPr id="137" name=""/>
            <p:cNvSpPr/>
            <p:nvPr/>
          </p:nvSpPr>
          <p:spPr>
            <a:xfrm>
              <a:off x="406440" y="2293920"/>
              <a:ext cx="663480" cy="1526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/>
            <p:nvPr/>
          </p:nvCxnSpPr>
          <p:spPr>
            <a:xfrm flipH="1">
              <a:off x="736200" y="2449440"/>
              <a:ext cx="2160" cy="153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126" name=""/>
          <p:cNvSpPr/>
          <p:nvPr/>
        </p:nvSpPr>
        <p:spPr>
          <a:xfrm>
            <a:off x="1511280" y="2598840"/>
            <a:ext cx="60948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fini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íneas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vesitg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endCxn id="140" idx="0"/>
          </p:cNvCxnSpPr>
          <p:nvPr/>
        </p:nvCxnSpPr>
        <p:spPr>
          <a:xfrm flipH="1">
            <a:off x="3975120" y="2989080"/>
            <a:ext cx="11160" cy="167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1" name=""/>
          <p:cNvGrpSpPr/>
          <p:nvPr/>
        </p:nvGrpSpPr>
        <p:grpSpPr>
          <a:xfrm>
            <a:off x="2589120" y="4841640"/>
            <a:ext cx="879480" cy="907200"/>
            <a:chOff x="2589120" y="4841640"/>
            <a:chExt cx="879480" cy="907200"/>
          </a:xfrm>
        </p:grpSpPr>
        <p:cxnSp>
          <p:nvCxnSpPr>
            <p:cNvPr id="142" name=""/>
            <p:cNvCxnSpPr/>
            <p:nvPr/>
          </p:nvCxnSpPr>
          <p:spPr>
            <a:xfrm flipH="1">
              <a:off x="2864520" y="4841640"/>
              <a:ext cx="2520" cy="1530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43" name=""/>
            <p:cNvSpPr/>
            <p:nvPr/>
          </p:nvSpPr>
          <p:spPr>
            <a:xfrm>
              <a:off x="2589120" y="5019840"/>
              <a:ext cx="563400" cy="4888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642040" y="5108760"/>
              <a:ext cx="826560" cy="640080"/>
              <a:chOff x="2642040" y="5108760"/>
              <a:chExt cx="826560" cy="640080"/>
            </a:xfrm>
          </p:grpSpPr>
          <p:sp>
            <p:nvSpPr>
              <p:cNvPr id="145" name=""/>
              <p:cNvSpPr/>
              <p:nvPr/>
            </p:nvSpPr>
            <p:spPr>
              <a:xfrm>
                <a:off x="2642040" y="5166000"/>
                <a:ext cx="46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Proced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54480" y="5197680"/>
                <a:ext cx="114120" cy="1396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7" name=""/>
              <p:cNvCxnSpPr>
                <a:stCxn id="143" idx="3"/>
                <a:endCxn id="146" idx="2"/>
              </p:cNvCxnSpPr>
              <p:nvPr/>
            </p:nvCxnSpPr>
            <p:spPr>
              <a:xfrm>
                <a:off x="3152520" y="5264280"/>
                <a:ext cx="202320" cy="360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</p:cxnSp>
          <p:sp>
            <p:nvSpPr>
              <p:cNvPr id="148" name=""/>
              <p:cNvSpPr/>
              <p:nvPr/>
            </p:nvSpPr>
            <p:spPr>
              <a:xfrm>
                <a:off x="3086640" y="5108760"/>
                <a:ext cx="2782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54280" y="5502600"/>
                <a:ext cx="252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600" spc="-1" strike="noStrike">
                    <a:solidFill>
                      <a:srgbClr val="000000"/>
                    </a:solidFill>
                    <a:latin typeface="Arial"/>
                  </a:rPr>
                  <a:t>Sí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0" name=""/>
              <p:cNvCxnSpPr/>
              <p:nvPr/>
            </p:nvCxnSpPr>
            <p:spPr>
              <a:xfrm>
                <a:off x="2874600" y="5508720"/>
                <a:ext cx="1080" cy="2404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</p:cxnSp>
        </p:grpSp>
      </p:grpSp>
      <p:sp>
        <p:nvSpPr>
          <p:cNvPr id="151" name=""/>
          <p:cNvSpPr/>
          <p:nvPr/>
        </p:nvSpPr>
        <p:spPr>
          <a:xfrm>
            <a:off x="890640" y="2454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440" y="24433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60680" y="5560920"/>
            <a:ext cx="669960" cy="468360"/>
            <a:chOff x="2560680" y="5560920"/>
            <a:chExt cx="669960" cy="468360"/>
          </a:xfrm>
        </p:grpSpPr>
        <p:sp>
          <p:nvSpPr>
            <p:cNvPr id="154" name=""/>
            <p:cNvSpPr/>
            <p:nvPr/>
          </p:nvSpPr>
          <p:spPr>
            <a:xfrm>
              <a:off x="2560680" y="572436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elec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ac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03480" y="55609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463840" y="2513160"/>
            <a:ext cx="609480" cy="458640"/>
            <a:chOff x="2463840" y="2513160"/>
            <a:chExt cx="609480" cy="458640"/>
          </a:xfrm>
        </p:grpSpPr>
        <p:sp>
          <p:nvSpPr>
            <p:cNvPr id="157" name=""/>
            <p:cNvSpPr/>
            <p:nvPr/>
          </p:nvSpPr>
          <p:spPr>
            <a:xfrm>
              <a:off x="2847600" y="25131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3840" y="266724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oordin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l proceso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opil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666960" y="2706840"/>
            <a:ext cx="609840" cy="304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Búsqueda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opil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51440" y="25448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70200" y="2982960"/>
            <a:ext cx="609480" cy="477360"/>
            <a:chOff x="3670200" y="2982960"/>
            <a:chExt cx="609480" cy="477360"/>
          </a:xfrm>
        </p:grpSpPr>
        <p:sp>
          <p:nvSpPr>
            <p:cNvPr id="140" name=""/>
            <p:cNvSpPr/>
            <p:nvPr/>
          </p:nvSpPr>
          <p:spPr>
            <a:xfrm>
              <a:off x="3670200" y="315576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lasific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54320" y="29829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433240" y="1817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de Análsi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novaciones de l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rvicio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1680" y="181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laneaci´+on y Desarro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b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15880" y="1817640"/>
            <a:ext cx="9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rección General Adjunta de Diseño de Sistema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1280" y="181764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direc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portunid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la Innov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flipH="1">
            <a:off x="3971160" y="343188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6" name=""/>
          <p:cNvGrpSpPr/>
          <p:nvPr/>
        </p:nvGrpSpPr>
        <p:grpSpPr>
          <a:xfrm>
            <a:off x="3657600" y="3425760"/>
            <a:ext cx="609480" cy="478080"/>
            <a:chOff x="3657600" y="3425760"/>
            <a:chExt cx="609480" cy="478080"/>
          </a:xfrm>
        </p:grpSpPr>
        <p:sp>
          <p:nvSpPr>
            <p:cNvPr id="167" name=""/>
            <p:cNvSpPr/>
            <p:nvPr/>
          </p:nvSpPr>
          <p:spPr>
            <a:xfrm>
              <a:off x="3657600" y="359892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labor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41720" y="34257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08200" y="3641760"/>
            <a:ext cx="609480" cy="477360"/>
            <a:chOff x="2608200" y="3641760"/>
            <a:chExt cx="609480" cy="477360"/>
          </a:xfrm>
        </p:grpSpPr>
        <p:sp>
          <p:nvSpPr>
            <p:cNvPr id="117" name=""/>
            <p:cNvSpPr/>
            <p:nvPr/>
          </p:nvSpPr>
          <p:spPr>
            <a:xfrm>
              <a:off x="2608200" y="381456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nálsi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92320" y="36417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646360" y="4356000"/>
            <a:ext cx="609480" cy="478080"/>
            <a:chOff x="2646360" y="4356000"/>
            <a:chExt cx="609480" cy="478080"/>
          </a:xfrm>
        </p:grpSpPr>
        <p:sp>
          <p:nvSpPr>
            <p:cNvPr id="172" name=""/>
            <p:cNvSpPr/>
            <p:nvPr/>
          </p:nvSpPr>
          <p:spPr>
            <a:xfrm>
              <a:off x="2646360" y="452916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ctame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viabilida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30480" y="43560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4" name=""/>
          <p:cNvCxnSpPr/>
          <p:nvPr/>
        </p:nvCxnSpPr>
        <p:spPr>
          <a:xfrm flipH="1">
            <a:off x="2943000" y="4376520"/>
            <a:ext cx="216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5" name=""/>
          <p:cNvGrpSpPr/>
          <p:nvPr/>
        </p:nvGrpSpPr>
        <p:grpSpPr>
          <a:xfrm>
            <a:off x="2633040" y="6446880"/>
            <a:ext cx="662400" cy="252360"/>
            <a:chOff x="2633040" y="6446880"/>
            <a:chExt cx="662400" cy="252360"/>
          </a:xfrm>
        </p:grpSpPr>
        <p:sp>
          <p:nvSpPr>
            <p:cNvPr id="176" name=""/>
            <p:cNvSpPr/>
            <p:nvPr/>
          </p:nvSpPr>
          <p:spPr>
            <a:xfrm>
              <a:off x="2685960" y="644688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33040" y="65138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602080" y="6064200"/>
            <a:ext cx="609480" cy="477360"/>
            <a:chOff x="2602080" y="6064200"/>
            <a:chExt cx="609480" cy="477360"/>
          </a:xfrm>
        </p:grpSpPr>
        <p:sp>
          <p:nvSpPr>
            <p:cNvPr id="179" name=""/>
            <p:cNvSpPr/>
            <p:nvPr/>
          </p:nvSpPr>
          <p:spPr>
            <a:xfrm>
              <a:off x="2602080" y="623700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Notific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86200" y="60642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1" name=""/>
          <p:cNvCxnSpPr/>
          <p:nvPr/>
        </p:nvCxnSpPr>
        <p:spPr>
          <a:xfrm flipH="1">
            <a:off x="2855160" y="6028920"/>
            <a:ext cx="2520" cy="19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endCxn id="183" idx="0"/>
          </p:cNvCxnSpPr>
          <p:nvPr/>
        </p:nvCxnSpPr>
        <p:spPr>
          <a:xfrm flipV="1" rot="16200000">
            <a:off x="1808280" y="5468760"/>
            <a:ext cx="1211400" cy="1217880"/>
          </a:xfrm>
          <a:prstGeom prst="bentConnector3">
            <a:avLst>
              <a:gd name="adj1" fmla="val 11914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4" name=""/>
          <p:cNvCxnSpPr/>
          <p:nvPr/>
        </p:nvCxnSpPr>
        <p:spPr>
          <a:xfrm flipH="1">
            <a:off x="1766520" y="5794200"/>
            <a:ext cx="216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5" name=""/>
          <p:cNvSpPr/>
          <p:nvPr/>
        </p:nvSpPr>
        <p:spPr>
          <a:xfrm>
            <a:off x="1490760" y="5946840"/>
            <a:ext cx="563400" cy="488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43320" y="61182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3160" y="6137280"/>
            <a:ext cx="114120" cy="1396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5" idx="3"/>
            <a:endCxn id="187" idx="2"/>
          </p:cNvCxnSpPr>
          <p:nvPr/>
        </p:nvCxnSpPr>
        <p:spPr>
          <a:xfrm>
            <a:off x="2054160" y="6191280"/>
            <a:ext cx="189360" cy="16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9" name=""/>
          <p:cNvSpPr/>
          <p:nvPr/>
        </p:nvSpPr>
        <p:spPr>
          <a:xfrm>
            <a:off x="1987920" y="606096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22360" y="64548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00120" y="5299200"/>
            <a:ext cx="650520" cy="477360"/>
            <a:chOff x="1500120" y="5299200"/>
            <a:chExt cx="650520" cy="477360"/>
          </a:xfrm>
        </p:grpSpPr>
        <p:sp>
          <p:nvSpPr>
            <p:cNvPr id="183" name=""/>
            <p:cNvSpPr/>
            <p:nvPr/>
          </p:nvSpPr>
          <p:spPr>
            <a:xfrm>
              <a:off x="1500120" y="5472000"/>
              <a:ext cx="609480" cy="304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credit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4600" y="529920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3" name=""/>
          <p:cNvCxnSpPr>
            <a:stCxn id="194" idx="2"/>
            <a:endCxn id="195" idx="0"/>
          </p:cNvCxnSpPr>
          <p:nvPr/>
        </p:nvCxnSpPr>
        <p:spPr>
          <a:xfrm flipV="1" rot="16200000">
            <a:off x="1185840" y="6284880"/>
            <a:ext cx="146520" cy="1130760"/>
          </a:xfrm>
          <a:prstGeom prst="bentConnector5">
            <a:avLst>
              <a:gd name="adj1" fmla="val -158374"/>
              <a:gd name="adj2" fmla="val 50031"/>
              <a:gd name="adj3" fmla="val 258620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96" name=""/>
          <p:cNvGrpSpPr/>
          <p:nvPr/>
        </p:nvGrpSpPr>
        <p:grpSpPr>
          <a:xfrm>
            <a:off x="388800" y="6603840"/>
            <a:ext cx="650520" cy="478080"/>
            <a:chOff x="388800" y="6603840"/>
            <a:chExt cx="650520" cy="478080"/>
          </a:xfrm>
        </p:grpSpPr>
        <p:sp>
          <p:nvSpPr>
            <p:cNvPr id="195" name=""/>
            <p:cNvSpPr/>
            <p:nvPr/>
          </p:nvSpPr>
          <p:spPr>
            <a:xfrm>
              <a:off x="388800" y="677700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valua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3280" y="6603840"/>
              <a:ext cx="26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52440" y="729936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endCxn id="198" idx="0"/>
          </p:cNvCxnSpPr>
          <p:nvPr/>
        </p:nvCxnSpPr>
        <p:spPr>
          <a:xfrm>
            <a:off x="679320" y="7091280"/>
            <a:ext cx="5400" cy="208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200" name=""/>
          <p:cNvGrpSpPr/>
          <p:nvPr/>
        </p:nvGrpSpPr>
        <p:grpSpPr>
          <a:xfrm>
            <a:off x="1519200" y="6445080"/>
            <a:ext cx="609480" cy="478080"/>
            <a:chOff x="1519200" y="6445080"/>
            <a:chExt cx="609480" cy="478080"/>
          </a:xfrm>
        </p:grpSpPr>
        <p:sp>
          <p:nvSpPr>
            <p:cNvPr id="194" name=""/>
            <p:cNvSpPr/>
            <p:nvPr/>
          </p:nvSpPr>
          <p:spPr>
            <a:xfrm>
              <a:off x="1519200" y="6618240"/>
              <a:ext cx="6094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ontinua co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etap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1880" y="6445080"/>
              <a:ext cx="1839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/>
          <p:nvPr/>
        </p:nvCxnSpPr>
        <p:spPr>
          <a:xfrm flipH="1">
            <a:off x="1778760" y="6441840"/>
            <a:ext cx="252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3" name=""/>
          <p:cNvSpPr/>
          <p:nvPr/>
        </p:nvSpPr>
        <p:spPr>
          <a:xfrm>
            <a:off x="590004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44480" y="722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01880" y="8331120"/>
            <a:ext cx="145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Virginia Barragán Pér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9720" y="8331120"/>
            <a:ext cx="1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Laura Díaz Ni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32720" y="8331120"/>
            <a:ext cx="172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ra. Carmen Rodríguez Dehaib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1628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21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19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16:55:03Z</dcterms:modified>
  <cp:revision>5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86407746</vt:r8>
  </property>
  <property fmtid="{D5CDD505-2E9C-101B-9397-08002B2CF9AE}" pid="3" name="_AuthorEmail">
    <vt:lpwstr>VIRGINIAB@DGPEC-S01.SSA.com</vt:lpwstr>
  </property>
  <property fmtid="{D5CDD505-2E9C-101B-9397-08002B2CF9AE}" pid="4" name="_AuthorEmailDisplayName">
    <vt:lpwstr>VIRGINIA BARRAGAN PEREZ</vt:lpwstr>
  </property>
  <property fmtid="{D5CDD505-2E9C-101B-9397-08002B2CF9AE}" pid="5" name="_EmailSubject">
    <vt:lpwstr>Procedimientos DAISS</vt:lpwstr>
  </property>
</Properties>
</file>