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91960" y="1760400"/>
            <a:ext cx="6330960" cy="5815080"/>
            <a:chOff x="291960" y="1760400"/>
            <a:chExt cx="6330960" cy="5815080"/>
          </a:xfrm>
        </p:grpSpPr>
        <p:sp>
          <p:nvSpPr>
            <p:cNvPr id="1" name=""/>
            <p:cNvSpPr/>
            <p:nvPr/>
          </p:nvSpPr>
          <p:spPr>
            <a:xfrm>
              <a:off x="4965840" y="2308320"/>
              <a:ext cx="16570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65640" y="2308320"/>
              <a:ext cx="16002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50960" y="2308320"/>
              <a:ext cx="17146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91960" y="2308320"/>
              <a:ext cx="13590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965840" y="1760400"/>
              <a:ext cx="1657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Sistemas Complementario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365640" y="1760400"/>
              <a:ext cx="1600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50960" y="1760400"/>
              <a:ext cx="1714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1960" y="1760400"/>
              <a:ext cx="1359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1960" y="2308320"/>
              <a:ext cx="633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91960" y="7575480"/>
              <a:ext cx="6330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1960" y="176040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50960" y="176040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65640" y="176040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965840" y="176040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22920" y="176040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650960" y="1760400"/>
              <a:ext cx="331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91960" y="1760400"/>
              <a:ext cx="135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965840" y="1760400"/>
              <a:ext cx="1657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1003320"/>
            <a:chOff x="304920" y="228600"/>
            <a:chExt cx="6324480" cy="100332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53 de  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: Para el diseño e Implantación de un Modelo de Modulación y Validación de los Sistemas Complementarios de Atención a la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2319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37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RNÁN JOSÉ GARCÍA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257880" y="33210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10040" y="6053040"/>
            <a:ext cx="568440" cy="336600"/>
            <a:chOff x="4010040" y="6053040"/>
            <a:chExt cx="568440" cy="336600"/>
          </a:xfrm>
        </p:grpSpPr>
        <p:sp>
          <p:nvSpPr>
            <p:cNvPr id="103" name=""/>
            <p:cNvSpPr/>
            <p:nvPr/>
          </p:nvSpPr>
          <p:spPr>
            <a:xfrm>
              <a:off x="4113360" y="6075360"/>
              <a:ext cx="441360" cy="31428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10040" y="621504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13280" y="6053040"/>
              <a:ext cx="565200" cy="193680"/>
              <a:chOff x="4013280" y="6053040"/>
              <a:chExt cx="565200" cy="193680"/>
            </a:xfrm>
          </p:grpSpPr>
          <p:sp>
            <p:nvSpPr>
              <p:cNvPr id="106" name=""/>
              <p:cNvSpPr/>
              <p:nvPr/>
            </p:nvSpPr>
            <p:spPr>
              <a:xfrm>
                <a:off x="4107240" y="6053040"/>
                <a:ext cx="441000" cy="18540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13280" y="6076800"/>
                <a:ext cx="5652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6207120" y="5243400"/>
            <a:ext cx="0" cy="5079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052880" y="4230720"/>
            <a:ext cx="565200" cy="193680"/>
            <a:chOff x="4052880" y="4230720"/>
            <a:chExt cx="565200" cy="193680"/>
          </a:xfrm>
        </p:grpSpPr>
        <p:sp>
          <p:nvSpPr>
            <p:cNvPr id="110" name=""/>
            <p:cNvSpPr/>
            <p:nvPr/>
          </p:nvSpPr>
          <p:spPr>
            <a:xfrm>
              <a:off x="4146840" y="4230720"/>
              <a:ext cx="441000" cy="18540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52880" y="425448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991120" y="4040280"/>
            <a:ext cx="565200" cy="193680"/>
            <a:chOff x="5991120" y="4040280"/>
            <a:chExt cx="565200" cy="193680"/>
          </a:xfrm>
        </p:grpSpPr>
        <p:sp>
          <p:nvSpPr>
            <p:cNvPr id="113" name=""/>
            <p:cNvSpPr/>
            <p:nvPr/>
          </p:nvSpPr>
          <p:spPr>
            <a:xfrm>
              <a:off x="6085080" y="4040280"/>
              <a:ext cx="441000" cy="18540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91120" y="406404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1480" y="2438280"/>
            <a:ext cx="66384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70520" y="2960640"/>
            <a:ext cx="642960" cy="393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iagnóstic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jur. de las meds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m.en Mex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71720" y="2639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44880" y="3762360"/>
            <a:ext cx="671040" cy="532080"/>
            <a:chOff x="3944880" y="3762360"/>
            <a:chExt cx="671040" cy="532080"/>
          </a:xfrm>
        </p:grpSpPr>
        <p:grpSp>
          <p:nvGrpSpPr>
            <p:cNvPr id="121" name=""/>
            <p:cNvGrpSpPr/>
            <p:nvPr/>
          </p:nvGrpSpPr>
          <p:grpSpPr>
            <a:xfrm>
              <a:off x="4051080" y="4100760"/>
              <a:ext cx="564840" cy="193680"/>
              <a:chOff x="4051080" y="4100760"/>
              <a:chExt cx="564840" cy="193680"/>
            </a:xfrm>
          </p:grpSpPr>
          <p:sp>
            <p:nvSpPr>
              <p:cNvPr id="122" name=""/>
              <p:cNvSpPr/>
              <p:nvPr/>
            </p:nvSpPr>
            <p:spPr>
              <a:xfrm>
                <a:off x="4144680" y="4100760"/>
                <a:ext cx="440640" cy="18540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51080" y="4124520"/>
                <a:ext cx="5648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944880" y="3762360"/>
              <a:ext cx="649080" cy="376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lidación 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ticulació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GAJ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060640" y="2724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916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3525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65720" y="2719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76560" y="703584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440" y="273384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00760" y="3687840"/>
            <a:ext cx="63324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rop. para l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egalización meds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men. P/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LG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960" y="2798640"/>
            <a:ext cx="650880" cy="400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Instrucción sob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elabora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de model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73320" y="2963880"/>
            <a:ext cx="65088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mod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2680" y="2944800"/>
            <a:ext cx="65088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s P/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. de modelo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2" idx="2"/>
            <a:endCxn id="133" idx="0"/>
          </p:cNvCxnSpPr>
          <p:nvPr/>
        </p:nvCxnSpPr>
        <p:spPr>
          <a:xfrm flipH="1" flipV="1" rot="5400000">
            <a:off x="1548360" y="2248200"/>
            <a:ext cx="235800" cy="1666080"/>
          </a:xfrm>
          <a:prstGeom prst="bentConnector5">
            <a:avLst>
              <a:gd name="adj1" fmla="val -97247"/>
              <a:gd name="adj2" fmla="val 36697"/>
              <a:gd name="adj3" fmla="val 197247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7" idx="2"/>
            <a:endCxn id="132" idx="0"/>
          </p:cNvCxnSpPr>
          <p:nvPr/>
        </p:nvCxnSpPr>
        <p:spPr>
          <a:xfrm>
            <a:off x="833040" y="2590560"/>
            <a:ext cx="1080" cy="208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2"/>
            <a:endCxn id="134" idx="0"/>
          </p:cNvCxnSpPr>
          <p:nvPr/>
        </p:nvCxnSpPr>
        <p:spPr>
          <a:xfrm flipH="1" flipV="1" rot="5400000">
            <a:off x="3148560" y="2294280"/>
            <a:ext cx="419760" cy="1720080"/>
          </a:xfrm>
          <a:prstGeom prst="bentConnector5">
            <a:avLst>
              <a:gd name="adj1" fmla="val -54506"/>
              <a:gd name="adj2" fmla="val 37282"/>
              <a:gd name="adj3" fmla="val 15450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2"/>
            <a:endCxn id="118" idx="0"/>
          </p:cNvCxnSpPr>
          <p:nvPr/>
        </p:nvCxnSpPr>
        <p:spPr>
          <a:xfrm flipH="1" flipV="1" rot="5400000">
            <a:off x="5012280" y="2164680"/>
            <a:ext cx="384840" cy="1975320"/>
          </a:xfrm>
          <a:prstGeom prst="bentConnector5">
            <a:avLst>
              <a:gd name="adj1" fmla="val -59456"/>
              <a:gd name="adj2" fmla="val 27087"/>
              <a:gd name="adj3" fmla="val 15945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892680" y="571032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Informe final.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03840" y="3603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14" idx="2"/>
            <a:endCxn id="124" idx="0"/>
          </p:cNvCxnSpPr>
          <p:nvPr/>
        </p:nvCxnSpPr>
        <p:spPr>
          <a:xfrm flipV="1" rot="16200000">
            <a:off x="5036400" y="2994840"/>
            <a:ext cx="470520" cy="2004120"/>
          </a:xfrm>
          <a:prstGeom prst="bentConnector5">
            <a:avLst>
              <a:gd name="adj1" fmla="val -15849"/>
              <a:gd name="adj2" fmla="val 48957"/>
              <a:gd name="adj3" fmla="val 126952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1" idx="2"/>
            <a:endCxn id="143" idx="0"/>
          </p:cNvCxnSpPr>
          <p:nvPr/>
        </p:nvCxnSpPr>
        <p:spPr>
          <a:xfrm flipH="1" rot="16200000">
            <a:off x="5107320" y="3649320"/>
            <a:ext cx="296280" cy="184212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884920" y="5753160"/>
            <a:ext cx="635040" cy="401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ización del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con l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.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958000" y="5075280"/>
            <a:ext cx="565200" cy="193680"/>
            <a:chOff x="5958000" y="5075280"/>
            <a:chExt cx="565200" cy="193680"/>
          </a:xfrm>
        </p:grpSpPr>
        <p:sp>
          <p:nvSpPr>
            <p:cNvPr id="146" name=""/>
            <p:cNvSpPr/>
            <p:nvPr/>
          </p:nvSpPr>
          <p:spPr>
            <a:xfrm>
              <a:off x="6051960" y="5075280"/>
              <a:ext cx="441000" cy="18540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58000" y="509904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859360" y="4718160"/>
            <a:ext cx="635040" cy="401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. de un mod.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valid. P/ recon.y Cert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as meds. Complem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70840" y="4476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5522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endCxn id="139" idx="0"/>
          </p:cNvCxnSpPr>
          <p:nvPr/>
        </p:nvCxnSpPr>
        <p:spPr>
          <a:xfrm flipV="1" rot="16200000">
            <a:off x="4949640" y="4986000"/>
            <a:ext cx="585000" cy="2032200"/>
          </a:xfrm>
          <a:prstGeom prst="bentConnector5">
            <a:avLst>
              <a:gd name="adj1" fmla="val -39100"/>
              <a:gd name="adj2" fmla="val 48742"/>
              <a:gd name="adj3" fmla="val 13910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311720" y="6378480"/>
            <a:ext cx="11160" cy="6508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2960" y="5432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970600" y="6143760"/>
            <a:ext cx="568440" cy="335880"/>
            <a:chOff x="5970600" y="6143760"/>
            <a:chExt cx="568440" cy="335880"/>
          </a:xfrm>
        </p:grpSpPr>
        <p:sp>
          <p:nvSpPr>
            <p:cNvPr id="154" name=""/>
            <p:cNvSpPr/>
            <p:nvPr/>
          </p:nvSpPr>
          <p:spPr>
            <a:xfrm>
              <a:off x="6073920" y="6165720"/>
              <a:ext cx="441360" cy="31392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70600" y="630540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973840" y="6143760"/>
              <a:ext cx="565200" cy="193320"/>
              <a:chOff x="5973840" y="6143760"/>
              <a:chExt cx="565200" cy="193320"/>
            </a:xfrm>
          </p:grpSpPr>
          <p:sp>
            <p:nvSpPr>
              <p:cNvPr id="157" name=""/>
              <p:cNvSpPr/>
              <p:nvPr/>
            </p:nvSpPr>
            <p:spPr>
              <a:xfrm>
                <a:off x="6067800" y="6143760"/>
                <a:ext cx="441000" cy="18504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73840" y="6167160"/>
                <a:ext cx="5652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6:17:03Z</dcterms:modified>
  <cp:revision>5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01374890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Manuales de procedimientos de Medicina Tradicional y Sistmas Complementarios</vt:lpwstr>
  </property>
</Properties>
</file>