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60280" y="1824120"/>
            <a:ext cx="6291360" cy="5815080"/>
            <a:chOff x="260280" y="1824120"/>
            <a:chExt cx="6291360" cy="5815080"/>
          </a:xfrm>
        </p:grpSpPr>
        <p:sp>
          <p:nvSpPr>
            <p:cNvPr id="1" name=""/>
            <p:cNvSpPr/>
            <p:nvPr/>
          </p:nvSpPr>
          <p:spPr>
            <a:xfrm>
              <a:off x="3460680" y="2371680"/>
              <a:ext cx="309096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460680" y="1824120"/>
              <a:ext cx="3090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724040" y="2371680"/>
              <a:ext cx="1736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60280" y="2371680"/>
              <a:ext cx="146376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724040" y="1824120"/>
              <a:ext cx="1736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60280" y="1824120"/>
              <a:ext cx="14637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60280" y="2371680"/>
              <a:ext cx="629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60280" y="7639200"/>
              <a:ext cx="6291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60280" y="182412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724040" y="182412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460680" y="182412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551640" y="182412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724040" y="1824120"/>
              <a:ext cx="48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60280" y="1824120"/>
              <a:ext cx="1463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304920" y="228600"/>
            <a:ext cx="6324480" cy="1003320"/>
            <a:chOff x="304920" y="228600"/>
            <a:chExt cx="6324480" cy="1003320"/>
          </a:xfrm>
        </p:grpSpPr>
        <p:sp>
          <p:nvSpPr>
            <p:cNvPr id="16" name=""/>
            <p:cNvSpPr/>
            <p:nvPr/>
          </p:nvSpPr>
          <p:spPr>
            <a:xfrm>
              <a:off x="5638680" y="716040"/>
              <a:ext cx="990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28 de 61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28840" y="716040"/>
              <a:ext cx="42098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ra que los programas institucionales e interinstitucionales enfocados a población rural e indígena se ofrezcan dentro del enfoque intercultural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04920" y="228600"/>
              <a:ext cx="112392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04920" y="12319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228600"/>
              <a:ext cx="0" cy="100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2286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29400" y="228600"/>
              <a:ext cx="0" cy="100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2" name=""/>
          <p:cNvGrpSpPr/>
          <p:nvPr/>
        </p:nvGrpSpPr>
        <p:grpSpPr>
          <a:xfrm>
            <a:off x="304920" y="7848720"/>
            <a:ext cx="6324480" cy="1201680"/>
            <a:chOff x="304920" y="7848720"/>
            <a:chExt cx="6324480" cy="1201680"/>
          </a:xfrm>
        </p:grpSpPr>
        <p:sp>
          <p:nvSpPr>
            <p:cNvPr id="33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895480" y="80773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14400" y="80773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800600" y="883764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5480" y="883764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14400" y="883764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883764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00600" y="8624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95480" y="8624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624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8624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29008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R. JOSE ALEJANDRO ALMAGUER GONZÁLEZ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829008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CENTE VARGAS VITE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82900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EMÍ LUGO MALDONAD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8290080"/>
              <a:ext cx="6094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8624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88376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90504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784872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9400" y="784872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0060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03880" y="5613480"/>
            <a:ext cx="0" cy="4712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908520" y="3017880"/>
            <a:ext cx="536400" cy="261720"/>
            <a:chOff x="3908520" y="3017880"/>
            <a:chExt cx="536400" cy="261720"/>
          </a:xfrm>
        </p:grpSpPr>
        <p:sp>
          <p:nvSpPr>
            <p:cNvPr id="99" name=""/>
            <p:cNvSpPr/>
            <p:nvPr/>
          </p:nvSpPr>
          <p:spPr>
            <a:xfrm>
              <a:off x="3908520" y="3017880"/>
              <a:ext cx="536400" cy="26172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27600" y="3087360"/>
              <a:ext cx="509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Oficio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9160" y="2359080"/>
            <a:ext cx="66384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9000" y="26337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36880" y="26607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5640" y="24987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27360" y="5661000"/>
            <a:ext cx="52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2674800"/>
            <a:ext cx="666720" cy="39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f.  y dif. de la  prop.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(Pol. Púb. Intercul.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/ población indígena)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09760" y="2779560"/>
            <a:ext cx="666720" cy="392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nicio de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os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8360" y="2835360"/>
            <a:ext cx="66672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ir para iniciar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roc. de Implan.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y coordinación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2"/>
            <a:endCxn id="109" idx="0"/>
          </p:cNvCxnSpPr>
          <p:nvPr/>
        </p:nvCxnSpPr>
        <p:spPr>
          <a:xfrm flipH="1" flipV="1" rot="5400000">
            <a:off x="1632240" y="2217240"/>
            <a:ext cx="448560" cy="1572120"/>
          </a:xfrm>
          <a:prstGeom prst="bentConnector5">
            <a:avLst>
              <a:gd name="adj1" fmla="val -51004"/>
              <a:gd name="adj2" fmla="val 32913"/>
              <a:gd name="adj3" fmla="val 151004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2"/>
            <a:endCxn id="108" idx="0"/>
          </p:cNvCxnSpPr>
          <p:nvPr/>
        </p:nvCxnSpPr>
        <p:spPr>
          <a:xfrm flipH="1" flipV="1" rot="5400000">
            <a:off x="3129480" y="2187720"/>
            <a:ext cx="497880" cy="1470960"/>
          </a:xfrm>
          <a:prstGeom prst="bentConnector5">
            <a:avLst>
              <a:gd name="adj1" fmla="val -45947"/>
              <a:gd name="adj2" fmla="val 49987"/>
              <a:gd name="adj3" fmla="val 135455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056280" y="3166920"/>
            <a:ext cx="1800" cy="7700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757840" y="2647800"/>
            <a:ext cx="666720" cy="527040"/>
            <a:chOff x="5757840" y="2647800"/>
            <a:chExt cx="666720" cy="527040"/>
          </a:xfrm>
        </p:grpSpPr>
        <p:grpSp>
          <p:nvGrpSpPr>
            <p:cNvPr id="115" name=""/>
            <p:cNvGrpSpPr/>
            <p:nvPr/>
          </p:nvGrpSpPr>
          <p:grpSpPr>
            <a:xfrm>
              <a:off x="5884920" y="2906640"/>
              <a:ext cx="539640" cy="268200"/>
              <a:chOff x="5884920" y="2906640"/>
              <a:chExt cx="539640" cy="268200"/>
            </a:xfrm>
          </p:grpSpPr>
          <p:sp>
            <p:nvSpPr>
              <p:cNvPr id="116" name=""/>
              <p:cNvSpPr/>
              <p:nvPr/>
            </p:nvSpPr>
            <p:spPr>
              <a:xfrm>
                <a:off x="5888160" y="2906640"/>
                <a:ext cx="536400" cy="262080"/>
              </a:xfrm>
              <a:prstGeom prst="flowChartDocumen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84920" y="3004920"/>
                <a:ext cx="5223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Ofici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5757840" y="2647800"/>
              <a:ext cx="666720" cy="392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ción del ámbi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 acción de las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stancias involucradas</a:t>
              </a:r>
              <a:r>
                <a:rPr b="0" lang="es-ES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096920" y="250668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11840" y="2941560"/>
            <a:ext cx="536400" cy="262080"/>
          </a:xfrm>
          <a:prstGeom prst="flowChartDocumen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42000" y="3040200"/>
            <a:ext cx="522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91240" y="2676600"/>
            <a:ext cx="66672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Adecuación a lo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as de los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s de Salud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65560" y="6959520"/>
            <a:ext cx="66384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02160" y="6581880"/>
            <a:ext cx="0" cy="3744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60960" y="24382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3840" y="24400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815080" y="3746520"/>
            <a:ext cx="666720" cy="709200"/>
            <a:chOff x="5815080" y="3746520"/>
            <a:chExt cx="666720" cy="709200"/>
          </a:xfrm>
        </p:grpSpPr>
        <p:grpSp>
          <p:nvGrpSpPr>
            <p:cNvPr id="128" name=""/>
            <p:cNvGrpSpPr/>
            <p:nvPr/>
          </p:nvGrpSpPr>
          <p:grpSpPr>
            <a:xfrm>
              <a:off x="5815080" y="3944880"/>
              <a:ext cx="666720" cy="510840"/>
              <a:chOff x="5815080" y="3944880"/>
              <a:chExt cx="666720" cy="51084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5937480" y="4187520"/>
                <a:ext cx="539640" cy="268200"/>
                <a:chOff x="5937480" y="4187520"/>
                <a:chExt cx="539640" cy="268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940720" y="4187520"/>
                  <a:ext cx="536400" cy="262080"/>
                </a:xfrm>
                <a:prstGeom prst="flowChartDocumen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937480" y="4285800"/>
                  <a:ext cx="52236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500" spc="-1" strike="noStrike">
                      <a:solidFill>
                        <a:srgbClr val="000000"/>
                      </a:solidFill>
                      <a:latin typeface="Arial"/>
                    </a:rPr>
                    <a:t>Oficio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5815080" y="3944880"/>
                <a:ext cx="666720" cy="39204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finición de Accione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y tipos de Intervención</a:t>
                </a: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6256440" y="374652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638600" y="3767040"/>
            <a:ext cx="746280" cy="701640"/>
            <a:chOff x="4638600" y="3767040"/>
            <a:chExt cx="746280" cy="701640"/>
          </a:xfrm>
        </p:grpSpPr>
        <p:grpSp>
          <p:nvGrpSpPr>
            <p:cNvPr id="135" name=""/>
            <p:cNvGrpSpPr/>
            <p:nvPr/>
          </p:nvGrpSpPr>
          <p:grpSpPr>
            <a:xfrm>
              <a:off x="4718160" y="3948120"/>
              <a:ext cx="666720" cy="520560"/>
              <a:chOff x="4718160" y="3948120"/>
              <a:chExt cx="666720" cy="52056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4845240" y="4200480"/>
                <a:ext cx="539640" cy="268200"/>
                <a:chOff x="4845240" y="4200480"/>
                <a:chExt cx="539640" cy="2682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848480" y="4200480"/>
                  <a:ext cx="536400" cy="262080"/>
                </a:xfrm>
                <a:prstGeom prst="flowChartDocumen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845240" y="4298760"/>
                  <a:ext cx="52236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500" spc="-1" strike="noStrike">
                      <a:solidFill>
                        <a:srgbClr val="000000"/>
                      </a:solidFill>
                      <a:latin typeface="Arial"/>
                    </a:rPr>
                    <a:t>Oficio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4718160" y="3948120"/>
                <a:ext cx="666720" cy="39204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alidación po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áreas relacionadas</a:t>
                </a: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638600" y="37670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687840" y="3772080"/>
            <a:ext cx="666720" cy="681840"/>
            <a:chOff x="3687840" y="3772080"/>
            <a:chExt cx="666720" cy="681840"/>
          </a:xfrm>
        </p:grpSpPr>
        <p:grpSp>
          <p:nvGrpSpPr>
            <p:cNvPr id="142" name=""/>
            <p:cNvGrpSpPr/>
            <p:nvPr/>
          </p:nvGrpSpPr>
          <p:grpSpPr>
            <a:xfrm>
              <a:off x="3687840" y="3941640"/>
              <a:ext cx="666720" cy="512280"/>
              <a:chOff x="3687840" y="3941640"/>
              <a:chExt cx="666720" cy="51228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3813120" y="4186080"/>
                <a:ext cx="539640" cy="267840"/>
                <a:chOff x="3813120" y="4186080"/>
                <a:chExt cx="539640" cy="2678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816360" y="4186080"/>
                  <a:ext cx="536400" cy="261720"/>
                </a:xfrm>
                <a:prstGeom prst="flowChartDocumen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813120" y="4284000"/>
                  <a:ext cx="52236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500" spc="-1" strike="noStrike">
                      <a:solidFill>
                        <a:srgbClr val="000000"/>
                      </a:solidFill>
                      <a:latin typeface="Arial"/>
                    </a:rPr>
                    <a:t>Oficio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687840" y="3941640"/>
                <a:ext cx="666720" cy="39204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nformación de Eq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 Coordinación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 acciones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05120" y="37720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46600" y="5378400"/>
            <a:ext cx="536400" cy="262080"/>
          </a:xfrm>
          <a:prstGeom prst="flowChartDocumen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13040" y="5083200"/>
            <a:ext cx="66672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ción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acciones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1280" y="5454720"/>
            <a:ext cx="514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70600" y="4842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923000" y="5086440"/>
            <a:ext cx="666720" cy="558720"/>
            <a:chOff x="4923000" y="5086440"/>
            <a:chExt cx="666720" cy="558720"/>
          </a:xfrm>
        </p:grpSpPr>
        <p:sp>
          <p:nvSpPr>
            <p:cNvPr id="153" name=""/>
            <p:cNvSpPr/>
            <p:nvPr/>
          </p:nvSpPr>
          <p:spPr>
            <a:xfrm>
              <a:off x="5049720" y="5380200"/>
              <a:ext cx="536760" cy="26172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78440" y="5475240"/>
              <a:ext cx="52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23000" y="5086440"/>
              <a:ext cx="666720" cy="392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erificación 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porte de acciones</a:t>
              </a:r>
              <a:r>
                <a:rPr b="0" lang="es-ES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369040" y="480384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00" idx="2"/>
            <a:endCxn id="122" idx="0"/>
          </p:cNvCxnSpPr>
          <p:nvPr/>
        </p:nvCxnSpPr>
        <p:spPr>
          <a:xfrm flipH="1" flipV="1" rot="5400000">
            <a:off x="4363200" y="2494800"/>
            <a:ext cx="579960" cy="942120"/>
          </a:xfrm>
          <a:prstGeom prst="bentConnector5">
            <a:avLst>
              <a:gd name="adj1" fmla="val -39440"/>
              <a:gd name="adj2" fmla="val 45833"/>
              <a:gd name="adj3" fmla="val 1394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/>
          <p:nvPr/>
        </p:nvCxnSpPr>
        <p:spPr>
          <a:xfrm flipH="1" flipV="1" rot="5400000">
            <a:off x="5305680" y="2457000"/>
            <a:ext cx="580320" cy="942120"/>
          </a:xfrm>
          <a:prstGeom prst="bentConnector5">
            <a:avLst>
              <a:gd name="adj1" fmla="val -13656"/>
              <a:gd name="adj2" fmla="val 45833"/>
              <a:gd name="adj3" fmla="val 122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31" idx="2"/>
            <a:endCxn id="139" idx="0"/>
          </p:cNvCxnSpPr>
          <p:nvPr/>
        </p:nvCxnSpPr>
        <p:spPr>
          <a:xfrm flipV="1" rot="16200000">
            <a:off x="5372280" y="3627000"/>
            <a:ext cx="506880" cy="1148040"/>
          </a:xfrm>
          <a:prstGeom prst="bentConnector5">
            <a:avLst>
              <a:gd name="adj1" fmla="val -45131"/>
              <a:gd name="adj2" fmla="val 46894"/>
              <a:gd name="adj3" fmla="val 1452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/>
          <p:nvPr/>
        </p:nvCxnSpPr>
        <p:spPr>
          <a:xfrm flipV="1" rot="16200000">
            <a:off x="4353120" y="3607920"/>
            <a:ext cx="506880" cy="1148040"/>
          </a:xfrm>
          <a:prstGeom prst="bentConnector5">
            <a:avLst>
              <a:gd name="adj1" fmla="val -45131"/>
              <a:gd name="adj2" fmla="val 46894"/>
              <a:gd name="adj3" fmla="val 1452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4035600" y="4454640"/>
            <a:ext cx="0" cy="6253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92840" y="5883120"/>
            <a:ext cx="713880" cy="833400"/>
            <a:chOff x="4992840" y="5883120"/>
            <a:chExt cx="713880" cy="833400"/>
          </a:xfrm>
        </p:grpSpPr>
        <p:grpSp>
          <p:nvGrpSpPr>
            <p:cNvPr id="163" name=""/>
            <p:cNvGrpSpPr/>
            <p:nvPr/>
          </p:nvGrpSpPr>
          <p:grpSpPr>
            <a:xfrm>
              <a:off x="5122800" y="6413400"/>
              <a:ext cx="533520" cy="303120"/>
              <a:chOff x="5122800" y="6413400"/>
              <a:chExt cx="533520" cy="303120"/>
            </a:xfrm>
          </p:grpSpPr>
          <p:sp>
            <p:nvSpPr>
              <p:cNvPr id="164" name=""/>
              <p:cNvSpPr/>
              <p:nvPr/>
            </p:nvSpPr>
            <p:spPr>
              <a:xfrm>
                <a:off x="5203800" y="6487920"/>
                <a:ext cx="452520" cy="183960"/>
              </a:xfrm>
              <a:prstGeom prst="flowChartDocumen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203800" y="6413400"/>
                <a:ext cx="452520" cy="183960"/>
              </a:xfrm>
              <a:prstGeom prst="flowChartDocumen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151600" y="6453000"/>
                <a:ext cx="4870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ofici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122800" y="6546600"/>
                <a:ext cx="4399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Infor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4992840" y="6080040"/>
              <a:ext cx="666720" cy="392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 emiten cert. 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mplimiento y/o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tr. por omisiones.</a:t>
              </a:r>
              <a:r>
                <a:rPr b="0" lang="es-ES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40680" y="588312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0" name=""/>
          <p:cNvCxnSpPr>
            <a:stCxn id="150" idx="2"/>
            <a:endCxn id="155" idx="0"/>
          </p:cNvCxnSpPr>
          <p:nvPr/>
        </p:nvCxnSpPr>
        <p:spPr>
          <a:xfrm flipH="1" flipV="1" rot="5400000">
            <a:off x="4413240" y="4780440"/>
            <a:ext cx="536760" cy="1148760"/>
          </a:xfrm>
          <a:prstGeom prst="bentConnector5">
            <a:avLst>
              <a:gd name="adj1" fmla="val -42617"/>
              <a:gd name="adj2" fmla="val 46739"/>
              <a:gd name="adj3" fmla="val 142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4110120" y="559764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Noemi Lugo Maldonado</cp:lastModifiedBy>
  <dcterms:modified xsi:type="dcterms:W3CDTF">2005-08-08T15:49:38Z</dcterms:modified>
  <cp:revision>6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030348</vt:r8>
  </property>
  <property fmtid="{D5CDD505-2E9C-101B-9397-08002B2CF9AE}" pid="3" name="_AuthorEmail">
    <vt:lpwstr>HERNANG@DGPEC-S01.SSA.com</vt:lpwstr>
  </property>
  <property fmtid="{D5CDD505-2E9C-101B-9397-08002B2CF9AE}" pid="4" name="_AuthorEmailDisplayName">
    <vt:lpwstr>HERNAN JOSE GARCIA RAMIREZ</vt:lpwstr>
  </property>
  <property fmtid="{D5CDD505-2E9C-101B-9397-08002B2CF9AE}" pid="5" name="_EmailSubject">
    <vt:lpwstr>diagramas</vt:lpwstr>
  </property>
</Properties>
</file>