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43560" cy="5815080"/>
            <a:chOff x="304920" y="1709640"/>
            <a:chExt cx="6343560" cy="5815080"/>
          </a:xfrm>
        </p:grpSpPr>
        <p:sp>
          <p:nvSpPr>
            <p:cNvPr id="1" name=""/>
            <p:cNvSpPr/>
            <p:nvPr/>
          </p:nvSpPr>
          <p:spPr>
            <a:xfrm>
              <a:off x="3460680" y="2257560"/>
              <a:ext cx="10620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0680" y="1709640"/>
              <a:ext cx="106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novación de Proces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86480" y="2257560"/>
              <a:ext cx="10620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22680" y="2257560"/>
              <a:ext cx="10638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86080" y="2257560"/>
              <a:ext cx="107460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5240" y="2257560"/>
              <a:ext cx="10508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57560"/>
              <a:ext cx="10303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6480" y="1709640"/>
              <a:ext cx="106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22680" y="1709640"/>
              <a:ext cx="1063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de Análisis y Diseño de Proces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86080" y="1709640"/>
              <a:ext cx="10746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5240" y="1709640"/>
              <a:ext cx="105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30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43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35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86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06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5864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64848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1709640"/>
              <a:ext cx="20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386080" y="1709640"/>
              <a:ext cx="426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226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5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100 de 11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borar el Manual de Organización Específico de la Dirección General de Planeación y Desarrollo en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2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8731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8731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R. H</a:t>
              </a: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É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TOR ROBLEDO GALVÁN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G. HÉCTOR MURGUÍA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. MA. VICTORIA REPIZO GARCIA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95480" y="2992320"/>
            <a:ext cx="662400" cy="252360"/>
            <a:chOff x="4695480" y="2992320"/>
            <a:chExt cx="662400" cy="252360"/>
          </a:xfrm>
        </p:grpSpPr>
        <p:sp>
          <p:nvSpPr>
            <p:cNvPr id="107" name=""/>
            <p:cNvSpPr/>
            <p:nvPr/>
          </p:nvSpPr>
          <p:spPr>
            <a:xfrm>
              <a:off x="4748400" y="2992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95480" y="3059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11000" y="3024360"/>
            <a:ext cx="662400" cy="252000"/>
            <a:chOff x="2511000" y="3024360"/>
            <a:chExt cx="662400" cy="252000"/>
          </a:xfrm>
        </p:grpSpPr>
        <p:sp>
          <p:nvSpPr>
            <p:cNvPr id="110" name=""/>
            <p:cNvSpPr/>
            <p:nvPr/>
          </p:nvSpPr>
          <p:spPr>
            <a:xfrm>
              <a:off x="2563920" y="30243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1000" y="3090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37760" y="3030480"/>
            <a:ext cx="662400" cy="252360"/>
            <a:chOff x="437760" y="3030480"/>
            <a:chExt cx="662400" cy="252360"/>
          </a:xfrm>
        </p:grpSpPr>
        <p:sp>
          <p:nvSpPr>
            <p:cNvPr id="113" name=""/>
            <p:cNvSpPr/>
            <p:nvPr/>
          </p:nvSpPr>
          <p:spPr>
            <a:xfrm>
              <a:off x="490680" y="3030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7760" y="30974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15800" y="2975040"/>
            <a:ext cx="676080" cy="252360"/>
            <a:chOff x="5815800" y="2975040"/>
            <a:chExt cx="676080" cy="252360"/>
          </a:xfrm>
        </p:grpSpPr>
        <p:sp>
          <p:nvSpPr>
            <p:cNvPr id="116" name=""/>
            <p:cNvSpPr/>
            <p:nvPr/>
          </p:nvSpPr>
          <p:spPr>
            <a:xfrm>
              <a:off x="5869080" y="2975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15800" y="3042000"/>
              <a:ext cx="67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796000" y="2841480"/>
            <a:ext cx="663480" cy="252360"/>
            <a:chOff x="5796000" y="2841480"/>
            <a:chExt cx="663480" cy="252360"/>
          </a:xfrm>
        </p:grpSpPr>
        <p:sp>
          <p:nvSpPr>
            <p:cNvPr id="119" name=""/>
            <p:cNvSpPr/>
            <p:nvPr/>
          </p:nvSpPr>
          <p:spPr>
            <a:xfrm>
              <a:off x="5850000" y="2841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6000" y="2908440"/>
              <a:ext cx="659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 req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3280" y="2890800"/>
            <a:ext cx="661320" cy="252360"/>
            <a:chOff x="413280" y="2890800"/>
            <a:chExt cx="661320" cy="252360"/>
          </a:xfrm>
        </p:grpSpPr>
        <p:sp>
          <p:nvSpPr>
            <p:cNvPr id="122" name=""/>
            <p:cNvSpPr/>
            <p:nvPr/>
          </p:nvSpPr>
          <p:spPr>
            <a:xfrm>
              <a:off x="465120" y="2890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280" y="295776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840" y="23558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9720" y="2502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</p:cNvCxnSpPr>
          <p:nvPr/>
        </p:nvCxnSpPr>
        <p:spPr>
          <a:xfrm flipH="1">
            <a:off x="723600" y="250812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9" name=""/>
          <p:cNvSpPr/>
          <p:nvPr/>
        </p:nvSpPr>
        <p:spPr>
          <a:xfrm>
            <a:off x="425520" y="26640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 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4280" y="2451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70680" y="2879640"/>
            <a:ext cx="661320" cy="252360"/>
            <a:chOff x="2470680" y="2879640"/>
            <a:chExt cx="661320" cy="252360"/>
          </a:xfrm>
        </p:grpSpPr>
        <p:sp>
          <p:nvSpPr>
            <p:cNvPr id="132" name=""/>
            <p:cNvSpPr/>
            <p:nvPr/>
          </p:nvSpPr>
          <p:spPr>
            <a:xfrm>
              <a:off x="2522520" y="2879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70680" y="294660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517840" y="2608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459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75320" y="2851200"/>
            <a:ext cx="663480" cy="252360"/>
            <a:chOff x="4675320" y="2851200"/>
            <a:chExt cx="663480" cy="252360"/>
          </a:xfrm>
        </p:grpSpPr>
        <p:sp>
          <p:nvSpPr>
            <p:cNvPr id="137" name=""/>
            <p:cNvSpPr/>
            <p:nvPr/>
          </p:nvSpPr>
          <p:spPr>
            <a:xfrm>
              <a:off x="4729320" y="2851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5320" y="2918160"/>
              <a:ext cx="659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 req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630680" y="26240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Lineam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y sol.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9680" y="2506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6920" y="26431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iben for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tos requisita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 envían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18200" y="3440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07" idx="2"/>
            <a:endCxn id="141" idx="0"/>
          </p:cNvCxnSpPr>
          <p:nvPr/>
        </p:nvCxnSpPr>
        <p:spPr>
          <a:xfrm flipH="1" flipV="1" rot="5400000">
            <a:off x="5288400" y="2408040"/>
            <a:ext cx="585720" cy="1055880"/>
          </a:xfrm>
          <a:prstGeom prst="bentConnector5">
            <a:avLst>
              <a:gd name="adj1" fmla="val -42127"/>
              <a:gd name="adj2" fmla="val -50852"/>
              <a:gd name="adj3" fmla="val 13960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4803840" y="4013280"/>
            <a:ext cx="525240" cy="4255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44" idx="0"/>
          </p:cNvCxnSpPr>
          <p:nvPr/>
        </p:nvCxnSpPr>
        <p:spPr>
          <a:xfrm>
            <a:off x="5065200" y="3857760"/>
            <a:ext cx="1800" cy="155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/>
          <p:nvPr/>
        </p:nvSpPr>
        <p:spPr>
          <a:xfrm>
            <a:off x="4856400" y="41590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9640" y="41911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4" idx="3"/>
            <a:endCxn id="147" idx="2"/>
          </p:cNvCxnSpPr>
          <p:nvPr/>
        </p:nvCxnSpPr>
        <p:spPr>
          <a:xfrm>
            <a:off x="5329080" y="4226040"/>
            <a:ext cx="160920" cy="35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5272560" y="41022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35440" y="46022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gra el 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4" idx="2"/>
            <a:endCxn id="150" idx="0"/>
          </p:cNvCxnSpPr>
          <p:nvPr/>
        </p:nvCxnSpPr>
        <p:spPr>
          <a:xfrm>
            <a:off x="5066640" y="4438800"/>
            <a:ext cx="1080" cy="163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4728960" y="44197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68920" y="5410080"/>
            <a:ext cx="661680" cy="252360"/>
            <a:chOff x="4768920" y="5410080"/>
            <a:chExt cx="661680" cy="252360"/>
          </a:xfrm>
        </p:grpSpPr>
        <p:sp>
          <p:nvSpPr>
            <p:cNvPr id="154" name=""/>
            <p:cNvSpPr/>
            <p:nvPr/>
          </p:nvSpPr>
          <p:spPr>
            <a:xfrm>
              <a:off x="4821120" y="5410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68920" y="547704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749480" y="5276880"/>
            <a:ext cx="662040" cy="252360"/>
            <a:chOff x="4749480" y="5276880"/>
            <a:chExt cx="662040" cy="252360"/>
          </a:xfrm>
        </p:grpSpPr>
        <p:sp>
          <p:nvSpPr>
            <p:cNvPr id="157" name=""/>
            <p:cNvSpPr/>
            <p:nvPr/>
          </p:nvSpPr>
          <p:spPr>
            <a:xfrm>
              <a:off x="4802040" y="5276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9480" y="5343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29320" y="50626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 y elab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oficio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16" idx="2"/>
            <a:endCxn id="161" idx="0"/>
          </p:cNvCxnSpPr>
          <p:nvPr/>
        </p:nvCxnSpPr>
        <p:spPr>
          <a:xfrm rot="5400000">
            <a:off x="5432760" y="2842200"/>
            <a:ext cx="372240" cy="1110240"/>
          </a:xfrm>
          <a:prstGeom prst="bentConnector5">
            <a:avLst>
              <a:gd name="adj1" fmla="val 66311"/>
              <a:gd name="adj2" fmla="val 48783"/>
              <a:gd name="adj3" fmla="val 3775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5322960" y="49449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4120" y="2951280"/>
            <a:ext cx="662400" cy="252000"/>
            <a:chOff x="1374120" y="2951280"/>
            <a:chExt cx="662400" cy="252000"/>
          </a:xfrm>
        </p:grpSpPr>
        <p:sp>
          <p:nvSpPr>
            <p:cNvPr id="164" name=""/>
            <p:cNvSpPr/>
            <p:nvPr/>
          </p:nvSpPr>
          <p:spPr>
            <a:xfrm>
              <a:off x="1427040" y="2951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4120" y="30178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56120" y="2813040"/>
            <a:ext cx="661320" cy="252360"/>
            <a:chOff x="1356120" y="2813040"/>
            <a:chExt cx="661320" cy="252360"/>
          </a:xfrm>
        </p:grpSpPr>
        <p:sp>
          <p:nvSpPr>
            <p:cNvPr id="167" name=""/>
            <p:cNvSpPr/>
            <p:nvPr/>
          </p:nvSpPr>
          <p:spPr>
            <a:xfrm>
              <a:off x="1407960" y="2813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6120" y="288000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368360" y="25858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54520" y="2462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14" idx="2"/>
            <a:endCxn id="169" idx="0"/>
          </p:cNvCxnSpPr>
          <p:nvPr/>
        </p:nvCxnSpPr>
        <p:spPr>
          <a:xfrm flipH="1" flipV="1" rot="5400000">
            <a:off x="870480" y="2480400"/>
            <a:ext cx="697320" cy="908640"/>
          </a:xfrm>
          <a:prstGeom prst="bentConnector5">
            <a:avLst>
              <a:gd name="adj1" fmla="val -32541"/>
              <a:gd name="adj2" fmla="val 159096"/>
              <a:gd name="adj3" fmla="val 13326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2" name=""/>
          <p:cNvGrpSpPr/>
          <p:nvPr/>
        </p:nvGrpSpPr>
        <p:grpSpPr>
          <a:xfrm>
            <a:off x="3561840" y="2986200"/>
            <a:ext cx="662400" cy="252000"/>
            <a:chOff x="3561840" y="2986200"/>
            <a:chExt cx="662400" cy="252000"/>
          </a:xfrm>
        </p:grpSpPr>
        <p:sp>
          <p:nvSpPr>
            <p:cNvPr id="173" name=""/>
            <p:cNvSpPr/>
            <p:nvPr/>
          </p:nvSpPr>
          <p:spPr>
            <a:xfrm>
              <a:off x="3614760" y="2986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61840" y="30528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34480" y="2847960"/>
            <a:ext cx="661320" cy="252360"/>
            <a:chOff x="3534480" y="2847960"/>
            <a:chExt cx="661320" cy="252360"/>
          </a:xfrm>
        </p:grpSpPr>
        <p:sp>
          <p:nvSpPr>
            <p:cNvPr id="176" name=""/>
            <p:cNvSpPr/>
            <p:nvPr/>
          </p:nvSpPr>
          <p:spPr>
            <a:xfrm>
              <a:off x="3586320" y="2847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4480" y="29149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56080" y="2620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59440" y="2484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5" idx="2"/>
            <a:endCxn id="134" idx="0"/>
          </p:cNvCxnSpPr>
          <p:nvPr/>
        </p:nvCxnSpPr>
        <p:spPr>
          <a:xfrm flipH="1" flipV="1" rot="5400000">
            <a:off x="1964160" y="2345040"/>
            <a:ext cx="595440" cy="1121760"/>
          </a:xfrm>
          <a:prstGeom prst="bentConnector5">
            <a:avLst>
              <a:gd name="adj1" fmla="val -38112"/>
              <a:gd name="adj2" fmla="val 50786"/>
              <a:gd name="adj3" fmla="val 13895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111" idx="2"/>
            <a:endCxn id="178" idx="0"/>
          </p:cNvCxnSpPr>
          <p:nvPr/>
        </p:nvCxnSpPr>
        <p:spPr>
          <a:xfrm flipH="1" flipV="1" rot="5400000">
            <a:off x="3021480" y="2437200"/>
            <a:ext cx="655920" cy="1023120"/>
          </a:xfrm>
          <a:prstGeom prst="bentConnector5">
            <a:avLst>
              <a:gd name="adj1" fmla="val -34596"/>
              <a:gd name="adj2" fmla="val 152411"/>
              <a:gd name="adj3" fmla="val 135365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74" idx="2"/>
            <a:endCxn id="139" idx="0"/>
          </p:cNvCxnSpPr>
          <p:nvPr/>
        </p:nvCxnSpPr>
        <p:spPr>
          <a:xfrm flipH="1" flipV="1" rot="5400000">
            <a:off x="4118760" y="2394360"/>
            <a:ext cx="614520" cy="1073880"/>
          </a:xfrm>
          <a:prstGeom prst="bentConnector5">
            <a:avLst>
              <a:gd name="adj1" fmla="val -36928"/>
              <a:gd name="adj2" fmla="val -51643"/>
              <a:gd name="adj3" fmla="val 13774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83" name=""/>
          <p:cNvGrpSpPr/>
          <p:nvPr/>
        </p:nvGrpSpPr>
        <p:grpSpPr>
          <a:xfrm>
            <a:off x="3695760" y="4724280"/>
            <a:ext cx="661680" cy="252360"/>
            <a:chOff x="3695760" y="4724280"/>
            <a:chExt cx="661680" cy="252360"/>
          </a:xfrm>
        </p:grpSpPr>
        <p:sp>
          <p:nvSpPr>
            <p:cNvPr id="184" name=""/>
            <p:cNvSpPr/>
            <p:nvPr/>
          </p:nvSpPr>
          <p:spPr>
            <a:xfrm>
              <a:off x="3747960" y="4724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95760" y="479124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76680" y="4591080"/>
            <a:ext cx="662040" cy="252360"/>
            <a:chOff x="3676680" y="4591080"/>
            <a:chExt cx="662040" cy="252360"/>
          </a:xfrm>
        </p:grpSpPr>
        <p:sp>
          <p:nvSpPr>
            <p:cNvPr id="187" name=""/>
            <p:cNvSpPr/>
            <p:nvPr/>
          </p:nvSpPr>
          <p:spPr>
            <a:xfrm>
              <a:off x="3729240" y="4591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76680" y="46580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656160" y="43768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del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2560" y="4221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638800" y="4705200"/>
            <a:ext cx="661680" cy="252360"/>
            <a:chOff x="2638800" y="4705200"/>
            <a:chExt cx="661680" cy="252360"/>
          </a:xfrm>
        </p:grpSpPr>
        <p:sp>
          <p:nvSpPr>
            <p:cNvPr id="192" name=""/>
            <p:cNvSpPr/>
            <p:nvPr/>
          </p:nvSpPr>
          <p:spPr>
            <a:xfrm>
              <a:off x="2691000" y="4705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8800" y="477216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619360" y="4572000"/>
            <a:ext cx="662040" cy="252360"/>
            <a:chOff x="2619360" y="4572000"/>
            <a:chExt cx="662040" cy="252360"/>
          </a:xfrm>
        </p:grpSpPr>
        <p:sp>
          <p:nvSpPr>
            <p:cNvPr id="195" name=""/>
            <p:cNvSpPr/>
            <p:nvPr/>
          </p:nvSpPr>
          <p:spPr>
            <a:xfrm>
              <a:off x="2671920" y="4572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19360" y="46389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98840" y="43578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rubr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97440" y="41259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84" idx="2"/>
            <a:endCxn id="197" idx="0"/>
          </p:cNvCxnSpPr>
          <p:nvPr/>
        </p:nvCxnSpPr>
        <p:spPr>
          <a:xfrm flipV="1" rot="16200000">
            <a:off x="3190320" y="4097880"/>
            <a:ext cx="603000" cy="1122480"/>
          </a:xfrm>
          <a:prstGeom prst="bentConnector5">
            <a:avLst>
              <a:gd name="adj1" fmla="val -40919"/>
              <a:gd name="adj2" fmla="val 48829"/>
              <a:gd name="adj3" fmla="val 13847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0" name=""/>
          <p:cNvCxnSpPr>
            <a:stCxn id="154" idx="2"/>
            <a:endCxn id="189" idx="0"/>
          </p:cNvCxnSpPr>
          <p:nvPr/>
        </p:nvCxnSpPr>
        <p:spPr>
          <a:xfrm flipV="1" rot="16200000">
            <a:off x="3922200" y="4442400"/>
            <a:ext cx="1269720" cy="1138320"/>
          </a:xfrm>
          <a:prstGeom prst="bentConnector5">
            <a:avLst>
              <a:gd name="adj1" fmla="val -19427"/>
              <a:gd name="adj2" fmla="val 48845"/>
              <a:gd name="adj3" fmla="val 11826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1" name=""/>
          <p:cNvCxnSpPr>
            <a:stCxn id="192" idx="2"/>
            <a:endCxn id="202" idx="0"/>
          </p:cNvCxnSpPr>
          <p:nvPr/>
        </p:nvCxnSpPr>
        <p:spPr>
          <a:xfrm flipV="1" rot="16200000">
            <a:off x="2011320" y="3956400"/>
            <a:ext cx="653760" cy="1316520"/>
          </a:xfrm>
          <a:prstGeom prst="bentConnector5">
            <a:avLst>
              <a:gd name="adj1" fmla="val -37741"/>
              <a:gd name="adj2" fmla="val 48987"/>
              <a:gd name="adj3" fmla="val 13548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3" name=""/>
          <p:cNvSpPr/>
          <p:nvPr/>
        </p:nvSpPr>
        <p:spPr>
          <a:xfrm>
            <a:off x="1887840" y="40305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387800" y="4635360"/>
            <a:ext cx="661680" cy="252360"/>
            <a:chOff x="1387800" y="4635360"/>
            <a:chExt cx="661680" cy="252360"/>
          </a:xfrm>
        </p:grpSpPr>
        <p:sp>
          <p:nvSpPr>
            <p:cNvPr id="205" name=""/>
            <p:cNvSpPr/>
            <p:nvPr/>
          </p:nvSpPr>
          <p:spPr>
            <a:xfrm>
              <a:off x="1440000" y="4635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87800" y="470232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368360" y="4502160"/>
            <a:ext cx="662040" cy="252360"/>
            <a:chOff x="1368360" y="4502160"/>
            <a:chExt cx="662040" cy="252360"/>
          </a:xfrm>
        </p:grpSpPr>
        <p:sp>
          <p:nvSpPr>
            <p:cNvPr id="208" name=""/>
            <p:cNvSpPr/>
            <p:nvPr/>
          </p:nvSpPr>
          <p:spPr>
            <a:xfrm>
              <a:off x="1420920" y="4502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68360" y="45691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47840" y="42879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fir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56000" y="5661000"/>
            <a:ext cx="661680" cy="252360"/>
            <a:chOff x="2556000" y="5661000"/>
            <a:chExt cx="661680" cy="252360"/>
          </a:xfrm>
        </p:grpSpPr>
        <p:sp>
          <p:nvSpPr>
            <p:cNvPr id="211" name=""/>
            <p:cNvSpPr/>
            <p:nvPr/>
          </p:nvSpPr>
          <p:spPr>
            <a:xfrm>
              <a:off x="2608200" y="5661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6000" y="572796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36560" y="5527800"/>
            <a:ext cx="662040" cy="252000"/>
            <a:chOff x="2536560" y="5527800"/>
            <a:chExt cx="662040" cy="252000"/>
          </a:xfrm>
        </p:grpSpPr>
        <p:sp>
          <p:nvSpPr>
            <p:cNvPr id="214" name=""/>
            <p:cNvSpPr/>
            <p:nvPr/>
          </p:nvSpPr>
          <p:spPr>
            <a:xfrm>
              <a:off x="2589120" y="55278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36560" y="55944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516040" y="531324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60800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7160" y="62262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65480" y="62485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3"/>
            <a:endCxn id="219" idx="2"/>
          </p:cNvCxnSpPr>
          <p:nvPr/>
        </p:nvCxnSpPr>
        <p:spPr>
          <a:xfrm flipV="1">
            <a:off x="3078000" y="6318360"/>
            <a:ext cx="87840" cy="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973960" y="61596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65280" y="673272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 a DGP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7" idx="2"/>
            <a:endCxn id="222" idx="0"/>
          </p:cNvCxnSpPr>
          <p:nvPr/>
        </p:nvCxnSpPr>
        <p:spPr>
          <a:xfrm>
            <a:off x="2796480" y="6568920"/>
            <a:ext cx="1080" cy="16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4" name=""/>
          <p:cNvSpPr/>
          <p:nvPr/>
        </p:nvSpPr>
        <p:spPr>
          <a:xfrm>
            <a:off x="2598480" y="65437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72453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2" idx="2"/>
            <a:endCxn id="225" idx="0"/>
          </p:cNvCxnSpPr>
          <p:nvPr/>
        </p:nvCxnSpPr>
        <p:spPr>
          <a:xfrm>
            <a:off x="2797200" y="7037280"/>
            <a:ext cx="5400" cy="208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7" name=""/>
          <p:cNvSpPr/>
          <p:nvPr/>
        </p:nvSpPr>
        <p:spPr>
          <a:xfrm>
            <a:off x="3059280" y="51354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2" idx="2"/>
            <a:endCxn id="217" idx="0"/>
          </p:cNvCxnSpPr>
          <p:nvPr/>
        </p:nvCxnSpPr>
        <p:spPr>
          <a:xfrm flipH="1" rot="16200000">
            <a:off x="2706480" y="5989680"/>
            <a:ext cx="167040" cy="14040"/>
          </a:xfrm>
          <a:prstGeom prst="bentConnector3">
            <a:avLst>
              <a:gd name="adj1" fmla="val 4816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29" name=""/>
          <p:cNvCxnSpPr>
            <a:stCxn id="205" idx="2"/>
            <a:endCxn id="216" idx="0"/>
          </p:cNvCxnSpPr>
          <p:nvPr/>
        </p:nvCxnSpPr>
        <p:spPr>
          <a:xfrm flipH="1" rot="16200000">
            <a:off x="2075760" y="4540680"/>
            <a:ext cx="442080" cy="1103400"/>
          </a:xfrm>
          <a:prstGeom prst="bentConnector5">
            <a:avLst>
              <a:gd name="adj1" fmla="val 55827"/>
              <a:gd name="adj2" fmla="val 48759"/>
              <a:gd name="adj3" fmla="val 4751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4732200" y="358308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información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5060520" y="4908600"/>
            <a:ext cx="1080" cy="16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09T17:28:43Z</dcterms:modified>
  <cp:revision>44</cp:revision>
  <dc:subject/>
  <dc:title>Presentación de PowerPoint</dc:title>
</cp:coreProperties>
</file>