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1704960"/>
            <a:ext cx="6340320" cy="5815080"/>
            <a:chOff x="304920" y="1704960"/>
            <a:chExt cx="6340320" cy="5815080"/>
          </a:xfrm>
        </p:grpSpPr>
        <p:sp>
          <p:nvSpPr>
            <p:cNvPr id="1" name=""/>
            <p:cNvSpPr/>
            <p:nvPr/>
          </p:nvSpPr>
          <p:spPr>
            <a:xfrm>
              <a:off x="5634000" y="2252520"/>
              <a:ext cx="10112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435560" y="2252520"/>
              <a:ext cx="11984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94200" y="2252520"/>
              <a:ext cx="134136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727280" y="2252520"/>
              <a:ext cx="13669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04920" y="2252520"/>
              <a:ext cx="142236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634000" y="1704960"/>
              <a:ext cx="10112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rganizaciones de médicos tradicion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435560" y="1704960"/>
              <a:ext cx="11984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dirección de Sistemas Complementarios de Atención a la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094200" y="1704960"/>
              <a:ext cx="13413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Medicina Tradicional y Desarrollo Intercultura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27280" y="1704960"/>
              <a:ext cx="136692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Adjunta de Implantación de Sistemas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1704960"/>
              <a:ext cx="14223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de Planeación y Desarrollo en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04920" y="2252520"/>
              <a:ext cx="634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04920" y="7520040"/>
              <a:ext cx="6340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04920" y="170496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727280" y="17049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94200" y="17049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435560" y="17049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634000" y="170496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645240" y="170496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727280" y="1704960"/>
              <a:ext cx="270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04920" y="1704960"/>
              <a:ext cx="1422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435560" y="1704960"/>
              <a:ext cx="22096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" name=""/>
          <p:cNvGrpSpPr/>
          <p:nvPr/>
        </p:nvGrpSpPr>
        <p:grpSpPr>
          <a:xfrm>
            <a:off x="304920" y="228600"/>
            <a:ext cx="6324480" cy="1003320"/>
            <a:chOff x="304920" y="228600"/>
            <a:chExt cx="6324480" cy="1003320"/>
          </a:xfrm>
        </p:grpSpPr>
        <p:sp>
          <p:nvSpPr>
            <p:cNvPr id="23" name=""/>
            <p:cNvSpPr/>
            <p:nvPr/>
          </p:nvSpPr>
          <p:spPr>
            <a:xfrm>
              <a:off x="5638680" y="716040"/>
              <a:ext cx="99072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Hoja: 47 de 6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428840" y="716040"/>
              <a:ext cx="420984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Para la Promoción de Procesos de Fortalecimiento y Desarrollo de la Medicina Tradicio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5638680" y="45576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28840" y="45576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ción de Medicina Tradicional y Desarrollo Intercultural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638680" y="228600"/>
              <a:ext cx="990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28840" y="228600"/>
              <a:ext cx="4209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04920" y="228600"/>
              <a:ext cx="112392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304920" y="12319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04920" y="228600"/>
              <a:ext cx="0" cy="1003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428840" y="228600"/>
              <a:ext cx="0" cy="10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638680" y="228600"/>
              <a:ext cx="0" cy="10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629400" y="228600"/>
              <a:ext cx="0" cy="1003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39" name=""/>
          <p:cNvGrpSpPr/>
          <p:nvPr/>
        </p:nvGrpSpPr>
        <p:grpSpPr>
          <a:xfrm>
            <a:off x="304920" y="7848720"/>
            <a:ext cx="6324480" cy="1201680"/>
            <a:chOff x="304920" y="7848720"/>
            <a:chExt cx="6324480" cy="1201680"/>
          </a:xfrm>
        </p:grpSpPr>
        <p:sp>
          <p:nvSpPr>
            <p:cNvPr id="40" name=""/>
            <p:cNvSpPr/>
            <p:nvPr/>
          </p:nvSpPr>
          <p:spPr>
            <a:xfrm>
              <a:off x="4800600" y="807732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895480" y="807732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914400" y="807732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4920" y="807732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800600" y="883764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4 DE AGOSTO 2005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95480" y="883764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4 DE AGOSTO 2005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14400" y="883764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4 DE AGOSTO 2005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883764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00600" y="862488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95480" y="862488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14400" y="862488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862488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00600" y="8290080"/>
              <a:ext cx="18288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R. JOSE ALEJANDRO ALMAGUER GONZÁLEZ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95480" y="8290080"/>
              <a:ext cx="19051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DR. HERNÁN JOSÉ GARCÍA RAMÍRE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14400" y="8290080"/>
              <a:ext cx="19810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OEMÍ LUGO MALDONAD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8290080"/>
              <a:ext cx="6094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7848720"/>
              <a:ext cx="632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8290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86248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883764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90504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7848720"/>
              <a:ext cx="0" cy="1201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29400" y="7848720"/>
              <a:ext cx="0" cy="1201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8077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8077320"/>
              <a:ext cx="0" cy="9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95480" y="8077320"/>
              <a:ext cx="0" cy="9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00600" y="8077320"/>
              <a:ext cx="0" cy="9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3478320" y="6140520"/>
            <a:ext cx="772920" cy="403200"/>
            <a:chOff x="3478320" y="6140520"/>
            <a:chExt cx="772920" cy="403200"/>
          </a:xfrm>
        </p:grpSpPr>
        <p:sp>
          <p:nvSpPr>
            <p:cNvPr id="105" name=""/>
            <p:cNvSpPr/>
            <p:nvPr/>
          </p:nvSpPr>
          <p:spPr>
            <a:xfrm>
              <a:off x="3478320" y="6281640"/>
              <a:ext cx="536400" cy="262080"/>
            </a:xfrm>
            <a:prstGeom prst="flowChartDocumen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78320" y="6140520"/>
              <a:ext cx="536400" cy="261720"/>
            </a:xfrm>
            <a:prstGeom prst="flowChartDocumen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72000" y="6210360"/>
              <a:ext cx="5792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46440" y="6350040"/>
              <a:ext cx="5223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</a:rPr>
                <a:t>Inform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726000" y="5630760"/>
            <a:ext cx="792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22760" y="6494400"/>
            <a:ext cx="0" cy="43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84720" y="3289320"/>
            <a:ext cx="1800" cy="32076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933800" y="3135240"/>
            <a:ext cx="584280" cy="303120"/>
            <a:chOff x="4933800" y="3135240"/>
            <a:chExt cx="584280" cy="303120"/>
          </a:xfrm>
        </p:grpSpPr>
        <p:sp>
          <p:nvSpPr>
            <p:cNvPr id="113" name=""/>
            <p:cNvSpPr/>
            <p:nvPr/>
          </p:nvSpPr>
          <p:spPr>
            <a:xfrm>
              <a:off x="4948920" y="3135240"/>
              <a:ext cx="522720" cy="303120"/>
            </a:xfrm>
            <a:prstGeom prst="flowChartDocumen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33800" y="3256200"/>
              <a:ext cx="5842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846600" y="4889520"/>
            <a:ext cx="792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354480" y="4659480"/>
            <a:ext cx="651960" cy="333360"/>
            <a:chOff x="3354480" y="4659480"/>
            <a:chExt cx="651960" cy="333360"/>
          </a:xfrm>
        </p:grpSpPr>
        <p:sp>
          <p:nvSpPr>
            <p:cNvPr id="117" name=""/>
            <p:cNvSpPr/>
            <p:nvPr/>
          </p:nvSpPr>
          <p:spPr>
            <a:xfrm>
              <a:off x="3371400" y="4659480"/>
              <a:ext cx="583560" cy="333360"/>
            </a:xfrm>
            <a:prstGeom prst="flowChartDocumen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54480" y="4792680"/>
              <a:ext cx="6519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0240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1760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6680" y="2438280"/>
            <a:ext cx="663480" cy="1526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76320" y="26002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43000" y="25606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18240" y="3432240"/>
            <a:ext cx="226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05360" y="26226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11360" y="6948360"/>
            <a:ext cx="663840" cy="1526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ermin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1" idx="2"/>
          </p:cNvCxnSpPr>
          <p:nvPr/>
        </p:nvCxnSpPr>
        <p:spPr>
          <a:xfrm>
            <a:off x="767880" y="2590560"/>
            <a:ext cx="2520" cy="153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sm" type="triangle" w="med"/>
          </a:ln>
        </p:spPr>
      </p:cxnSp>
      <p:cxnSp>
        <p:nvCxnSpPr>
          <p:cNvPr id="128" name=""/>
          <p:cNvCxnSpPr/>
          <p:nvPr/>
        </p:nvCxnSpPr>
        <p:spPr>
          <a:xfrm flipH="1" flipV="1" rot="5400000">
            <a:off x="1354680" y="2166120"/>
            <a:ext cx="383400" cy="1554840"/>
          </a:xfrm>
          <a:prstGeom prst="bentConnector5">
            <a:avLst>
              <a:gd name="adj1" fmla="val -59680"/>
              <a:gd name="adj2" fmla="val 50046"/>
              <a:gd name="adj3" fmla="val 159680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/>
          <p:nvPr/>
        </p:nvCxnSpPr>
        <p:spPr>
          <a:xfrm flipH="1" flipV="1" rot="5400000">
            <a:off x="2820600" y="2383200"/>
            <a:ext cx="264240" cy="1259640"/>
          </a:xfrm>
          <a:prstGeom prst="bentConnector5">
            <a:avLst>
              <a:gd name="adj1" fmla="val -86630"/>
              <a:gd name="adj2" fmla="val 50057"/>
              <a:gd name="adj3" fmla="val 186630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/>
          <p:nvPr/>
        </p:nvCxnSpPr>
        <p:spPr>
          <a:xfrm flipH="1" flipV="1" rot="5400000">
            <a:off x="4232880" y="2322360"/>
            <a:ext cx="300600" cy="1602360"/>
          </a:xfrm>
          <a:prstGeom prst="bentConnector5">
            <a:avLst>
              <a:gd name="adj1" fmla="val -76258"/>
              <a:gd name="adj2" fmla="val 44494"/>
              <a:gd name="adj3" fmla="val 176378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31" name=""/>
          <p:cNvGrpSpPr/>
          <p:nvPr/>
        </p:nvGrpSpPr>
        <p:grpSpPr>
          <a:xfrm>
            <a:off x="4781520" y="4840200"/>
            <a:ext cx="651960" cy="333360"/>
            <a:chOff x="4781520" y="4840200"/>
            <a:chExt cx="651960" cy="333360"/>
          </a:xfrm>
        </p:grpSpPr>
        <p:sp>
          <p:nvSpPr>
            <p:cNvPr id="132" name=""/>
            <p:cNvSpPr/>
            <p:nvPr/>
          </p:nvSpPr>
          <p:spPr>
            <a:xfrm>
              <a:off x="4798440" y="4840200"/>
              <a:ext cx="583560" cy="333360"/>
            </a:xfrm>
            <a:prstGeom prst="flowChartDocumen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81520" y="4973400"/>
              <a:ext cx="6519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86240" y="5324400"/>
            <a:ext cx="569880" cy="363240"/>
            <a:chOff x="3486240" y="5324400"/>
            <a:chExt cx="569880" cy="363240"/>
          </a:xfrm>
        </p:grpSpPr>
        <p:sp>
          <p:nvSpPr>
            <p:cNvPr id="135" name=""/>
            <p:cNvSpPr/>
            <p:nvPr/>
          </p:nvSpPr>
          <p:spPr>
            <a:xfrm>
              <a:off x="3501000" y="5324400"/>
              <a:ext cx="509760" cy="363240"/>
            </a:xfrm>
            <a:prstGeom prst="flowChartDocumen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86240" y="5469480"/>
              <a:ext cx="5698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348000" y="5084640"/>
            <a:ext cx="666720" cy="392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Coord. c/orgs.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de terapeuta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tradicionales.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960800" y="3871800"/>
            <a:ext cx="584280" cy="303480"/>
            <a:chOff x="4960800" y="3871800"/>
            <a:chExt cx="584280" cy="303480"/>
          </a:xfrm>
        </p:grpSpPr>
        <p:sp>
          <p:nvSpPr>
            <p:cNvPr id="139" name=""/>
            <p:cNvSpPr/>
            <p:nvPr/>
          </p:nvSpPr>
          <p:spPr>
            <a:xfrm>
              <a:off x="4975920" y="3871800"/>
              <a:ext cx="522720" cy="303480"/>
            </a:xfrm>
            <a:prstGeom prst="flowChartDocumen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60800" y="3992760"/>
              <a:ext cx="5842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4753080" y="4606920"/>
            <a:ext cx="666720" cy="3920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Arial"/>
              </a:rPr>
              <a:t>Diagnóstico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Arial"/>
              </a:rPr>
              <a:t>organizacional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10080" y="5927760"/>
            <a:ext cx="600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for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32" idx="2"/>
            <a:endCxn id="144" idx="0"/>
          </p:cNvCxnSpPr>
          <p:nvPr/>
        </p:nvCxnSpPr>
        <p:spPr>
          <a:xfrm flipV="1" rot="16200000">
            <a:off x="4000680" y="4064040"/>
            <a:ext cx="710280" cy="1470240"/>
          </a:xfrm>
          <a:prstGeom prst="bentConnector5">
            <a:avLst>
              <a:gd name="adj1" fmla="val -34888"/>
              <a:gd name="adj2" fmla="val 36492"/>
              <a:gd name="adj3" fmla="val 132200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4857840" y="3598920"/>
            <a:ext cx="666720" cy="3920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Emisión de propuest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P/ el des. y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Fortalec. de la MT.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49880" y="2673360"/>
            <a:ext cx="31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57720" y="5819760"/>
            <a:ext cx="666720" cy="3920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ción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de Informe final.</a:t>
            </a: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87880" y="4444920"/>
            <a:ext cx="666720" cy="3920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Valid. y enriq.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con organs. de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Terap. Trad.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37200" y="4362480"/>
            <a:ext cx="226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4172040"/>
            <a:ext cx="226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24440" y="4886280"/>
            <a:ext cx="226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32520" y="4168800"/>
            <a:ext cx="0" cy="43344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16000" y="275904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ción de mod.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De Fortalecimient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de M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24160" y="3060720"/>
            <a:ext cx="0" cy="119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95800" y="287964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r procesos dis.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e implantación del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mod. de fort. de la M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79840" y="3192480"/>
            <a:ext cx="0" cy="142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9520" y="274968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ción elabor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de mod. de fortal.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de la Med.Tradic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0040" y="3051000"/>
            <a:ext cx="0" cy="136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65760" y="298944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Diagnóstico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de la MT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76640" y="5749920"/>
            <a:ext cx="227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Noemi Lugo Maldonado</cp:lastModifiedBy>
  <dcterms:modified xsi:type="dcterms:W3CDTF">2005-08-08T16:15:11Z</dcterms:modified>
  <cp:revision>63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55243706</vt:r8>
  </property>
  <property fmtid="{D5CDD505-2E9C-101B-9397-08002B2CF9AE}" pid="3" name="_AuthorEmail">
    <vt:lpwstr>HERNANG@DGPEC-S01.SSA.com</vt:lpwstr>
  </property>
  <property fmtid="{D5CDD505-2E9C-101B-9397-08002B2CF9AE}" pid="4" name="_AuthorEmailDisplayName">
    <vt:lpwstr>HERNAN JOSE GARCIA RAMIREZ</vt:lpwstr>
  </property>
  <property fmtid="{D5CDD505-2E9C-101B-9397-08002B2CF9AE}" pid="5" name="_EmailSubject">
    <vt:lpwstr>Manuales de procedimientos de Medicina Tradicional y Sistmas Complementarios</vt:lpwstr>
  </property>
</Properties>
</file>