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1709640"/>
            <a:ext cx="5271840" cy="5929560"/>
            <a:chOff x="304920" y="1709640"/>
            <a:chExt cx="5271840" cy="5929560"/>
          </a:xfrm>
        </p:grpSpPr>
        <p:sp>
          <p:nvSpPr>
            <p:cNvPr id="1" name=""/>
            <p:cNvSpPr/>
            <p:nvPr/>
          </p:nvSpPr>
          <p:spPr>
            <a:xfrm>
              <a:off x="4521240" y="2371680"/>
              <a:ext cx="105552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468600" y="2371680"/>
              <a:ext cx="105264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413080" y="2371680"/>
              <a:ext cx="105552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360440" y="2371680"/>
              <a:ext cx="105264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04920" y="2371680"/>
              <a:ext cx="105552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521240" y="1709640"/>
              <a:ext cx="1055520" cy="6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esponsables de Planeación en las entidades Federativas y/o mandos medios de la DGPlaDeS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468600" y="1709640"/>
              <a:ext cx="1052640" cy="6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ubdirección de Desarrollo Gerencia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413080" y="1709640"/>
              <a:ext cx="1055520" cy="6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Desarrollo y Sustentabilidad de Servicios de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60440" y="1709640"/>
              <a:ext cx="1052640" cy="6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Adjunta de Implantación de Servicios de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1709640"/>
              <a:ext cx="1055520" cy="6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de Planeación y Desarrollo en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04920" y="2371680"/>
              <a:ext cx="527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04920" y="7639200"/>
              <a:ext cx="5271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04920" y="1709640"/>
              <a:ext cx="0" cy="5929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60440" y="1709640"/>
              <a:ext cx="0" cy="592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413080" y="1709640"/>
              <a:ext cx="0" cy="592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468600" y="1709640"/>
              <a:ext cx="0" cy="592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521240" y="1709640"/>
              <a:ext cx="0" cy="592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576760" y="1709640"/>
              <a:ext cx="0" cy="5929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60440" y="1709640"/>
              <a:ext cx="210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04920" y="1709640"/>
              <a:ext cx="1055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468600" y="1709640"/>
              <a:ext cx="21081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" name=""/>
          <p:cNvGrpSpPr/>
          <p:nvPr/>
        </p:nvGrpSpPr>
        <p:grpSpPr>
          <a:xfrm>
            <a:off x="304920" y="228600"/>
            <a:ext cx="6324480" cy="914400"/>
            <a:chOff x="304920" y="228600"/>
            <a:chExt cx="6324480" cy="914400"/>
          </a:xfrm>
        </p:grpSpPr>
        <p:sp>
          <p:nvSpPr>
            <p:cNvPr id="23" name=""/>
            <p:cNvSpPr/>
            <p:nvPr/>
          </p:nvSpPr>
          <p:spPr>
            <a:xfrm>
              <a:off x="5638680" y="716040"/>
              <a:ext cx="99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Hoja:11 de 80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428840" y="716040"/>
              <a:ext cx="4209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Difusión de eventos o documentos relacionados  con Desarrollo Gerenci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5638680" y="455760"/>
              <a:ext cx="990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28840" y="455760"/>
              <a:ext cx="4209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ción de Desarrollo y Sustentabilidad de Servicios de Salu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5638680" y="228600"/>
              <a:ext cx="9907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28840" y="228600"/>
              <a:ext cx="4209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04920" y="228600"/>
              <a:ext cx="1123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304920" y="11430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0492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42884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63868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662940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28840" y="45576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428840" y="716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39" name=""/>
          <p:cNvGrpSpPr/>
          <p:nvPr/>
        </p:nvGrpSpPr>
        <p:grpSpPr>
          <a:xfrm>
            <a:off x="304920" y="7848720"/>
            <a:ext cx="6324480" cy="1095120"/>
            <a:chOff x="304920" y="7848720"/>
            <a:chExt cx="6324480" cy="1095120"/>
          </a:xfrm>
        </p:grpSpPr>
        <p:sp>
          <p:nvSpPr>
            <p:cNvPr id="40" name=""/>
            <p:cNvSpPr/>
            <p:nvPr/>
          </p:nvSpPr>
          <p:spPr>
            <a:xfrm>
              <a:off x="4800600" y="807696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895480" y="807696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914400" y="807696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4920" y="807696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800600" y="873108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28 de julio de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95480" y="873108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28 de julio de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14400" y="873108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28 de julio de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20" y="873108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00600" y="851832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95480" y="851832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14400" y="851832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851832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800600" y="8289720"/>
              <a:ext cx="18288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ucero Rodríguez Cabre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95480" y="8289720"/>
              <a:ext cx="19051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driana Stanford Camarg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14400" y="8289720"/>
              <a:ext cx="1981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lipe de Jesús Vargas Garcí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8289720"/>
              <a:ext cx="609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920" y="7848720"/>
              <a:ext cx="6324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82897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8518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920" y="8731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89438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2940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807696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9548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8006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Base" hidden="1"/>
          <p:cNvSpPr/>
          <p:nvPr/>
        </p:nvSpPr>
        <p:spPr>
          <a:xfrm>
            <a:off x="1143000" y="3048120"/>
            <a:ext cx="4572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3664080" y="5102280"/>
            <a:ext cx="661680" cy="252360"/>
            <a:chOff x="3664080" y="5102280"/>
            <a:chExt cx="661680" cy="252360"/>
          </a:xfrm>
        </p:grpSpPr>
        <p:sp>
          <p:nvSpPr>
            <p:cNvPr id="106" name=""/>
            <p:cNvSpPr/>
            <p:nvPr/>
          </p:nvSpPr>
          <p:spPr>
            <a:xfrm>
              <a:off x="3716280" y="51022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64080" y="516924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629240" y="4216320"/>
            <a:ext cx="661680" cy="252360"/>
            <a:chOff x="4629240" y="4216320"/>
            <a:chExt cx="661680" cy="252360"/>
          </a:xfrm>
        </p:grpSpPr>
        <p:sp>
          <p:nvSpPr>
            <p:cNvPr id="109" name=""/>
            <p:cNvSpPr/>
            <p:nvPr/>
          </p:nvSpPr>
          <p:spPr>
            <a:xfrm>
              <a:off x="4681440" y="421632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629240" y="428328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619800" y="3898800"/>
            <a:ext cx="661680" cy="252360"/>
            <a:chOff x="3619800" y="3898800"/>
            <a:chExt cx="661680" cy="252360"/>
          </a:xfrm>
        </p:grpSpPr>
        <p:sp>
          <p:nvSpPr>
            <p:cNvPr id="112" name=""/>
            <p:cNvSpPr/>
            <p:nvPr/>
          </p:nvSpPr>
          <p:spPr>
            <a:xfrm>
              <a:off x="3672000" y="38988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619800" y="396576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501840" y="2971800"/>
            <a:ext cx="661680" cy="252360"/>
            <a:chOff x="501840" y="2971800"/>
            <a:chExt cx="661680" cy="252360"/>
          </a:xfrm>
        </p:grpSpPr>
        <p:sp>
          <p:nvSpPr>
            <p:cNvPr id="115" name=""/>
            <p:cNvSpPr/>
            <p:nvPr/>
          </p:nvSpPr>
          <p:spPr>
            <a:xfrm>
              <a:off x="554040" y="29718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1840" y="303876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534040" y="3645000"/>
            <a:ext cx="661680" cy="252000"/>
            <a:chOff x="2534040" y="3645000"/>
            <a:chExt cx="661680" cy="252000"/>
          </a:xfrm>
        </p:grpSpPr>
        <p:sp>
          <p:nvSpPr>
            <p:cNvPr id="118" name=""/>
            <p:cNvSpPr/>
            <p:nvPr/>
          </p:nvSpPr>
          <p:spPr>
            <a:xfrm>
              <a:off x="2586240" y="364500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34040" y="371160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492560" y="3219480"/>
            <a:ext cx="661680" cy="252360"/>
            <a:chOff x="1492560" y="3219480"/>
            <a:chExt cx="661680" cy="252360"/>
          </a:xfrm>
        </p:grpSpPr>
        <p:sp>
          <p:nvSpPr>
            <p:cNvPr id="121" name=""/>
            <p:cNvSpPr/>
            <p:nvPr/>
          </p:nvSpPr>
          <p:spPr>
            <a:xfrm>
              <a:off x="1544760" y="32194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92560" y="328644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30240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17604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07960" y="2438280"/>
            <a:ext cx="663480" cy="1526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23840" y="25844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5" idx="2"/>
          </p:cNvCxnSpPr>
          <p:nvPr/>
        </p:nvCxnSpPr>
        <p:spPr>
          <a:xfrm flipH="1">
            <a:off x="837360" y="2590920"/>
            <a:ext cx="2880" cy="1526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8" name=""/>
          <p:cNvSpPr/>
          <p:nvPr/>
        </p:nvSpPr>
        <p:spPr>
          <a:xfrm>
            <a:off x="1998720" y="28130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5600" y="3576600"/>
            <a:ext cx="331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6320" y="32749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8040" y="4708440"/>
            <a:ext cx="331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60880" y="3824280"/>
            <a:ext cx="331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03640" y="5386320"/>
            <a:ext cx="331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76680" y="6029280"/>
            <a:ext cx="66348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9360" y="273060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nvío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formación par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u conocimien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endCxn id="137" idx="0"/>
          </p:cNvCxnSpPr>
          <p:nvPr/>
        </p:nvCxnSpPr>
        <p:spPr>
          <a:xfrm flipH="1" flipV="1" rot="5400000">
            <a:off x="1190880" y="2568600"/>
            <a:ext cx="244440" cy="1063800"/>
          </a:xfrm>
          <a:prstGeom prst="bentConnector3">
            <a:avLst>
              <a:gd name="adj1" fmla="val 194985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7" name=""/>
          <p:cNvSpPr/>
          <p:nvPr/>
        </p:nvSpPr>
        <p:spPr>
          <a:xfrm>
            <a:off x="1539720" y="2978280"/>
            <a:ext cx="60984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nvío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formación par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u conocimien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87680" y="343548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nvío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formación par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u difus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21" idx="2"/>
            <a:endCxn id="138" idx="0"/>
          </p:cNvCxnSpPr>
          <p:nvPr/>
        </p:nvCxnSpPr>
        <p:spPr>
          <a:xfrm flipH="1" flipV="1" rot="5400000">
            <a:off x="2360880" y="2924280"/>
            <a:ext cx="20520" cy="1043280"/>
          </a:xfrm>
          <a:prstGeom prst="bentConnector5">
            <a:avLst>
              <a:gd name="adj1" fmla="val -2560714"/>
              <a:gd name="adj2" fmla="val 151397"/>
              <a:gd name="adj3" fmla="val 1248214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40" name=""/>
          <p:cNvSpPr/>
          <p:nvPr/>
        </p:nvSpPr>
        <p:spPr>
          <a:xfrm>
            <a:off x="3666960" y="370836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epción  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nvío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form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18" idx="2"/>
            <a:endCxn id="140" idx="0"/>
          </p:cNvCxnSpPr>
          <p:nvPr/>
        </p:nvCxnSpPr>
        <p:spPr>
          <a:xfrm flipH="1" flipV="1" rot="5400000">
            <a:off x="3345120" y="3254040"/>
            <a:ext cx="172800" cy="1081080"/>
          </a:xfrm>
          <a:prstGeom prst="bentConnector5">
            <a:avLst>
              <a:gd name="adj1" fmla="val -143006"/>
              <a:gd name="adj2" fmla="val 50000"/>
              <a:gd name="adj3" fmla="val 234446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42" name=""/>
          <p:cNvCxnSpPr/>
          <p:nvPr/>
        </p:nvCxnSpPr>
        <p:spPr>
          <a:xfrm flipH="1" flipV="1" rot="5400000">
            <a:off x="4372560" y="3533040"/>
            <a:ext cx="173880" cy="1081800"/>
          </a:xfrm>
          <a:prstGeom prst="bentConnector5">
            <a:avLst>
              <a:gd name="adj1" fmla="val -140248"/>
              <a:gd name="adj2" fmla="val 50066"/>
              <a:gd name="adj3" fmla="val 231950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43" name=""/>
          <p:cNvSpPr/>
          <p:nvPr/>
        </p:nvSpPr>
        <p:spPr>
          <a:xfrm>
            <a:off x="4676760" y="398160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ep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form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09" idx="2"/>
            <a:endCxn id="145" idx="0"/>
          </p:cNvCxnSpPr>
          <p:nvPr/>
        </p:nvCxnSpPr>
        <p:spPr>
          <a:xfrm rot="5400000">
            <a:off x="4314240" y="4167000"/>
            <a:ext cx="386640" cy="957600"/>
          </a:xfrm>
          <a:prstGeom prst="bentConnector5">
            <a:avLst>
              <a:gd name="adj1" fmla="val 238863"/>
              <a:gd name="adj2" fmla="val 156036"/>
              <a:gd name="adj3" fmla="val 39981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45" name=""/>
          <p:cNvSpPr/>
          <p:nvPr/>
        </p:nvSpPr>
        <p:spPr>
          <a:xfrm>
            <a:off x="3724200" y="483876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erific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form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/>
          <p:nvPr/>
        </p:nvCxnSpPr>
        <p:spPr>
          <a:xfrm>
            <a:off x="3987360" y="5347800"/>
            <a:ext cx="2520" cy="183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47" name=""/>
          <p:cNvSpPr/>
          <p:nvPr/>
        </p:nvSpPr>
        <p:spPr>
          <a:xfrm>
            <a:off x="3724200" y="552456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Informa a 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Dgplade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/>
          <p:nvPr/>
        </p:nvCxnSpPr>
        <p:spPr>
          <a:xfrm>
            <a:off x="4013280" y="5837040"/>
            <a:ext cx="2160" cy="183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49" name=""/>
          <p:cNvSpPr/>
          <p:nvPr/>
        </p:nvSpPr>
        <p:spPr>
          <a:xfrm>
            <a:off x="5670720" y="747720"/>
            <a:ext cx="9079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Hoja: 11 de 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Raquel Almazán</cp:lastModifiedBy>
  <dcterms:modified xsi:type="dcterms:W3CDTF">2005-08-05T18:20:26Z</dcterms:modified>
  <cp:revision>58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43698879</vt:r8>
  </property>
  <property fmtid="{D5CDD505-2E9C-101B-9397-08002B2CF9AE}" pid="3" name="_AuthorEmail">
    <vt:lpwstr>FELIPEV@DGPEC-S01.SSA.com</vt:lpwstr>
  </property>
  <property fmtid="{D5CDD505-2E9C-101B-9397-08002B2CF9AE}" pid="4" name="_AuthorEmailDisplayName">
    <vt:lpwstr>FELIPE VARGAS GARCIA</vt:lpwstr>
  </property>
  <property fmtid="{D5CDD505-2E9C-101B-9397-08002B2CF9AE}" pid="5" name="_EmailSubject">
    <vt:lpwstr>ENVIO MANUAL DE PROCEDIMIENTOS DRA. ADRIANA STANFORD DIRECCIÓN DE SUSTENTABILIDAD</vt:lpwstr>
  </property>
  <property fmtid="{D5CDD505-2E9C-101B-9397-08002B2CF9AE}" pid="6" name="_PreviousAdHocReviewCycleID">
    <vt:r8>-1938877749</vt:r8>
  </property>
  <property fmtid="{D5CDD505-2E9C-101B-9397-08002B2CF9AE}" pid="7" name="_ReviewingToolsShownOnce">
    <vt:lpwstr/>
  </property>
</Properties>
</file>