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72880" y="1663560"/>
            <a:ext cx="6324840" cy="5815080"/>
            <a:chOff x="272880" y="1663560"/>
            <a:chExt cx="6324840" cy="5815080"/>
          </a:xfrm>
        </p:grpSpPr>
        <p:sp>
          <p:nvSpPr>
            <p:cNvPr id="1" name=""/>
            <p:cNvSpPr/>
            <p:nvPr/>
          </p:nvSpPr>
          <p:spPr>
            <a:xfrm>
              <a:off x="554508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48956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3692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8140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2876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2880" y="2211480"/>
              <a:ext cx="105588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508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48956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3692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8140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2876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bdirección de Innovación Logística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2880" y="1663560"/>
              <a:ext cx="1055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72880" y="2211480"/>
              <a:ext cx="632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72880" y="7478640"/>
              <a:ext cx="6324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7288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8140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3692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4895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4508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59772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166356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72880" y="1663560"/>
              <a:ext cx="1055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36920" y="166356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530680" y="716040"/>
              <a:ext cx="10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 50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101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detectar proyectos comunes que favorezcan mejores estándares y desempeño en el sector salud</a:t>
              </a:r>
              <a:r>
                <a:rPr b="1" lang="es-MX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530680" y="455760"/>
              <a:ext cx="1098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101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530680" y="228600"/>
              <a:ext cx="1098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101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530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20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6920"/>
            <a:chOff x="304920" y="7848720"/>
            <a:chExt cx="6324480" cy="1096920"/>
          </a:xfrm>
        </p:grpSpPr>
        <p:sp>
          <p:nvSpPr>
            <p:cNvPr id="43" name=""/>
            <p:cNvSpPr/>
            <p:nvPr/>
          </p:nvSpPr>
          <p:spPr>
            <a:xfrm>
              <a:off x="4800600" y="8077320"/>
              <a:ext cx="1828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7320"/>
              <a:ext cx="1905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7320"/>
              <a:ext cx="1981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7320"/>
              <a:ext cx="609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2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2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2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2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201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201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201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201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9152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9152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Blanca Chávez Buenrost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9152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Marisol Osorio Marí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9152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915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201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2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56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3320" y="3726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01880" y="61135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2880" y="2762280"/>
            <a:ext cx="609480" cy="297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ordin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la defini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proyec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76320" y="2614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/>
          <p:nvPr/>
        </p:nvCxnSpPr>
        <p:spPr>
          <a:xfrm>
            <a:off x="839880" y="2590920"/>
            <a:ext cx="864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339920" y="2914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7680" y="696600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2880" y="625644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obre avanc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proyect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>
            <a:off x="847800" y="6560640"/>
            <a:ext cx="2160" cy="40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1501920" y="469116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eguimient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proyec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67040" y="4546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449720" y="4071960"/>
            <a:ext cx="695880" cy="252360"/>
            <a:chOff x="1449720" y="4071960"/>
            <a:chExt cx="695880" cy="252360"/>
          </a:xfrm>
        </p:grpSpPr>
        <p:sp>
          <p:nvSpPr>
            <p:cNvPr id="84" name=""/>
            <p:cNvSpPr/>
            <p:nvPr/>
          </p:nvSpPr>
          <p:spPr>
            <a:xfrm>
              <a:off x="1501920" y="40719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49720" y="4138920"/>
              <a:ext cx="695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 de trabaj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447920" y="3868560"/>
            <a:ext cx="609480" cy="314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fini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/>
          <p:nvPr/>
        </p:nvCxnSpPr>
        <p:spPr>
          <a:xfrm flipV="1" rot="10800000">
            <a:off x="1805760" y="4308120"/>
            <a:ext cx="1080" cy="383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1852560" y="29131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398960" y="3259080"/>
            <a:ext cx="661680" cy="252360"/>
            <a:chOff x="1398960" y="3259080"/>
            <a:chExt cx="661680" cy="252360"/>
          </a:xfrm>
        </p:grpSpPr>
        <p:sp>
          <p:nvSpPr>
            <p:cNvPr id="90" name=""/>
            <p:cNvSpPr/>
            <p:nvPr/>
          </p:nvSpPr>
          <p:spPr>
            <a:xfrm>
              <a:off x="1451160" y="32590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98960" y="3326040"/>
              <a:ext cx="415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rre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397160" y="3056040"/>
            <a:ext cx="6094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tec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mo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 flipH="1" flipV="1" rot="5400000">
            <a:off x="1272960" y="2630160"/>
            <a:ext cx="3960" cy="854640"/>
          </a:xfrm>
          <a:prstGeom prst="bentConnector5">
            <a:avLst>
              <a:gd name="adj1" fmla="val -7200000"/>
              <a:gd name="adj2" fmla="val 49978"/>
              <a:gd name="adj3" fmla="val 7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rot="5400000">
            <a:off x="1566720" y="3680280"/>
            <a:ext cx="373680" cy="3960"/>
          </a:xfrm>
          <a:prstGeom prst="bentConnector3">
            <a:avLst>
              <a:gd name="adj1" fmla="val 518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1960560" y="53388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01920" y="548172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avanc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proyect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/>
          <p:nvPr/>
        </p:nvCxnSpPr>
        <p:spPr>
          <a:xfrm flipV="1" rot="10800000">
            <a:off x="1805760" y="4995360"/>
            <a:ext cx="1080" cy="48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/>
          <p:nvPr/>
        </p:nvCxnSpPr>
        <p:spPr>
          <a:xfrm rot="5400000">
            <a:off x="1091160" y="5541840"/>
            <a:ext cx="470880" cy="95940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Base" hidden="1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992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MARISOLO</cp:lastModifiedBy>
  <dcterms:modified xsi:type="dcterms:W3CDTF">2005-08-05T18:47:41Z</dcterms:modified>
  <cp:revision>63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8303618</vt:r8>
  </property>
  <property fmtid="{D5CDD505-2E9C-101B-9397-08002B2CF9AE}" pid="3" name="_AuthorEmail">
    <vt:lpwstr>MARISOLO@DGPEC-S01.SSA.com</vt:lpwstr>
  </property>
  <property fmtid="{D5CDD505-2E9C-101B-9397-08002B2CF9AE}" pid="4" name="_AuthorEmailDisplayName">
    <vt:lpwstr>MARISOL OSORIO MARIN</vt:lpwstr>
  </property>
  <property fmtid="{D5CDD505-2E9C-101B-9397-08002B2CF9AE}" pid="5" name="_EmailSubject">
    <vt:lpwstr>ISO 9001-2000</vt:lpwstr>
  </property>
  <property fmtid="{D5CDD505-2E9C-101B-9397-08002B2CF9AE}" pid="6" name="_PreviousAdHocReviewCycleID">
    <vt:r8>-1785697755</vt:r8>
  </property>
</Properties>
</file>