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5271840" cy="5815080"/>
            <a:chOff x="304920" y="1709640"/>
            <a:chExt cx="5271840" cy="5815080"/>
          </a:xfrm>
        </p:grpSpPr>
        <p:sp>
          <p:nvSpPr>
            <p:cNvPr id="1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laneación en el estad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Manejo de Riesgos en Unidade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57560"/>
              <a:ext cx="527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24720"/>
              <a:ext cx="5271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68600" y="1709640"/>
              <a:ext cx="2108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dimiento para Promover la Utilización de la Metodología de Manejo de Riesgos en las Unidade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y Sustentabilidad 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0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lia Rivero Rodrígu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609080" y="6064200"/>
            <a:ext cx="662760" cy="252360"/>
            <a:chOff x="4609080" y="6064200"/>
            <a:chExt cx="662760" cy="252360"/>
          </a:xfrm>
        </p:grpSpPr>
        <p:sp>
          <p:nvSpPr>
            <p:cNvPr id="105" name=""/>
            <p:cNvSpPr/>
            <p:nvPr/>
          </p:nvSpPr>
          <p:spPr>
            <a:xfrm>
              <a:off x="4662360" y="6064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09080" y="61311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97200" y="5931000"/>
            <a:ext cx="662040" cy="252000"/>
            <a:chOff x="4597200" y="5931000"/>
            <a:chExt cx="662040" cy="252000"/>
          </a:xfrm>
        </p:grpSpPr>
        <p:sp>
          <p:nvSpPr>
            <p:cNvPr id="108" name=""/>
            <p:cNvSpPr/>
            <p:nvPr/>
          </p:nvSpPr>
          <p:spPr>
            <a:xfrm>
              <a:off x="4649760" y="5931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7200" y="59976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20160" y="5584680"/>
            <a:ext cx="661320" cy="252360"/>
            <a:chOff x="3620160" y="5584680"/>
            <a:chExt cx="661320" cy="252360"/>
          </a:xfrm>
        </p:grpSpPr>
        <p:sp>
          <p:nvSpPr>
            <p:cNvPr id="111" name=""/>
            <p:cNvSpPr/>
            <p:nvPr/>
          </p:nvSpPr>
          <p:spPr>
            <a:xfrm>
              <a:off x="3672000" y="5584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0160" y="5651640"/>
              <a:ext cx="563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05400" y="4238640"/>
            <a:ext cx="686520" cy="252360"/>
            <a:chOff x="3605400" y="4238640"/>
            <a:chExt cx="686520" cy="252360"/>
          </a:xfrm>
        </p:grpSpPr>
        <p:sp>
          <p:nvSpPr>
            <p:cNvPr id="114" name=""/>
            <p:cNvSpPr/>
            <p:nvPr/>
          </p:nvSpPr>
          <p:spPr>
            <a:xfrm>
              <a:off x="3657600" y="4238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05400" y="4305600"/>
              <a:ext cx="686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ía electró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54440" y="4764240"/>
            <a:ext cx="662040" cy="252000"/>
            <a:chOff x="4654440" y="4764240"/>
            <a:chExt cx="662040" cy="252000"/>
          </a:xfrm>
        </p:grpSpPr>
        <p:sp>
          <p:nvSpPr>
            <p:cNvPr id="117" name=""/>
            <p:cNvSpPr/>
            <p:nvPr/>
          </p:nvSpPr>
          <p:spPr>
            <a:xfrm>
              <a:off x="4707000" y="47642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48308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05040" y="4121280"/>
            <a:ext cx="662040" cy="252000"/>
            <a:chOff x="3605040" y="4121280"/>
            <a:chExt cx="662040" cy="252000"/>
          </a:xfrm>
        </p:grpSpPr>
        <p:sp>
          <p:nvSpPr>
            <p:cNvPr id="120" name=""/>
            <p:cNvSpPr/>
            <p:nvPr/>
          </p:nvSpPr>
          <p:spPr>
            <a:xfrm>
              <a:off x="3657600" y="4121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18788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23115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5000" y="3936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mpulsa a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utilizac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9560" y="259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>
            <a:off x="837360" y="2463840"/>
            <a:ext cx="2520" cy="178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705200" y="45720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1960" y="2946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4" idx="2"/>
            <a:endCxn id="128" idx="0"/>
          </p:cNvCxnSpPr>
          <p:nvPr/>
        </p:nvCxnSpPr>
        <p:spPr>
          <a:xfrm flipH="1" rot="16200000">
            <a:off x="4437720" y="3999600"/>
            <a:ext cx="97560" cy="1047960"/>
          </a:xfrm>
          <a:prstGeom prst="bentConnector5">
            <a:avLst>
              <a:gd name="adj1" fmla="val 253703"/>
              <a:gd name="adj2" fmla="val -51271"/>
              <a:gd name="adj3" fmla="val -4814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1" name=""/>
          <p:cNvCxnSpPr>
            <a:stCxn id="117" idx="2"/>
            <a:endCxn id="132" idx="0"/>
          </p:cNvCxnSpPr>
          <p:nvPr/>
        </p:nvCxnSpPr>
        <p:spPr>
          <a:xfrm rot="5400000">
            <a:off x="4367160" y="4614480"/>
            <a:ext cx="259560" cy="1030680"/>
          </a:xfrm>
          <a:prstGeom prst="bentConnector5">
            <a:avLst>
              <a:gd name="adj1" fmla="val 95138"/>
              <a:gd name="adj2" fmla="val -52026"/>
              <a:gd name="adj3" fmla="val -18027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5024880" y="64040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22680" y="67086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19440" y="5446800"/>
            <a:ext cx="662040" cy="252000"/>
            <a:chOff x="3619440" y="5446800"/>
            <a:chExt cx="662040" cy="252000"/>
          </a:xfrm>
        </p:grpSpPr>
        <p:sp>
          <p:nvSpPr>
            <p:cNvPr id="136" name=""/>
            <p:cNvSpPr/>
            <p:nvPr/>
          </p:nvSpPr>
          <p:spPr>
            <a:xfrm>
              <a:off x="3672000" y="54468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19440" y="55134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676680" y="5259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 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 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7880" y="349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5360" y="57085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erific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7160" y="64166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 Unicode MS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>
            <a:off x="4916160" y="6295680"/>
            <a:ext cx="3960" cy="127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2" name=""/>
          <p:cNvCxnSpPr>
            <a:stCxn id="140" idx="2"/>
            <a:endCxn id="143" idx="0"/>
          </p:cNvCxnSpPr>
          <p:nvPr/>
        </p:nvCxnSpPr>
        <p:spPr>
          <a:xfrm flipV="1" rot="16200000">
            <a:off x="4325040" y="6311160"/>
            <a:ext cx="213120" cy="975960"/>
          </a:xfrm>
          <a:prstGeom prst="bentConnector5">
            <a:avLst>
              <a:gd name="adj1" fmla="val -109813"/>
              <a:gd name="adj2" fmla="val -52841"/>
              <a:gd name="adj3" fmla="val 33942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520560" y="264492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Emite la autori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ción para la p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ció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30360" y="3095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ruc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a promo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 flipH="1" rot="16200000">
            <a:off x="1257120" y="2517480"/>
            <a:ext cx="146520" cy="1010160"/>
          </a:xfrm>
          <a:prstGeom prst="bentConnector5">
            <a:avLst>
              <a:gd name="adj1" fmla="val 466995"/>
              <a:gd name="adj2" fmla="val 153083"/>
              <a:gd name="adj3" fmla="val -5862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2546280" y="35402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2"/>
            <a:endCxn id="147" idx="0"/>
          </p:cNvCxnSpPr>
          <p:nvPr/>
        </p:nvCxnSpPr>
        <p:spPr>
          <a:xfrm flipH="1" rot="16200000">
            <a:off x="2273400" y="2962440"/>
            <a:ext cx="140040" cy="1016280"/>
          </a:xfrm>
          <a:prstGeom prst="bentConnector5">
            <a:avLst>
              <a:gd name="adj1" fmla="val 165721"/>
              <a:gd name="adj2" fmla="val -52834"/>
              <a:gd name="adj3" fmla="val -38427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9" name=""/>
          <p:cNvCxnSpPr>
            <a:stCxn id="147" idx="2"/>
            <a:endCxn id="125" idx="0"/>
          </p:cNvCxnSpPr>
          <p:nvPr/>
        </p:nvCxnSpPr>
        <p:spPr>
          <a:xfrm flipH="1" rot="16200000">
            <a:off x="3354480" y="3341520"/>
            <a:ext cx="92520" cy="1099080"/>
          </a:xfrm>
          <a:prstGeom prst="bentConnector5">
            <a:avLst>
              <a:gd name="adj1" fmla="val 251562"/>
              <a:gd name="adj2" fmla="val 50000"/>
              <a:gd name="adj3" fmla="val -1515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0" name=""/>
          <p:cNvSpPr/>
          <p:nvPr/>
        </p:nvSpPr>
        <p:spPr>
          <a:xfrm>
            <a:off x="4110120" y="38019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70680" y="4387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9200" y="5124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360" y="3403440"/>
            <a:ext cx="223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11" idx="2"/>
            <a:endCxn id="139" idx="0"/>
          </p:cNvCxnSpPr>
          <p:nvPr/>
        </p:nvCxnSpPr>
        <p:spPr>
          <a:xfrm flipH="1" flipV="1" rot="5400000">
            <a:off x="4402440" y="5283000"/>
            <a:ext cx="112680" cy="963720"/>
          </a:xfrm>
          <a:prstGeom prst="bentConnector5">
            <a:avLst>
              <a:gd name="adj1" fmla="val -219551"/>
              <a:gd name="adj2" fmla="val -55754"/>
              <a:gd name="adj3" fmla="val 4166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113440" y="5568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8520" y="66927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guimiento de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util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3640" y="6534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870120" y="7094160"/>
            <a:ext cx="216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44680" y="72644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6120" y="67881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c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guimien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43" idx="2"/>
            <a:endCxn id="159" idx="0"/>
          </p:cNvCxnSpPr>
          <p:nvPr/>
        </p:nvCxnSpPr>
        <p:spPr>
          <a:xfrm flipV="1" rot="16200000">
            <a:off x="2292480" y="5346720"/>
            <a:ext cx="209880" cy="3092760"/>
          </a:xfrm>
          <a:prstGeom prst="bentConnector5">
            <a:avLst>
              <a:gd name="adj1" fmla="val -110481"/>
              <a:gd name="adj2" fmla="val 50011"/>
              <a:gd name="adj3" fmla="val 21065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986040" y="6629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94440" y="6654960"/>
            <a:ext cx="19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21160" y="656604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 55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28:38Z</dcterms:modified>
  <cp:revision>67</cp:revision>
  <dc:subject/>
  <dc:title>Presentación de PowerPoint</dc:title>
</cp:coreProperties>
</file>