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4216320" cy="5856480"/>
            <a:chOff x="304920" y="1709640"/>
            <a:chExt cx="4216320" cy="5856480"/>
          </a:xfrm>
        </p:grpSpPr>
        <p:sp>
          <p:nvSpPr>
            <p:cNvPr id="1" name=""/>
            <p:cNvSpPr/>
            <p:nvPr/>
          </p:nvSpPr>
          <p:spPr>
            <a:xfrm>
              <a:off x="346860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41308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6044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46860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ubdirección de Integración Sustentable de Servicio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1308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 de  Desarrollo y Sustentabilidad  de Servicio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6044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Implantación de Sistema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92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920" y="2298600"/>
              <a:ext cx="421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7566120"/>
              <a:ext cx="4216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492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604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41308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46860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52124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8600" y="1709640"/>
              <a:ext cx="1052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0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   d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dimiento para Elaborar Proyectos Sustentables en los Servicios de Salu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 de Desarrollo y  Sustentabilidad de Servicios de Salu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6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37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ucero Rodríguez Cabre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Juan Gabriel Gay Moli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lipe de Jesús Vargas Garcí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3649320" y="5425920"/>
            <a:ext cx="662400" cy="252360"/>
            <a:chOff x="3649320" y="5425920"/>
            <a:chExt cx="662400" cy="252360"/>
          </a:xfrm>
        </p:grpSpPr>
        <p:sp>
          <p:nvSpPr>
            <p:cNvPr id="102" name=""/>
            <p:cNvSpPr/>
            <p:nvPr/>
          </p:nvSpPr>
          <p:spPr>
            <a:xfrm>
              <a:off x="3702240" y="54259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49320" y="5492880"/>
              <a:ext cx="461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stafet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643200" y="5261040"/>
            <a:ext cx="662040" cy="256680"/>
            <a:chOff x="3643200" y="5261040"/>
            <a:chExt cx="662040" cy="256680"/>
          </a:xfrm>
        </p:grpSpPr>
        <p:sp>
          <p:nvSpPr>
            <p:cNvPr id="105" name=""/>
            <p:cNvSpPr/>
            <p:nvPr/>
          </p:nvSpPr>
          <p:spPr>
            <a:xfrm>
              <a:off x="3695760" y="5261040"/>
              <a:ext cx="609480" cy="2566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43200" y="532944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273672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utoriza l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labor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anual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23840" y="2584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9" idx="2"/>
            <a:endCxn id="110" idx="0"/>
          </p:cNvCxnSpPr>
          <p:nvPr/>
        </p:nvCxnSpPr>
        <p:spPr>
          <a:xfrm flipH="1">
            <a:off x="838440" y="2590920"/>
            <a:ext cx="1800" cy="146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13" name=""/>
          <p:cNvSpPr/>
          <p:nvPr/>
        </p:nvSpPr>
        <p:spPr>
          <a:xfrm>
            <a:off x="1444680" y="295920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Indicacione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turna a la DDSS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4480" y="2832120"/>
            <a:ext cx="227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03600" y="39416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labor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nu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60800" y="3782880"/>
            <a:ext cx="227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55720" y="4572000"/>
            <a:ext cx="64476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idación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erificación de l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nu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5880" y="4387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8040" y="5186520"/>
            <a:ext cx="226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44800" y="30463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5240" y="319572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Instruccione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turna a la SISS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0" idx="2"/>
            <a:endCxn id="113" idx="0"/>
          </p:cNvCxnSpPr>
          <p:nvPr/>
        </p:nvCxnSpPr>
        <p:spPr>
          <a:xfrm flipH="1" flipV="1" rot="5400000">
            <a:off x="1252440" y="2544840"/>
            <a:ext cx="82800" cy="911520"/>
          </a:xfrm>
          <a:prstGeom prst="bentConnector5">
            <a:avLst>
              <a:gd name="adj1" fmla="val -550655"/>
              <a:gd name="adj2" fmla="val 158830"/>
              <a:gd name="adj3" fmla="val 38078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3" name=""/>
          <p:cNvSpPr/>
          <p:nvPr/>
        </p:nvSpPr>
        <p:spPr>
          <a:xfrm>
            <a:off x="3672000" y="503064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tribución 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as entidad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ederativ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1" idx="2"/>
            <a:endCxn id="115" idx="0"/>
          </p:cNvCxnSpPr>
          <p:nvPr/>
        </p:nvCxnSpPr>
        <p:spPr>
          <a:xfrm flipH="1" rot="16200000">
            <a:off x="3138480" y="3171600"/>
            <a:ext cx="441720" cy="1098720"/>
          </a:xfrm>
          <a:prstGeom prst="bentConnector5">
            <a:avLst>
              <a:gd name="adj1" fmla="val 52528"/>
              <a:gd name="adj2" fmla="val 49983"/>
              <a:gd name="adj3" fmla="val 4747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5" name=""/>
          <p:cNvCxnSpPr/>
          <p:nvPr/>
        </p:nvCxnSpPr>
        <p:spPr>
          <a:xfrm flipH="1" flipV="1" rot="5400000">
            <a:off x="2197800" y="2772720"/>
            <a:ext cx="83160" cy="911880"/>
          </a:xfrm>
          <a:prstGeom prst="bentConnector5">
            <a:avLst>
              <a:gd name="adj1" fmla="val -276521"/>
              <a:gd name="adj2" fmla="val 50000"/>
              <a:gd name="adj3" fmla="val 37652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6" name=""/>
          <p:cNvCxnSpPr>
            <a:stCxn id="117" idx="2"/>
            <a:endCxn id="123" idx="0"/>
          </p:cNvCxnSpPr>
          <p:nvPr/>
        </p:nvCxnSpPr>
        <p:spPr>
          <a:xfrm flipH="1" rot="16200000">
            <a:off x="3414240" y="4440600"/>
            <a:ext cx="154080" cy="1026000"/>
          </a:xfrm>
          <a:prstGeom prst="bentConnector5">
            <a:avLst>
              <a:gd name="adj1" fmla="val 150585"/>
              <a:gd name="adj2" fmla="val -54089"/>
              <a:gd name="adj3" fmla="val -349414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7" name=""/>
          <p:cNvSpPr/>
          <p:nvPr/>
        </p:nvSpPr>
        <p:spPr>
          <a:xfrm>
            <a:off x="2765520" y="590076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am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isitas a l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stad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03" idx="2"/>
            <a:endCxn id="127" idx="0"/>
          </p:cNvCxnSpPr>
          <p:nvPr/>
        </p:nvCxnSpPr>
        <p:spPr>
          <a:xfrm rot="5400000">
            <a:off x="3377160" y="5398560"/>
            <a:ext cx="222840" cy="782640"/>
          </a:xfrm>
          <a:prstGeom prst="bentConnector5">
            <a:avLst>
              <a:gd name="adj1" fmla="val 101941"/>
              <a:gd name="adj2" fmla="val -58490"/>
              <a:gd name="adj3" fmla="val -18543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9" name=""/>
          <p:cNvSpPr/>
          <p:nvPr/>
        </p:nvSpPr>
        <p:spPr>
          <a:xfrm>
            <a:off x="3201840" y="5764320"/>
            <a:ext cx="227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16200" y="6364440"/>
            <a:ext cx="663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upervis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os proyec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7" idx="2"/>
            <a:endCxn id="130" idx="0"/>
          </p:cNvCxnSpPr>
          <p:nvPr/>
        </p:nvCxnSpPr>
        <p:spPr>
          <a:xfrm flipH="1" rot="16200000">
            <a:off x="3443400" y="5859360"/>
            <a:ext cx="159120" cy="851040"/>
          </a:xfrm>
          <a:prstGeom prst="bentConnector5">
            <a:avLst>
              <a:gd name="adj1" fmla="val 145804"/>
              <a:gd name="adj2" fmla="val -66271"/>
              <a:gd name="adj3" fmla="val -33832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2" name=""/>
          <p:cNvSpPr/>
          <p:nvPr/>
        </p:nvSpPr>
        <p:spPr>
          <a:xfrm>
            <a:off x="561960" y="684036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rganiz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ventos nacion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02200" y="6222960"/>
            <a:ext cx="226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0" idx="2"/>
            <a:endCxn id="132" idx="0"/>
          </p:cNvCxnSpPr>
          <p:nvPr/>
        </p:nvCxnSpPr>
        <p:spPr>
          <a:xfrm rot="5400000">
            <a:off x="2335320" y="5227560"/>
            <a:ext cx="171720" cy="3054600"/>
          </a:xfrm>
          <a:prstGeom prst="bentConnector5">
            <a:avLst>
              <a:gd name="adj1" fmla="val 135294"/>
              <a:gd name="adj2" fmla="val 50000"/>
              <a:gd name="adj3" fmla="val -35294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5" name=""/>
          <p:cNvSpPr/>
          <p:nvPr/>
        </p:nvSpPr>
        <p:spPr>
          <a:xfrm>
            <a:off x="1041480" y="6705720"/>
            <a:ext cx="226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15" idx="2"/>
            <a:endCxn id="117" idx="0"/>
          </p:cNvCxnSpPr>
          <p:nvPr/>
        </p:nvCxnSpPr>
        <p:spPr>
          <a:xfrm rot="5400000">
            <a:off x="3280680" y="3944160"/>
            <a:ext cx="325800" cy="930600"/>
          </a:xfrm>
          <a:prstGeom prst="bentConnector5">
            <a:avLst>
              <a:gd name="adj1" fmla="val 71128"/>
              <a:gd name="adj2" fmla="val -57623"/>
              <a:gd name="adj3" fmla="val -16493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7" name=""/>
          <p:cNvSpPr/>
          <p:nvPr/>
        </p:nvSpPr>
        <p:spPr>
          <a:xfrm>
            <a:off x="4179960" y="4876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/>
          <p:nvPr/>
        </p:nvCxnSpPr>
        <p:spPr>
          <a:xfrm>
            <a:off x="875880" y="7157520"/>
            <a:ext cx="5400" cy="1515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9" name=""/>
          <p:cNvSpPr/>
          <p:nvPr/>
        </p:nvSpPr>
        <p:spPr>
          <a:xfrm>
            <a:off x="574560" y="7296120"/>
            <a:ext cx="66384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70720" y="747720"/>
            <a:ext cx="907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ja:79 de 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Raquel Almazán</cp:lastModifiedBy>
  <dcterms:modified xsi:type="dcterms:W3CDTF">2005-08-05T19:38:38Z</dcterms:modified>
  <cp:revision>78</cp:revision>
  <dc:subject/>
  <dc:title>Presentación de PowerPoint</dc:title>
</cp:coreProperties>
</file>