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6318000" cy="5815080"/>
            <a:chOff x="304920" y="1709640"/>
            <a:chExt cx="6318000" cy="5815080"/>
          </a:xfrm>
        </p:grpSpPr>
        <p:sp>
          <p:nvSpPr>
            <p:cNvPr id="1" name=""/>
            <p:cNvSpPr/>
            <p:nvPr/>
          </p:nvSpPr>
          <p:spPr>
            <a:xfrm>
              <a:off x="5079960" y="2257560"/>
              <a:ext cx="154296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568680" y="2257560"/>
              <a:ext cx="151128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898640" y="2257560"/>
              <a:ext cx="16700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57560"/>
              <a:ext cx="15937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79960" y="1709640"/>
              <a:ext cx="15429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Sistemas Complementarios de Atención a la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68680" y="1709640"/>
              <a:ext cx="1511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Medicina Tradicional y Desarrollo Intercultur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898640" y="1709640"/>
              <a:ext cx="16700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Implantación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4920" y="1709640"/>
              <a:ext cx="15937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920" y="2257560"/>
              <a:ext cx="631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7524720"/>
              <a:ext cx="6318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0492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89864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56868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07996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62292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898640" y="1709640"/>
              <a:ext cx="318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04920" y="1709640"/>
              <a:ext cx="1593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79960" y="1709640"/>
              <a:ext cx="1542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304920" y="228600"/>
            <a:ext cx="6324480" cy="1003320"/>
            <a:chOff x="304920" y="228600"/>
            <a:chExt cx="6324480" cy="1003320"/>
          </a:xfrm>
        </p:grpSpPr>
        <p:sp>
          <p:nvSpPr>
            <p:cNvPr id="20" name=""/>
            <p:cNvSpPr/>
            <p:nvPr/>
          </p:nvSpPr>
          <p:spPr>
            <a:xfrm>
              <a:off x="5638680" y="716040"/>
              <a:ext cx="9907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41 de 6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28840" y="716040"/>
              <a:ext cx="42098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</a:t>
              </a: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ra el Fortalecimiento de los Servicios de Salud, con la implantación de “Medicinas Complementarias” a la oferta de Servicio.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Medicina Tradicional y Desarrollo Intercultur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04920" y="228600"/>
              <a:ext cx="112392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04920" y="12319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4920" y="228600"/>
              <a:ext cx="0" cy="1003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28840" y="2286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638680" y="2286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29400" y="228600"/>
              <a:ext cx="0" cy="1003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6" name=""/>
          <p:cNvGrpSpPr/>
          <p:nvPr/>
        </p:nvGrpSpPr>
        <p:grpSpPr>
          <a:xfrm>
            <a:off x="304920" y="7848720"/>
            <a:ext cx="6324480" cy="1201680"/>
            <a:chOff x="304920" y="7848720"/>
            <a:chExt cx="6324480" cy="1201680"/>
          </a:xfrm>
        </p:grpSpPr>
        <p:sp>
          <p:nvSpPr>
            <p:cNvPr id="37" name=""/>
            <p:cNvSpPr/>
            <p:nvPr/>
          </p:nvSpPr>
          <p:spPr>
            <a:xfrm>
              <a:off x="4800600" y="80773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895480" y="80773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914400" y="80773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04920" y="80773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800600" y="883764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895480" y="883764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14400" y="883764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883764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00600" y="86248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95480" y="86248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14400" y="86248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86248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00600" y="829008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R. JOSE ALEJANDRO ALMAGUER GONZÁLEZ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95480" y="829008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R. HERNÁN JOSÉ GARCÍA RAMÍR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14400" y="829008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EMÍ LUGO MALDONAD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920" y="8290080"/>
              <a:ext cx="6094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8290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86248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883764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90504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0" cy="1201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29400" y="7848720"/>
              <a:ext cx="0" cy="1201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14400" y="807732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807732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00600" y="807732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4081320" y="6172200"/>
            <a:ext cx="568440" cy="336600"/>
            <a:chOff x="4081320" y="6172200"/>
            <a:chExt cx="568440" cy="336600"/>
          </a:xfrm>
        </p:grpSpPr>
        <p:sp>
          <p:nvSpPr>
            <p:cNvPr id="102" name=""/>
            <p:cNvSpPr/>
            <p:nvPr/>
          </p:nvSpPr>
          <p:spPr>
            <a:xfrm>
              <a:off x="4184640" y="6194520"/>
              <a:ext cx="441360" cy="31428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81320" y="6334200"/>
              <a:ext cx="5652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084560" y="6172200"/>
              <a:ext cx="565200" cy="193680"/>
              <a:chOff x="4084560" y="6172200"/>
              <a:chExt cx="565200" cy="193680"/>
            </a:xfrm>
          </p:grpSpPr>
          <p:sp>
            <p:nvSpPr>
              <p:cNvPr id="105" name=""/>
              <p:cNvSpPr/>
              <p:nvPr/>
            </p:nvSpPr>
            <p:spPr>
              <a:xfrm>
                <a:off x="4178520" y="6172200"/>
                <a:ext cx="441000" cy="185400"/>
              </a:xfrm>
              <a:prstGeom prst="flowChartDocumen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084560" y="6195960"/>
                <a:ext cx="5652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</a:rPr>
                  <a:t>Inform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4014720" y="5029200"/>
            <a:ext cx="568440" cy="336600"/>
            <a:chOff x="4014720" y="5029200"/>
            <a:chExt cx="568440" cy="336600"/>
          </a:xfrm>
        </p:grpSpPr>
        <p:sp>
          <p:nvSpPr>
            <p:cNvPr id="108" name=""/>
            <p:cNvSpPr/>
            <p:nvPr/>
          </p:nvSpPr>
          <p:spPr>
            <a:xfrm>
              <a:off x="4118040" y="5051520"/>
              <a:ext cx="441360" cy="31428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14720" y="5191200"/>
              <a:ext cx="5652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4017960" y="5029200"/>
              <a:ext cx="565200" cy="193680"/>
              <a:chOff x="4017960" y="5029200"/>
              <a:chExt cx="565200" cy="193680"/>
            </a:xfrm>
          </p:grpSpPr>
          <p:sp>
            <p:nvSpPr>
              <p:cNvPr id="111" name=""/>
              <p:cNvSpPr/>
              <p:nvPr/>
            </p:nvSpPr>
            <p:spPr>
              <a:xfrm>
                <a:off x="4111920" y="5029200"/>
                <a:ext cx="441000" cy="185400"/>
              </a:xfrm>
              <a:prstGeom prst="flowChartDocumen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017960" y="5052960"/>
                <a:ext cx="5652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</a:rPr>
                  <a:t>Document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5719680" y="4211640"/>
            <a:ext cx="565200" cy="193680"/>
            <a:chOff x="5719680" y="4211640"/>
            <a:chExt cx="565200" cy="193680"/>
          </a:xfrm>
        </p:grpSpPr>
        <p:sp>
          <p:nvSpPr>
            <p:cNvPr id="114" name=""/>
            <p:cNvSpPr/>
            <p:nvPr/>
          </p:nvSpPr>
          <p:spPr>
            <a:xfrm>
              <a:off x="5813640" y="4211640"/>
              <a:ext cx="441000" cy="18540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19680" y="4235400"/>
              <a:ext cx="5652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722920" y="3252960"/>
            <a:ext cx="565200" cy="193680"/>
            <a:chOff x="5722920" y="3252960"/>
            <a:chExt cx="565200" cy="193680"/>
          </a:xfrm>
        </p:grpSpPr>
        <p:sp>
          <p:nvSpPr>
            <p:cNvPr id="117" name=""/>
            <p:cNvSpPr/>
            <p:nvPr/>
          </p:nvSpPr>
          <p:spPr>
            <a:xfrm>
              <a:off x="5816880" y="3252960"/>
              <a:ext cx="441000" cy="18540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22920" y="3276720"/>
              <a:ext cx="5652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796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23840" y="2584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94120" y="4708440"/>
            <a:ext cx="665280" cy="368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Socialización del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con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los estados</a:t>
            </a: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21120" y="27003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13360" y="29005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24680" y="3484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0960" y="28018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40280" y="6956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TERMIN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70440" y="5819760"/>
            <a:ext cx="663480" cy="3999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e realiz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e Final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08800" y="3857760"/>
            <a:ext cx="657000" cy="3999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Formulación de los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s para lo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ios de salud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90640" y="2602080"/>
            <a:ext cx="0" cy="1648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3800" y="2751120"/>
            <a:ext cx="650880" cy="3999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ción p/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modelos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57440" y="2959200"/>
            <a:ext cx="650880" cy="3999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Solicitud de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ció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 modelos</a:t>
            </a: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40040" y="2973240"/>
            <a:ext cx="650880" cy="4003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Definición de lo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3480" y="2901960"/>
            <a:ext cx="650880" cy="3999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ción de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iag. Situac.de la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meds comp. en Méx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2" idx="2"/>
            <a:endCxn id="133" idx="0"/>
          </p:cNvCxnSpPr>
          <p:nvPr/>
        </p:nvCxnSpPr>
        <p:spPr>
          <a:xfrm flipH="1" flipV="1" rot="5400000">
            <a:off x="1769040" y="2037600"/>
            <a:ext cx="192600" cy="2034360"/>
          </a:xfrm>
          <a:prstGeom prst="bentConnector5">
            <a:avLst>
              <a:gd name="adj1" fmla="val -118913"/>
              <a:gd name="adj2" fmla="val 45256"/>
              <a:gd name="adj3" fmla="val 218913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3" idx="2"/>
            <a:endCxn id="134" idx="0"/>
          </p:cNvCxnSpPr>
          <p:nvPr/>
        </p:nvCxnSpPr>
        <p:spPr>
          <a:xfrm flipH="1" flipV="1" rot="5400000">
            <a:off x="3279960" y="2574360"/>
            <a:ext cx="386640" cy="1183320"/>
          </a:xfrm>
          <a:prstGeom prst="bentConnector5">
            <a:avLst>
              <a:gd name="adj1" fmla="val -59179"/>
              <a:gd name="adj2" fmla="val 50060"/>
              <a:gd name="adj3" fmla="val 159179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4" idx="2"/>
            <a:endCxn id="135" idx="0"/>
          </p:cNvCxnSpPr>
          <p:nvPr/>
        </p:nvCxnSpPr>
        <p:spPr>
          <a:xfrm flipH="1" flipV="1" rot="5400000">
            <a:off x="4766040" y="2200680"/>
            <a:ext cx="472320" cy="1874160"/>
          </a:xfrm>
          <a:prstGeom prst="bentConnector5">
            <a:avLst>
              <a:gd name="adj1" fmla="val -48436"/>
              <a:gd name="adj2" fmla="val 49990"/>
              <a:gd name="adj3" fmla="val 148436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endCxn id="130" idx="0"/>
          </p:cNvCxnSpPr>
          <p:nvPr/>
        </p:nvCxnSpPr>
        <p:spPr>
          <a:xfrm>
            <a:off x="5936760" y="3440160"/>
            <a:ext cx="1080" cy="418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/>
          <p:nvPr/>
        </p:nvCxnSpPr>
        <p:spPr>
          <a:xfrm rot="5400000">
            <a:off x="4936320" y="3689280"/>
            <a:ext cx="288000" cy="1713600"/>
          </a:xfrm>
          <a:prstGeom prst="bentConnector3">
            <a:avLst>
              <a:gd name="adj1" fmla="val 49687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5997600" y="26812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51240" y="5380200"/>
            <a:ext cx="0" cy="42696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6502320"/>
            <a:ext cx="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9440" y="45054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17920" y="55864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Noemi Lugo Maldonado</cp:lastModifiedBy>
  <dcterms:modified xsi:type="dcterms:W3CDTF">2005-08-08T15:51:24Z</dcterms:modified>
  <cp:revision>49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0499325</vt:r8>
  </property>
  <property fmtid="{D5CDD505-2E9C-101B-9397-08002B2CF9AE}" pid="3" name="_AuthorEmail">
    <vt:lpwstr>HERNANG@DGPEC-S01.SSA.com</vt:lpwstr>
  </property>
  <property fmtid="{D5CDD505-2E9C-101B-9397-08002B2CF9AE}" pid="4" name="_AuthorEmailDisplayName">
    <vt:lpwstr>HERNAN JOSE GARCIA RAMIREZ</vt:lpwstr>
  </property>
  <property fmtid="{D5CDD505-2E9C-101B-9397-08002B2CF9AE}" pid="5" name="_EmailSubject">
    <vt:lpwstr>Manuales de procedimientos de Medicina Tradicional y Sistmas Complementarios</vt:lpwstr>
  </property>
</Properties>
</file>