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24560" y="716040"/>
              <a:ext cx="110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61 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095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valuar y determinar necesidades de innovación en los procesos logísticos</a:t>
              </a:r>
              <a:r>
                <a:rPr b="1" lang="es-MX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24560" y="455760"/>
              <a:ext cx="1104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095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24560" y="228600"/>
              <a:ext cx="11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095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2456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52560" y="3490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01880" y="6418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pa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a evaluar y deter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inar necesida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708660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880" y="65610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so-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re implant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innova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>
            <a:off x="847800" y="6865560"/>
            <a:ext cx="21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625840" y="40878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ilote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0960" y="3943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99680" y="3836880"/>
            <a:ext cx="660960" cy="252360"/>
            <a:chOff x="1399680" y="3836880"/>
            <a:chExt cx="660960" cy="252360"/>
          </a:xfrm>
        </p:grpSpPr>
        <p:sp>
          <p:nvSpPr>
            <p:cNvPr id="84" name=""/>
            <p:cNvSpPr/>
            <p:nvPr/>
          </p:nvSpPr>
          <p:spPr>
            <a:xfrm>
              <a:off x="1451160" y="3836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9680" y="3903840"/>
              <a:ext cx="610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unic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397160" y="36338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eces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innov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2334960" y="3493080"/>
            <a:ext cx="15120" cy="1175400"/>
          </a:xfrm>
          <a:prstGeom prst="bentConnector5">
            <a:avLst>
              <a:gd name="adj1" fmla="val 1700000"/>
              <a:gd name="adj2" fmla="val 50000"/>
              <a:gd name="adj3" fmla="val -1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1852560" y="2913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97160" y="30560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valu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term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necesida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H="1" flipV="1" rot="5400000">
            <a:off x="1272960" y="2630160"/>
            <a:ext cx="3960" cy="854640"/>
          </a:xfrm>
          <a:prstGeom prst="bentConnector5">
            <a:avLst>
              <a:gd name="adj1" fmla="val -7200000"/>
              <a:gd name="adj2" fmla="val 49978"/>
              <a:gd name="adj3" fmla="val 7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1992240" y="5802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33600" y="59450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avance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rot="5400000">
            <a:off x="1186560" y="5910120"/>
            <a:ext cx="311760" cy="9910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V="1" rot="10800000">
            <a:off x="1701000" y="3369960"/>
            <a:ext cx="1080" cy="26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625840" y="46404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0960" y="4495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33600" y="53132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guimient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98720" y="5168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flipV="1" rot="10800000">
            <a:off x="2929680" y="4392360"/>
            <a:ext cx="1080" cy="248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rot="5400000">
            <a:off x="2199600" y="4582800"/>
            <a:ext cx="369000" cy="109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 rot="10800000">
            <a:off x="1837440" y="5617800"/>
            <a:ext cx="1080" cy="32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9:15Z</dcterms:modified>
  <cp:revision>6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276808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940801863</vt:r8>
  </property>
</Properties>
</file>