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87840" cy="5857920"/>
            <a:chOff x="304920" y="1709640"/>
            <a:chExt cx="6387840" cy="5857920"/>
          </a:xfrm>
        </p:grpSpPr>
        <p:sp>
          <p:nvSpPr>
            <p:cNvPr id="1" name=""/>
            <p:cNvSpPr/>
            <p:nvPr/>
          </p:nvSpPr>
          <p:spPr>
            <a:xfrm>
              <a:off x="3657600" y="2298600"/>
              <a:ext cx="2025720" cy="52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657600" y="1709640"/>
              <a:ext cx="20257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ubdirección de Diseño de Herramientas Geren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683320" y="2298600"/>
              <a:ext cx="1009440" cy="52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98600"/>
              <a:ext cx="1244520" cy="52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98600"/>
              <a:ext cx="1052640" cy="52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98600"/>
              <a:ext cx="1055520" cy="52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683320" y="1709640"/>
              <a:ext cx="10094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Áreas que integran la Dir. Gral. De Planeación y Desarrollo en Salud o Entidades Estatales y Federativ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413080" y="1709640"/>
              <a:ext cx="1244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 Sistemas Geren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6044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2298600"/>
              <a:ext cx="638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7567560"/>
              <a:ext cx="6387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1709640"/>
              <a:ext cx="0" cy="5857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60440" y="1709640"/>
              <a:ext cx="0" cy="585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413080" y="1709640"/>
              <a:ext cx="0" cy="585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657600" y="1709640"/>
              <a:ext cx="0" cy="585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692760" y="1709640"/>
              <a:ext cx="0" cy="5857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60440" y="1709640"/>
              <a:ext cx="22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657600" y="1709640"/>
              <a:ext cx="3035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83320" y="1709640"/>
              <a:ext cx="0" cy="585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3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d</a:t>
              </a:r>
              <a:r>
                <a:rPr b="0" lang="es-MX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señar Herramientas para la Gerencia en la Atención a la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Sistemas Gerenci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2080"/>
          </a:xfrm>
          <a:prstGeom prst="rect">
            <a:avLst/>
          </a:prstGeom>
          <a:ln w="0">
            <a:noFill/>
          </a:ln>
        </p:spPr>
      </p:pic>
      <p:grpSp>
        <p:nvGrpSpPr>
          <p:cNvPr id="39" name=""/>
          <p:cNvGrpSpPr/>
          <p:nvPr/>
        </p:nvGrpSpPr>
        <p:grpSpPr>
          <a:xfrm>
            <a:off x="304920" y="7848720"/>
            <a:ext cx="6324480" cy="1096920"/>
            <a:chOff x="304920" y="7848720"/>
            <a:chExt cx="6324480" cy="1096920"/>
          </a:xfrm>
        </p:grpSpPr>
        <p:sp>
          <p:nvSpPr>
            <p:cNvPr id="40" name=""/>
            <p:cNvSpPr/>
            <p:nvPr/>
          </p:nvSpPr>
          <p:spPr>
            <a:xfrm>
              <a:off x="4800600" y="8077320"/>
              <a:ext cx="1828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895480" y="8077320"/>
              <a:ext cx="1905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14400" y="8077320"/>
              <a:ext cx="1981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8077320"/>
              <a:ext cx="609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00600" y="8731080"/>
              <a:ext cx="18288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5480" y="8731080"/>
              <a:ext cx="1905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14400" y="8731080"/>
              <a:ext cx="1981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8731080"/>
              <a:ext cx="6094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00600" y="8520120"/>
              <a:ext cx="18288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95480" y="8520120"/>
              <a:ext cx="19051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8520120"/>
              <a:ext cx="19810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8520120"/>
              <a:ext cx="6094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829152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HECTOR ROBLEDO GALV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95480" y="829152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GONZALEZ ISASS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14400" y="829152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MARISOL COLIN DIA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9152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15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85201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9456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940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9548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006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304920" y="1709640"/>
            <a:ext cx="6387840" cy="5857920"/>
            <a:chOff x="304920" y="1709640"/>
            <a:chExt cx="6387840" cy="5857920"/>
          </a:xfrm>
        </p:grpSpPr>
        <p:sp>
          <p:nvSpPr>
            <p:cNvPr id="105" name=""/>
            <p:cNvSpPr/>
            <p:nvPr/>
          </p:nvSpPr>
          <p:spPr>
            <a:xfrm>
              <a:off x="3657600" y="2298600"/>
              <a:ext cx="2025720" cy="52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7600" y="1709640"/>
              <a:ext cx="20257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ubdirección de Diseño de Herramientas Geren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3320" y="2298600"/>
              <a:ext cx="1009440" cy="52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13080" y="2298600"/>
              <a:ext cx="1244520" cy="52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60440" y="2298600"/>
              <a:ext cx="1052640" cy="52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2298600"/>
              <a:ext cx="1055520" cy="52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83320" y="1709640"/>
              <a:ext cx="10094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Áreas que integran la Dir. Gral. De Planeación y Desarrollo en Salud o Entidades Estatales y Federativ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13080" y="1709640"/>
              <a:ext cx="1244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 Sistemas Geren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6044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4920" y="2298600"/>
              <a:ext cx="638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920" y="7567560"/>
              <a:ext cx="6387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4920" y="1709640"/>
              <a:ext cx="0" cy="5857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60440" y="1709640"/>
              <a:ext cx="0" cy="585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13080" y="1709640"/>
              <a:ext cx="0" cy="585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57600" y="1709640"/>
              <a:ext cx="0" cy="585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92760" y="1709640"/>
              <a:ext cx="0" cy="5857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60440" y="1709640"/>
              <a:ext cx="22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7600" y="1709640"/>
              <a:ext cx="3035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83320" y="1709640"/>
              <a:ext cx="0" cy="585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127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79 de 111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d</a:t>
              </a:r>
              <a:r>
                <a:rPr b="0" lang="es-MX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señar Herramientas para la Gerencia en la Atención a la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Sistemas Gerenci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208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304920" y="7848720"/>
            <a:ext cx="6324480" cy="1096920"/>
            <a:chOff x="304920" y="7848720"/>
            <a:chExt cx="6324480" cy="1096920"/>
          </a:xfrm>
        </p:grpSpPr>
        <p:sp>
          <p:nvSpPr>
            <p:cNvPr id="144" name=""/>
            <p:cNvSpPr/>
            <p:nvPr/>
          </p:nvSpPr>
          <p:spPr>
            <a:xfrm>
              <a:off x="4800600" y="8077320"/>
              <a:ext cx="1828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95480" y="8077320"/>
              <a:ext cx="1905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4400" y="8077320"/>
              <a:ext cx="1981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4920" y="8077320"/>
              <a:ext cx="609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00600" y="8731080"/>
              <a:ext cx="18288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8731080"/>
              <a:ext cx="1905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8731080"/>
              <a:ext cx="1981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920" y="8731080"/>
              <a:ext cx="6094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00600" y="8520120"/>
              <a:ext cx="18288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95480" y="8520120"/>
              <a:ext cx="19051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8520120"/>
              <a:ext cx="19810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8520120"/>
              <a:ext cx="6094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00600" y="829152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HECTOR ROBLEDO GALV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95480" y="829152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GONZALEZ ISASS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829152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MARISOL COLIN DIA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920" y="829152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4920" y="82915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85201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920" y="89456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9400" y="7848720"/>
              <a:ext cx="0" cy="109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144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9548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00600" y="8077320"/>
              <a:ext cx="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V="1" rot="10800000">
            <a:off x="2768760" y="4101120"/>
            <a:ext cx="1295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2360" y="71928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Hoja: 79 de 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4287240" y="6210360"/>
            <a:ext cx="654480" cy="435240"/>
            <a:chOff x="4287240" y="6210360"/>
            <a:chExt cx="654480" cy="435240"/>
          </a:xfrm>
        </p:grpSpPr>
        <p:sp>
          <p:nvSpPr>
            <p:cNvPr id="211" name=""/>
            <p:cNvSpPr/>
            <p:nvPr/>
          </p:nvSpPr>
          <p:spPr>
            <a:xfrm>
              <a:off x="4332240" y="6210360"/>
              <a:ext cx="609480" cy="2516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87240" y="6277320"/>
              <a:ext cx="61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ocumento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362480" y="4597560"/>
            <a:ext cx="648720" cy="252720"/>
            <a:chOff x="4362480" y="4597560"/>
            <a:chExt cx="648720" cy="252720"/>
          </a:xfrm>
        </p:grpSpPr>
        <p:sp>
          <p:nvSpPr>
            <p:cNvPr id="214" name=""/>
            <p:cNvSpPr/>
            <p:nvPr/>
          </p:nvSpPr>
          <p:spPr>
            <a:xfrm>
              <a:off x="4402080" y="4597560"/>
              <a:ext cx="609120" cy="2520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62480" y="4664880"/>
              <a:ext cx="593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ocument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8680" y="24192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0960" y="25765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c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cesidad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45160" y="4197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46680" y="58752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49800" y="437688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scar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4480" y="545616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finir los termin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referenc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5" idx="2"/>
            <a:endCxn id="223" idx="0"/>
          </p:cNvCxnSpPr>
          <p:nvPr/>
        </p:nvCxnSpPr>
        <p:spPr>
          <a:xfrm flipH="1" rot="16200000">
            <a:off x="3065040" y="5374800"/>
            <a:ext cx="162360" cy="1080"/>
          </a:xfrm>
          <a:prstGeom prst="bentConnector3">
            <a:avLst>
              <a:gd name="adj1" fmla="val 5066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6" name=""/>
          <p:cNvSpPr/>
          <p:nvPr/>
        </p:nvSpPr>
        <p:spPr>
          <a:xfrm>
            <a:off x="3616200" y="498312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30720" y="373536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finir tip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 Herramien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340160" y="6889680"/>
            <a:ext cx="662040" cy="252720"/>
            <a:chOff x="4340160" y="6889680"/>
            <a:chExt cx="662040" cy="252720"/>
          </a:xfrm>
        </p:grpSpPr>
        <p:sp>
          <p:nvSpPr>
            <p:cNvPr id="229" name=""/>
            <p:cNvSpPr/>
            <p:nvPr/>
          </p:nvSpPr>
          <p:spPr>
            <a:xfrm>
              <a:off x="4392720" y="6889680"/>
              <a:ext cx="609480" cy="2520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40160" y="6957000"/>
              <a:ext cx="593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ocument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581360" y="7338960"/>
            <a:ext cx="15264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/>
          <p:nvPr/>
        </p:nvCxnSpPr>
        <p:spPr>
          <a:xfrm>
            <a:off x="4659120" y="7145280"/>
            <a:ext cx="5400" cy="192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33" name=""/>
          <p:cNvSpPr/>
          <p:nvPr/>
        </p:nvSpPr>
        <p:spPr>
          <a:xfrm>
            <a:off x="2844720" y="430704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finir 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quiere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nsultorí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endCxn id="227" idx="0"/>
          </p:cNvCxnSpPr>
          <p:nvPr/>
        </p:nvCxnSpPr>
        <p:spPr>
          <a:xfrm flipH="1">
            <a:off x="4562640" y="2885760"/>
            <a:ext cx="16200" cy="849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35" name=""/>
          <p:cNvCxnSpPr>
            <a:endCxn id="222" idx="0"/>
          </p:cNvCxnSpPr>
          <p:nvPr/>
        </p:nvCxnSpPr>
        <p:spPr>
          <a:xfrm>
            <a:off x="4574880" y="4052880"/>
            <a:ext cx="7200" cy="324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5" name=""/>
          <p:cNvSpPr/>
          <p:nvPr/>
        </p:nvSpPr>
        <p:spPr>
          <a:xfrm>
            <a:off x="2863800" y="4805280"/>
            <a:ext cx="56376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29320" y="495792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87400" y="523080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10560" y="488808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/>
          <p:nvPr/>
        </p:nvCxnSpPr>
        <p:spPr>
          <a:xfrm flipV="1">
            <a:off x="3431880" y="5049000"/>
            <a:ext cx="16092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0" name=""/>
          <p:cNvCxnSpPr/>
          <p:nvPr/>
        </p:nvCxnSpPr>
        <p:spPr>
          <a:xfrm>
            <a:off x="4603320" y="6060600"/>
            <a:ext cx="1080" cy="1962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1" name=""/>
          <p:cNvSpPr/>
          <p:nvPr/>
        </p:nvSpPr>
        <p:spPr>
          <a:xfrm>
            <a:off x="3405240" y="42037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94080" y="6643800"/>
            <a:ext cx="663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plicación de l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ueba Pilot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>
            <a:off x="4641480" y="6467040"/>
            <a:ext cx="1080" cy="1962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" name=""/>
          <p:cNvCxnSpPr/>
          <p:nvPr/>
        </p:nvCxnSpPr>
        <p:spPr>
          <a:xfrm flipH="1" flipV="1" rot="5400000">
            <a:off x="3366360" y="1938600"/>
            <a:ext cx="456120" cy="1728000"/>
          </a:xfrm>
          <a:prstGeom prst="bentConnector5">
            <a:avLst>
              <a:gd name="adj1" fmla="val -50157"/>
              <a:gd name="adj2" fmla="val 49989"/>
              <a:gd name="adj3" fmla="val 15015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45" name=""/>
          <p:cNvGrpSpPr/>
          <p:nvPr/>
        </p:nvGrpSpPr>
        <p:grpSpPr>
          <a:xfrm>
            <a:off x="1452960" y="2998800"/>
            <a:ext cx="697320" cy="252360"/>
            <a:chOff x="1452960" y="2998800"/>
            <a:chExt cx="697320" cy="252360"/>
          </a:xfrm>
        </p:grpSpPr>
        <p:sp>
          <p:nvSpPr>
            <p:cNvPr id="246" name=""/>
            <p:cNvSpPr/>
            <p:nvPr/>
          </p:nvSpPr>
          <p:spPr>
            <a:xfrm>
              <a:off x="1506600" y="29988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52960" y="3065760"/>
              <a:ext cx="697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18040" y="3003480"/>
            <a:ext cx="697320" cy="343800"/>
            <a:chOff x="518040" y="3003480"/>
            <a:chExt cx="697320" cy="343800"/>
          </a:xfrm>
        </p:grpSpPr>
        <p:sp>
          <p:nvSpPr>
            <p:cNvPr id="249" name=""/>
            <p:cNvSpPr/>
            <p:nvPr/>
          </p:nvSpPr>
          <p:spPr>
            <a:xfrm>
              <a:off x="571680" y="30034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8040" y="3070440"/>
              <a:ext cx="697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7432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 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23840" y="2584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1" idx="2"/>
            <a:endCxn id="252" idx="0"/>
          </p:cNvCxnSpPr>
          <p:nvPr/>
        </p:nvCxnSpPr>
        <p:spPr>
          <a:xfrm flipH="1">
            <a:off x="838440" y="2590920"/>
            <a:ext cx="1800" cy="152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55" name=""/>
          <p:cNvSpPr/>
          <p:nvPr/>
        </p:nvSpPr>
        <p:spPr>
          <a:xfrm>
            <a:off x="1467000" y="27162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l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 y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76400" y="25653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3680" y="27255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l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62520" y="26020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47" idx="2"/>
            <a:endCxn id="257" idx="0"/>
          </p:cNvCxnSpPr>
          <p:nvPr/>
        </p:nvCxnSpPr>
        <p:spPr>
          <a:xfrm flipH="1" flipV="1" rot="5400000">
            <a:off x="2057040" y="2469960"/>
            <a:ext cx="525960" cy="1037520"/>
          </a:xfrm>
          <a:prstGeom prst="bentConnector5">
            <a:avLst>
              <a:gd name="adj1" fmla="val -43150"/>
              <a:gd name="adj2" fmla="val 151683"/>
              <a:gd name="adj3" fmla="val 144109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60" name=""/>
          <p:cNvCxnSpPr/>
          <p:nvPr/>
        </p:nvCxnSpPr>
        <p:spPr>
          <a:xfrm flipH="1" flipV="1" rot="5400000">
            <a:off x="1052640" y="2482920"/>
            <a:ext cx="559080" cy="993960"/>
          </a:xfrm>
          <a:prstGeom prst="bentConnector5">
            <a:avLst>
              <a:gd name="adj1" fmla="val -40914"/>
              <a:gd name="adj2" fmla="val 44565"/>
              <a:gd name="adj3" fmla="val 140979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61" name=""/>
          <p:cNvSpPr/>
          <p:nvPr/>
        </p:nvSpPr>
        <p:spPr>
          <a:xfrm>
            <a:off x="4884840" y="65800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33" idx="2"/>
            <a:endCxn id="225" idx="0"/>
          </p:cNvCxnSpPr>
          <p:nvPr/>
        </p:nvCxnSpPr>
        <p:spPr>
          <a:xfrm flipH="1">
            <a:off x="3145680" y="4611600"/>
            <a:ext cx="4320" cy="1940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63" name=""/>
          <p:cNvSpPr/>
          <p:nvPr/>
        </p:nvSpPr>
        <p:spPr>
          <a:xfrm>
            <a:off x="4255920" y="5996160"/>
            <a:ext cx="663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opilación de 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15" idx="2"/>
            <a:endCxn id="233" idx="0"/>
          </p:cNvCxnSpPr>
          <p:nvPr/>
        </p:nvCxnSpPr>
        <p:spPr>
          <a:xfrm flipV="1" rot="16200000">
            <a:off x="3632760" y="3823560"/>
            <a:ext cx="543600" cy="1509840"/>
          </a:xfrm>
          <a:prstGeom prst="bentConnector5">
            <a:avLst>
              <a:gd name="adj1" fmla="val -41749"/>
              <a:gd name="adj2" fmla="val 49558"/>
              <a:gd name="adj3" fmla="val 1426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23" idx="2"/>
            <a:endCxn id="263" idx="0"/>
          </p:cNvCxnSpPr>
          <p:nvPr/>
        </p:nvCxnSpPr>
        <p:spPr>
          <a:xfrm flipH="1" rot="16200000">
            <a:off x="3749760" y="5157720"/>
            <a:ext cx="235440" cy="1441800"/>
          </a:xfrm>
          <a:prstGeom prst="bentConnector5">
            <a:avLst>
              <a:gd name="adj1" fmla="val 98468"/>
              <a:gd name="adj2" fmla="val 50024"/>
              <a:gd name="adj3" fmla="val 1531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66" name=""/>
          <p:cNvSpPr/>
          <p:nvPr/>
        </p:nvSpPr>
        <p:spPr>
          <a:xfrm>
            <a:off x="5651640" y="760320"/>
            <a:ext cx="88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Hoja: 78 de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5883120" y="6559560"/>
            <a:ext cx="662040" cy="252720"/>
            <a:chOff x="5883120" y="6559560"/>
            <a:chExt cx="662040" cy="252720"/>
          </a:xfrm>
        </p:grpSpPr>
        <p:sp>
          <p:nvSpPr>
            <p:cNvPr id="268" name=""/>
            <p:cNvSpPr/>
            <p:nvPr/>
          </p:nvSpPr>
          <p:spPr>
            <a:xfrm>
              <a:off x="5935680" y="6559560"/>
              <a:ext cx="609480" cy="2520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3120" y="6626880"/>
              <a:ext cx="593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ocument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214880" y="270360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nalizar resultad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l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uebas pilot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7080" y="2592360"/>
            <a:ext cx="315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54640" y="232884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4536720" y="2473200"/>
            <a:ext cx="3960" cy="231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74" name=""/>
          <p:cNvGrpSpPr/>
          <p:nvPr/>
        </p:nvGrpSpPr>
        <p:grpSpPr>
          <a:xfrm>
            <a:off x="2471760" y="3767040"/>
            <a:ext cx="963360" cy="1375920"/>
            <a:chOff x="2471760" y="3767040"/>
            <a:chExt cx="963360" cy="1375920"/>
          </a:xfrm>
        </p:grpSpPr>
        <p:sp>
          <p:nvSpPr>
            <p:cNvPr id="275" name=""/>
            <p:cNvSpPr/>
            <p:nvPr/>
          </p:nvSpPr>
          <p:spPr>
            <a:xfrm>
              <a:off x="2471760" y="3808440"/>
              <a:ext cx="663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probación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 los Resulta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98760" y="4385160"/>
              <a:ext cx="563400" cy="4892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endCxn id="276" idx="0"/>
            </p:cNvCxnSpPr>
            <p:nvPr/>
          </p:nvCxnSpPr>
          <p:spPr>
            <a:xfrm>
              <a:off x="2777760" y="4113360"/>
              <a:ext cx="3960" cy="272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278" name=""/>
            <p:cNvSpPr/>
            <p:nvPr/>
          </p:nvSpPr>
          <p:spPr>
            <a:xfrm>
              <a:off x="2544840" y="454392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oce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21000" y="4578840"/>
              <a:ext cx="114120" cy="1396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/>
            <p:nvPr/>
          </p:nvCxnSpPr>
          <p:spPr>
            <a:xfrm>
              <a:off x="3074760" y="4642560"/>
              <a:ext cx="20880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281" name=""/>
            <p:cNvSpPr/>
            <p:nvPr/>
          </p:nvSpPr>
          <p:spPr>
            <a:xfrm>
              <a:off x="3008880" y="4448880"/>
              <a:ext cx="278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34920" y="4957560"/>
              <a:ext cx="252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í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68640" y="376704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276440" y="5302080"/>
            <a:ext cx="662040" cy="252720"/>
            <a:chOff x="4276440" y="5302080"/>
            <a:chExt cx="662040" cy="252720"/>
          </a:xfrm>
        </p:grpSpPr>
        <p:sp>
          <p:nvSpPr>
            <p:cNvPr id="285" name=""/>
            <p:cNvSpPr/>
            <p:nvPr/>
          </p:nvSpPr>
          <p:spPr>
            <a:xfrm>
              <a:off x="4329000" y="5302080"/>
              <a:ext cx="609480" cy="2523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76440" y="5369400"/>
              <a:ext cx="593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ocument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282920" y="6000840"/>
            <a:ext cx="662040" cy="252720"/>
            <a:chOff x="4282920" y="6000840"/>
            <a:chExt cx="662040" cy="252720"/>
          </a:xfrm>
        </p:grpSpPr>
        <p:sp>
          <p:nvSpPr>
            <p:cNvPr id="288" name=""/>
            <p:cNvSpPr/>
            <p:nvPr/>
          </p:nvSpPr>
          <p:spPr>
            <a:xfrm>
              <a:off x="4335480" y="6000840"/>
              <a:ext cx="609480" cy="2520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82920" y="6068160"/>
              <a:ext cx="593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ocument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257360" y="6705720"/>
            <a:ext cx="662040" cy="252720"/>
            <a:chOff x="4257360" y="6705720"/>
            <a:chExt cx="662040" cy="252720"/>
          </a:xfrm>
        </p:grpSpPr>
        <p:sp>
          <p:nvSpPr>
            <p:cNvPr id="291" name=""/>
            <p:cNvSpPr/>
            <p:nvPr/>
          </p:nvSpPr>
          <p:spPr>
            <a:xfrm>
              <a:off x="4309920" y="6705720"/>
              <a:ext cx="609480" cy="2520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57360" y="6773040"/>
              <a:ext cx="593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ocument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4265640" y="507852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Manu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46680" y="562752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6560" y="645948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re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 compromis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32360" y="7035840"/>
            <a:ext cx="66384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5640" y="575136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fini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pues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capacit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53160" y="630720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2240" y="498636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69400" y="613584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/>
          <p:nvPr/>
        </p:nvCxnSpPr>
        <p:spPr>
          <a:xfrm flipH="1">
            <a:off x="4602960" y="5571720"/>
            <a:ext cx="3960" cy="1670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02" name=""/>
          <p:cNvCxnSpPr>
            <a:stCxn id="289" idx="2"/>
            <a:endCxn id="295" idx="0"/>
          </p:cNvCxnSpPr>
          <p:nvPr/>
        </p:nvCxnSpPr>
        <p:spPr>
          <a:xfrm flipH="1">
            <a:off x="4578120" y="6252840"/>
            <a:ext cx="2160" cy="207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03" name=""/>
          <p:cNvCxnSpPr/>
          <p:nvPr/>
        </p:nvCxnSpPr>
        <p:spPr>
          <a:xfrm flipH="1">
            <a:off x="6184080" y="6803640"/>
            <a:ext cx="3960" cy="1670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4" name=""/>
          <p:cNvSpPr/>
          <p:nvPr/>
        </p:nvSpPr>
        <p:spPr>
          <a:xfrm>
            <a:off x="4264200" y="327492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/>
          <p:nvPr/>
        </p:nvCxnSpPr>
        <p:spPr>
          <a:xfrm>
            <a:off x="4840200" y="3517560"/>
            <a:ext cx="2088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6" name=""/>
          <p:cNvSpPr/>
          <p:nvPr/>
        </p:nvSpPr>
        <p:spPr>
          <a:xfrm>
            <a:off x="4748760" y="333864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99040" y="344160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02000" y="3421080"/>
            <a:ext cx="470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/>
          <p:nvPr/>
        </p:nvCxnSpPr>
        <p:spPr>
          <a:xfrm>
            <a:off x="4536720" y="3008160"/>
            <a:ext cx="3960" cy="27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10" name=""/>
          <p:cNvSpPr/>
          <p:nvPr/>
        </p:nvSpPr>
        <p:spPr>
          <a:xfrm>
            <a:off x="4297320" y="376380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4880" y="389736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e adapta 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Herramien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46440" y="376560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1" idx="2"/>
            <a:endCxn id="275" idx="0"/>
          </p:cNvCxnSpPr>
          <p:nvPr/>
        </p:nvCxnSpPr>
        <p:spPr>
          <a:xfrm flipV="1" rot="16200000">
            <a:off x="3477600" y="3133440"/>
            <a:ext cx="394560" cy="1743480"/>
          </a:xfrm>
          <a:prstGeom prst="bentConnector5">
            <a:avLst>
              <a:gd name="adj1" fmla="val -57990"/>
              <a:gd name="adj2" fmla="val 50000"/>
              <a:gd name="adj3" fmla="val 157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76" idx="2"/>
            <a:endCxn id="315" idx="0"/>
          </p:cNvCxnSpPr>
          <p:nvPr/>
        </p:nvCxnSpPr>
        <p:spPr>
          <a:xfrm flipV="1" rot="10800000">
            <a:off x="2780640" y="4874760"/>
            <a:ext cx="1080" cy="248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5751360" y="6294600"/>
            <a:ext cx="663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pl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 la Herramien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/>
          <p:nvPr/>
        </p:nvCxnSpPr>
        <p:spPr>
          <a:xfrm flipH="1" flipV="1" rot="5400000">
            <a:off x="4986720" y="5860440"/>
            <a:ext cx="662400" cy="1529640"/>
          </a:xfrm>
          <a:prstGeom prst="bentConnector5">
            <a:avLst>
              <a:gd name="adj1" fmla="val -34529"/>
              <a:gd name="adj2" fmla="val 48893"/>
              <a:gd name="adj3" fmla="val 134529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15" name=""/>
          <p:cNvSpPr/>
          <p:nvPr/>
        </p:nvSpPr>
        <p:spPr>
          <a:xfrm>
            <a:off x="2449440" y="512280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ntinuar co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5" idx="2"/>
            <a:endCxn id="293" idx="0"/>
          </p:cNvCxnSpPr>
          <p:nvPr/>
        </p:nvCxnSpPr>
        <p:spPr>
          <a:xfrm flipH="1" flipV="1" rot="5400000">
            <a:off x="3513600" y="4344480"/>
            <a:ext cx="349920" cy="1816920"/>
          </a:xfrm>
          <a:prstGeom prst="bentConnector5">
            <a:avLst>
              <a:gd name="adj1" fmla="val -65396"/>
              <a:gd name="adj2" fmla="val 50000"/>
              <a:gd name="adj3" fmla="val 165396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19" name=""/>
          <p:cNvSpPr/>
          <p:nvPr/>
        </p:nvSpPr>
        <p:spPr>
          <a:xfrm>
            <a:off x="5651640" y="760320"/>
            <a:ext cx="88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Hoja: 79 de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ICTORIAR</cp:lastModifiedBy>
  <dcterms:modified xsi:type="dcterms:W3CDTF">2005-08-10T16:04:32Z</dcterms:modified>
  <cp:revision>54</cp:revision>
  <dc:subject/>
  <dc:title>Presentación de PowerPoint</dc:title>
</cp:coreProperties>
</file>