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30240"/>
            <a:chOff x="304920" y="228600"/>
            <a:chExt cx="6324480" cy="930240"/>
          </a:xfrm>
        </p:grpSpPr>
        <p:sp>
          <p:nvSpPr>
            <p:cNvPr id="26" name=""/>
            <p:cNvSpPr/>
            <p:nvPr/>
          </p:nvSpPr>
          <p:spPr>
            <a:xfrm>
              <a:off x="5537160" y="701640"/>
              <a:ext cx="1092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32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01640"/>
              <a:ext cx="410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la organización de pláticas y eventos para fortalecer el desempeño de los responsables de procesos en la cadena de suministr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37160" y="441360"/>
              <a:ext cx="10922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41360"/>
              <a:ext cx="41083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37160" y="228600"/>
              <a:ext cx="10922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1083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58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30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37160" y="228600"/>
              <a:ext cx="0" cy="9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30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413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016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411200" y="3259080"/>
            <a:ext cx="662040" cy="252360"/>
            <a:chOff x="1411200" y="3259080"/>
            <a:chExt cx="662040" cy="252360"/>
          </a:xfrm>
        </p:grpSpPr>
        <p:sp>
          <p:nvSpPr>
            <p:cNvPr id="72" name=""/>
            <p:cNvSpPr/>
            <p:nvPr/>
          </p:nvSpPr>
          <p:spPr>
            <a:xfrm>
              <a:off x="1463760" y="3259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11200" y="33260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2040" y="3360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63760" y="42908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resultad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plá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8880" y="4146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1880" y="4773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880" y="2762280"/>
            <a:ext cx="609480" cy="297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organiza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áticas y even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9760" y="305604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rgan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plá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even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/>
          <p:nvPr/>
        </p:nvCxnSpPr>
        <p:spPr>
          <a:xfrm flipH="1" flipV="1" rot="5400000">
            <a:off x="1279440" y="2623680"/>
            <a:ext cx="3960" cy="867600"/>
          </a:xfrm>
          <a:prstGeom prst="bentConnector5">
            <a:avLst>
              <a:gd name="adj1" fmla="val -7200000"/>
              <a:gd name="adj2" fmla="val 49979"/>
              <a:gd name="adj3" fmla="val 7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855800" y="2922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7680" y="562608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880" y="49165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bre resultad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plá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 rot="5400000">
            <a:off x="1146960" y="4295520"/>
            <a:ext cx="321480" cy="92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>
            <a:off x="847800" y="5221440"/>
            <a:ext cx="2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527200" y="35002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n plá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 even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H="1" rot="16200000">
            <a:off x="2296800" y="2965680"/>
            <a:ext cx="5400" cy="1064520"/>
          </a:xfrm>
          <a:prstGeom prst="bentConnector5">
            <a:avLst>
              <a:gd name="adj1" fmla="val 5100000"/>
              <a:gd name="adj2" fmla="val 50000"/>
              <a:gd name="adj3" fmla="val -4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rot="5400000">
            <a:off x="2056680" y="3515760"/>
            <a:ext cx="486360" cy="106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6629040" y="1172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44:23Z</dcterms:modified>
  <cp:revision>5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2561261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1684052665</vt:r8>
  </property>
</Properties>
</file>