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Desarrollo de la Cultura Organizac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promover la preparación de planes estatales de acción para  el Desarrollo de la Cultura Organizacional en las unidades de salu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 de Desarrollo de Sustentabilidad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lián Mendoza Fl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María Sol Aguilar Núñ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548800" y="3367080"/>
            <a:ext cx="671760" cy="264600"/>
            <a:chOff x="2548800" y="3367080"/>
            <a:chExt cx="671760" cy="264600"/>
          </a:xfrm>
        </p:grpSpPr>
        <p:sp>
          <p:nvSpPr>
            <p:cNvPr id="110" name=""/>
            <p:cNvSpPr/>
            <p:nvPr/>
          </p:nvSpPr>
          <p:spPr>
            <a:xfrm>
              <a:off x="2602800" y="3367080"/>
              <a:ext cx="617760" cy="2646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8800" y="34376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80440" y="6137280"/>
            <a:ext cx="667440" cy="259920"/>
            <a:chOff x="4780440" y="6137280"/>
            <a:chExt cx="667440" cy="259920"/>
          </a:xfrm>
        </p:grpSpPr>
        <p:sp>
          <p:nvSpPr>
            <p:cNvPr id="113" name=""/>
            <p:cNvSpPr/>
            <p:nvPr/>
          </p:nvSpPr>
          <p:spPr>
            <a:xfrm>
              <a:off x="4832640" y="6137280"/>
              <a:ext cx="6152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0440" y="6206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0800" y="3086280"/>
            <a:ext cx="662400" cy="281880"/>
            <a:chOff x="1540800" y="3086280"/>
            <a:chExt cx="662400" cy="281880"/>
          </a:xfrm>
        </p:grpSpPr>
        <p:sp>
          <p:nvSpPr>
            <p:cNvPr id="116" name=""/>
            <p:cNvSpPr/>
            <p:nvPr/>
          </p:nvSpPr>
          <p:spPr>
            <a:xfrm>
              <a:off x="1593720" y="3086280"/>
              <a:ext cx="609480" cy="2818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0" y="3161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21760" y="5986440"/>
            <a:ext cx="668880" cy="258480"/>
            <a:chOff x="4721760" y="5986440"/>
            <a:chExt cx="668880" cy="258480"/>
          </a:xfrm>
        </p:grpSpPr>
        <p:sp>
          <p:nvSpPr>
            <p:cNvPr id="119" name=""/>
            <p:cNvSpPr/>
            <p:nvPr/>
          </p:nvSpPr>
          <p:spPr>
            <a:xfrm>
              <a:off x="4775760" y="5986440"/>
              <a:ext cx="614880" cy="258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1760" y="605520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4200" y="23511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23840" y="2441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2"/>
            <a:endCxn id="125" idx="0"/>
          </p:cNvCxnSpPr>
          <p:nvPr/>
        </p:nvCxnSpPr>
        <p:spPr>
          <a:xfrm>
            <a:off x="816120" y="2503440"/>
            <a:ext cx="14400" cy="238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1541520" y="2878200"/>
            <a:ext cx="6206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2478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9" idx="2"/>
            <a:endCxn id="126" idx="0"/>
          </p:cNvCxnSpPr>
          <p:nvPr/>
        </p:nvCxnSpPr>
        <p:spPr>
          <a:xfrm flipH="1" flipV="1" rot="5400000">
            <a:off x="1194120" y="2569680"/>
            <a:ext cx="349200" cy="966240"/>
          </a:xfrm>
          <a:prstGeom prst="bentConnector5">
            <a:avLst>
              <a:gd name="adj1" fmla="val -70691"/>
              <a:gd name="adj2" fmla="val -55572"/>
              <a:gd name="adj3" fmla="val 16635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0" name=""/>
          <p:cNvCxnSpPr>
            <a:stCxn id="116" idx="2"/>
            <a:endCxn id="131" idx="0"/>
          </p:cNvCxnSpPr>
          <p:nvPr/>
        </p:nvCxnSpPr>
        <p:spPr>
          <a:xfrm flipH="1" flipV="1" rot="5400000">
            <a:off x="2258280" y="2783160"/>
            <a:ext cx="208800" cy="928440"/>
          </a:xfrm>
          <a:prstGeom prst="bentConnector5">
            <a:avLst>
              <a:gd name="adj1" fmla="val -162867"/>
              <a:gd name="adj2" fmla="val 157680"/>
              <a:gd name="adj3" fmla="val 21105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4075200" y="3025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4792680"/>
            <a:ext cx="6206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er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9080" y="5214960"/>
            <a:ext cx="585720" cy="469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40120" y="535140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60840" y="538308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/>
          <p:nvPr/>
        </p:nvCxnSpPr>
        <p:spPr>
          <a:xfrm flipV="1">
            <a:off x="5292720" y="5449320"/>
            <a:ext cx="164160" cy="6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5128200" y="51292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54440" y="5789520"/>
            <a:ext cx="631800" cy="301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oficio 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. a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D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 flipH="1">
            <a:off x="4987440" y="5670360"/>
            <a:ext cx="5760" cy="121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4572000" y="5560920"/>
            <a:ext cx="293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0600" y="6683400"/>
            <a:ext cx="666720" cy="306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y segui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76560" y="2863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27560" y="3122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3" idx="2"/>
          </p:cNvCxnSpPr>
          <p:nvPr/>
        </p:nvCxnSpPr>
        <p:spPr>
          <a:xfrm>
            <a:off x="5014080" y="5097600"/>
            <a:ext cx="9360" cy="126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6" name=""/>
          <p:cNvCxnSpPr/>
          <p:nvPr/>
        </p:nvCxnSpPr>
        <p:spPr>
          <a:xfrm>
            <a:off x="3952440" y="7007040"/>
            <a:ext cx="1080" cy="186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2522520" y="3143160"/>
            <a:ext cx="608040" cy="316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10" idx="2"/>
            <a:endCxn id="148" idx="0"/>
          </p:cNvCxnSpPr>
          <p:nvPr/>
        </p:nvCxnSpPr>
        <p:spPr>
          <a:xfrm flipH="1" flipV="1" rot="5400000">
            <a:off x="3322080" y="2966040"/>
            <a:ext cx="240120" cy="1060920"/>
          </a:xfrm>
          <a:prstGeom prst="bentConnector5">
            <a:avLst>
              <a:gd name="adj1" fmla="val -124624"/>
              <a:gd name="adj2" fmla="val 150848"/>
              <a:gd name="adj3" fmla="val 19654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9" name=""/>
          <p:cNvGrpSpPr/>
          <p:nvPr/>
        </p:nvGrpSpPr>
        <p:grpSpPr>
          <a:xfrm>
            <a:off x="3673440" y="3614760"/>
            <a:ext cx="662040" cy="248040"/>
            <a:chOff x="3673440" y="3614760"/>
            <a:chExt cx="662040" cy="248040"/>
          </a:xfrm>
        </p:grpSpPr>
        <p:sp>
          <p:nvSpPr>
            <p:cNvPr id="150" name=""/>
            <p:cNvSpPr/>
            <p:nvPr/>
          </p:nvSpPr>
          <p:spPr>
            <a:xfrm>
              <a:off x="3726000" y="3614760"/>
              <a:ext cx="609480" cy="235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3677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664080" y="3376440"/>
            <a:ext cx="615960" cy="306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comu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 impulsa prep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3" idx="2"/>
            <a:endCxn id="154" idx="0"/>
          </p:cNvCxnSpPr>
          <p:nvPr/>
        </p:nvCxnSpPr>
        <p:spPr>
          <a:xfrm flipH="1" flipV="1" rot="5400000">
            <a:off x="5357520" y="3471120"/>
            <a:ext cx="297720" cy="1096200"/>
          </a:xfrm>
          <a:prstGeom prst="bentConnector5">
            <a:avLst>
              <a:gd name="adj1" fmla="val -76271"/>
              <a:gd name="adj2" fmla="val 45006"/>
              <a:gd name="adj3" fmla="val 1779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5" name=""/>
          <p:cNvGrpSpPr/>
          <p:nvPr/>
        </p:nvGrpSpPr>
        <p:grpSpPr>
          <a:xfrm>
            <a:off x="5853960" y="4241880"/>
            <a:ext cx="682200" cy="252360"/>
            <a:chOff x="5853960" y="4241880"/>
            <a:chExt cx="682200" cy="252360"/>
          </a:xfrm>
        </p:grpSpPr>
        <p:sp>
          <p:nvSpPr>
            <p:cNvPr id="156" name=""/>
            <p:cNvSpPr/>
            <p:nvPr/>
          </p:nvSpPr>
          <p:spPr>
            <a:xfrm>
              <a:off x="5906160" y="4241880"/>
              <a:ext cx="61812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3960" y="4308840"/>
              <a:ext cx="682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56" idx="2"/>
            <a:endCxn id="133" idx="0"/>
          </p:cNvCxnSpPr>
          <p:nvPr/>
        </p:nvCxnSpPr>
        <p:spPr>
          <a:xfrm rot="5400000">
            <a:off x="5457240" y="4034880"/>
            <a:ext cx="315000" cy="1201320"/>
          </a:xfrm>
          <a:prstGeom prst="bentConnector5">
            <a:avLst>
              <a:gd name="adj1" fmla="val 78375"/>
              <a:gd name="adj2" fmla="val 49940"/>
              <a:gd name="adj3" fmla="val 2631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9" name=""/>
          <p:cNvCxnSpPr/>
          <p:nvPr/>
        </p:nvCxnSpPr>
        <p:spPr>
          <a:xfrm rot="5400000">
            <a:off x="4322880" y="6071040"/>
            <a:ext cx="283320" cy="983160"/>
          </a:xfrm>
          <a:prstGeom prst="bentConnector3">
            <a:avLst>
              <a:gd name="adj1" fmla="val 2239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0" name=""/>
          <p:cNvSpPr/>
          <p:nvPr/>
        </p:nvSpPr>
        <p:spPr>
          <a:xfrm>
            <a:off x="3875040" y="71866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0" idx="2"/>
            <a:endCxn id="162" idx="0"/>
          </p:cNvCxnSpPr>
          <p:nvPr/>
        </p:nvCxnSpPr>
        <p:spPr>
          <a:xfrm flipH="1" flipV="1" rot="5400000">
            <a:off x="4449240" y="3243600"/>
            <a:ext cx="174240" cy="1011600"/>
          </a:xfrm>
          <a:prstGeom prst="bentConnector5">
            <a:avLst>
              <a:gd name="adj1" fmla="val -141200"/>
              <a:gd name="adj2" fmla="val -53079"/>
              <a:gd name="adj3" fmla="val 2606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6213600" y="3262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6880" y="4495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8120" y="2990880"/>
            <a:ext cx="662400" cy="252360"/>
            <a:chOff x="528120" y="2990880"/>
            <a:chExt cx="662400" cy="252360"/>
          </a:xfrm>
        </p:grpSpPr>
        <p:sp>
          <p:nvSpPr>
            <p:cNvPr id="129" name=""/>
            <p:cNvSpPr/>
            <p:nvPr/>
          </p:nvSpPr>
          <p:spPr>
            <a:xfrm>
              <a:off x="581040" y="299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8120" y="30578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121280" y="6159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2741760"/>
            <a:ext cx="603360" cy="317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ruye se pro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prep. plane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51280" y="3919680"/>
            <a:ext cx="662040" cy="248040"/>
            <a:chOff x="4751280" y="3919680"/>
            <a:chExt cx="662040" cy="248040"/>
          </a:xfrm>
        </p:grpSpPr>
        <p:sp>
          <p:nvSpPr>
            <p:cNvPr id="169" name=""/>
            <p:cNvSpPr/>
            <p:nvPr/>
          </p:nvSpPr>
          <p:spPr>
            <a:xfrm>
              <a:off x="4803840" y="3919680"/>
              <a:ext cx="609480" cy="235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51280" y="398232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814720" y="4097160"/>
            <a:ext cx="662040" cy="248040"/>
            <a:chOff x="5814720" y="4097160"/>
            <a:chExt cx="662040" cy="248040"/>
          </a:xfrm>
        </p:grpSpPr>
        <p:sp>
          <p:nvSpPr>
            <p:cNvPr id="171" name=""/>
            <p:cNvSpPr/>
            <p:nvPr/>
          </p:nvSpPr>
          <p:spPr>
            <a:xfrm>
              <a:off x="5867280" y="4097160"/>
              <a:ext cx="609480" cy="2354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4720" y="41598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734000" y="3662280"/>
            <a:ext cx="615960" cy="320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2000" y="3870360"/>
            <a:ext cx="623880" cy="312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 42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60840" y="2684520"/>
            <a:ext cx="585720" cy="469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93360" y="5559480"/>
            <a:ext cx="711360" cy="255240"/>
            <a:chOff x="1593360" y="5559480"/>
            <a:chExt cx="711360" cy="255240"/>
          </a:xfrm>
        </p:grpSpPr>
        <p:sp>
          <p:nvSpPr>
            <p:cNvPr id="176" name=""/>
            <p:cNvSpPr/>
            <p:nvPr/>
          </p:nvSpPr>
          <p:spPr>
            <a:xfrm>
              <a:off x="1648800" y="5559480"/>
              <a:ext cx="655920" cy="2552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93360" y="5627520"/>
              <a:ext cx="68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644920" y="4633920"/>
            <a:ext cx="717120" cy="259920"/>
            <a:chOff x="2644920" y="4633920"/>
            <a:chExt cx="717120" cy="259920"/>
          </a:xfrm>
        </p:grpSpPr>
        <p:sp>
          <p:nvSpPr>
            <p:cNvPr id="179" name=""/>
            <p:cNvSpPr/>
            <p:nvPr/>
          </p:nvSpPr>
          <p:spPr>
            <a:xfrm>
              <a:off x="2702880" y="4633920"/>
              <a:ext cx="65412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44920" y="4703040"/>
              <a:ext cx="71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875040" y="23302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3951000" y="2494080"/>
            <a:ext cx="1080" cy="1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3" name=""/>
          <p:cNvSpPr/>
          <p:nvPr/>
        </p:nvSpPr>
        <p:spPr>
          <a:xfrm>
            <a:off x="3702240" y="2808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3952440" y="3157560"/>
            <a:ext cx="252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5" name=""/>
          <p:cNvCxnSpPr/>
          <p:nvPr/>
        </p:nvCxnSpPr>
        <p:spPr>
          <a:xfrm>
            <a:off x="4259160" y="2910960"/>
            <a:ext cx="17712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6" name=""/>
          <p:cNvSpPr/>
          <p:nvPr/>
        </p:nvSpPr>
        <p:spPr>
          <a:xfrm>
            <a:off x="4365720" y="278280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09760" y="29782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26370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731400" y="3711600"/>
            <a:ext cx="689760" cy="259920"/>
            <a:chOff x="3731400" y="3711600"/>
            <a:chExt cx="689760" cy="259920"/>
          </a:xfrm>
        </p:grpSpPr>
        <p:sp>
          <p:nvSpPr>
            <p:cNvPr id="190" name=""/>
            <p:cNvSpPr/>
            <p:nvPr/>
          </p:nvSpPr>
          <p:spPr>
            <a:xfrm>
              <a:off x="3783240" y="3711600"/>
              <a:ext cx="6152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1400" y="3780720"/>
              <a:ext cx="68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635280" y="3543480"/>
            <a:ext cx="714240" cy="259920"/>
            <a:chOff x="3635280" y="3543480"/>
            <a:chExt cx="714240" cy="259920"/>
          </a:xfrm>
        </p:grpSpPr>
        <p:sp>
          <p:nvSpPr>
            <p:cNvPr id="193" name=""/>
            <p:cNvSpPr/>
            <p:nvPr/>
          </p:nvSpPr>
          <p:spPr>
            <a:xfrm>
              <a:off x="3691800" y="3543480"/>
              <a:ext cx="65772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35280" y="36126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08280" y="3319560"/>
            <a:ext cx="676440" cy="320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 integ pla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c en unid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 inform a  DDS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880" y="66549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360" y="3759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46594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120" y="56307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76" idx="2"/>
          </p:cNvCxnSpPr>
          <p:nvPr/>
        </p:nvCxnSpPr>
        <p:spPr>
          <a:xfrm rot="5400000">
            <a:off x="1225080" y="5408280"/>
            <a:ext cx="361080" cy="1145520"/>
          </a:xfrm>
          <a:prstGeom prst="bentConnector3">
            <a:avLst>
              <a:gd name="adj1" fmla="val 5189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1" name=""/>
          <p:cNvGrpSpPr/>
          <p:nvPr/>
        </p:nvGrpSpPr>
        <p:grpSpPr>
          <a:xfrm>
            <a:off x="2598480" y="4506840"/>
            <a:ext cx="714240" cy="248040"/>
            <a:chOff x="2598480" y="4506840"/>
            <a:chExt cx="714240" cy="248040"/>
          </a:xfrm>
        </p:grpSpPr>
        <p:sp>
          <p:nvSpPr>
            <p:cNvPr id="202" name=""/>
            <p:cNvSpPr/>
            <p:nvPr/>
          </p:nvSpPr>
          <p:spPr>
            <a:xfrm>
              <a:off x="2655000" y="4506840"/>
              <a:ext cx="657720" cy="23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98480" y="4569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4" name=""/>
          <p:cNvCxnSpPr/>
          <p:nvPr/>
        </p:nvCxnSpPr>
        <p:spPr>
          <a:xfrm>
            <a:off x="829800" y="6476760"/>
            <a:ext cx="2520" cy="162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5" name=""/>
          <p:cNvSpPr/>
          <p:nvPr/>
        </p:nvSpPr>
        <p:spPr>
          <a:xfrm>
            <a:off x="2598840" y="4237200"/>
            <a:ext cx="66348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/>
          <p:nvPr/>
        </p:nvCxnSpPr>
        <p:spPr>
          <a:xfrm rot="5400000">
            <a:off x="2403720" y="4556520"/>
            <a:ext cx="283320" cy="983520"/>
          </a:xfrm>
          <a:prstGeom prst="bentConnector3">
            <a:avLst>
              <a:gd name="adj1" fmla="val 2798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7" name=""/>
          <p:cNvCxnSpPr/>
          <p:nvPr/>
        </p:nvCxnSpPr>
        <p:spPr>
          <a:xfrm rot="5400000">
            <a:off x="3351240" y="3623400"/>
            <a:ext cx="282960" cy="983160"/>
          </a:xfrm>
          <a:prstGeom prst="bentConnector3">
            <a:avLst>
              <a:gd name="adj1" fmla="val 2802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8" name=""/>
          <p:cNvGrpSpPr/>
          <p:nvPr/>
        </p:nvGrpSpPr>
        <p:grpSpPr>
          <a:xfrm>
            <a:off x="1541160" y="5398920"/>
            <a:ext cx="714240" cy="248040"/>
            <a:chOff x="1541160" y="5398920"/>
            <a:chExt cx="714240" cy="248040"/>
          </a:xfrm>
        </p:grpSpPr>
        <p:sp>
          <p:nvSpPr>
            <p:cNvPr id="209" name=""/>
            <p:cNvSpPr/>
            <p:nvPr/>
          </p:nvSpPr>
          <p:spPr>
            <a:xfrm>
              <a:off x="1597680" y="5398920"/>
              <a:ext cx="657720" cy="23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1160" y="5461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544760" y="5146560"/>
            <a:ext cx="66348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9760" y="6164280"/>
            <a:ext cx="66348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43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14:22Z</dcterms:modified>
  <cp:revision>61</cp:revision>
  <dc:subject/>
  <dc:title>Presentación de PowerPoint</dc:title>
</cp:coreProperties>
</file>