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04920" y="1709640"/>
            <a:ext cx="6324480" cy="5856480"/>
            <a:chOff x="304920" y="1709640"/>
            <a:chExt cx="6324480" cy="5856480"/>
          </a:xfrm>
        </p:grpSpPr>
        <p:sp>
          <p:nvSpPr>
            <p:cNvPr id="1" name=""/>
            <p:cNvSpPr/>
            <p:nvPr/>
          </p:nvSpPr>
          <p:spPr>
            <a:xfrm>
              <a:off x="5576760" y="2298600"/>
              <a:ext cx="105264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521240" y="2298600"/>
              <a:ext cx="105552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68600" y="2298600"/>
              <a:ext cx="105264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413080" y="2298600"/>
              <a:ext cx="105552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360440" y="2298600"/>
              <a:ext cx="105264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04920" y="2298600"/>
              <a:ext cx="105552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576760" y="1709640"/>
              <a:ext cx="105264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521240" y="1709640"/>
              <a:ext cx="105552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Entidad Federativ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68600" y="1709640"/>
              <a:ext cx="105264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Subdirección de Diseño de Unidades de Atención a la Salu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13080" y="1709640"/>
              <a:ext cx="105552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de  Espacios para la Salu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360440" y="1709640"/>
              <a:ext cx="105264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General Adjunta de Diseño de Sistemas de Salud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04920" y="1709640"/>
              <a:ext cx="105552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General de Planeación y Desarrollo en Salud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04920" y="229860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304920" y="756612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4920" y="1709640"/>
              <a:ext cx="0" cy="58564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60440" y="1709640"/>
              <a:ext cx="0" cy="585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13080" y="1709640"/>
              <a:ext cx="0" cy="585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468600" y="1709640"/>
              <a:ext cx="0" cy="585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521240" y="1709640"/>
              <a:ext cx="0" cy="585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576760" y="1709640"/>
              <a:ext cx="0" cy="585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6629400" y="1709640"/>
              <a:ext cx="0" cy="58564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60440" y="1709640"/>
              <a:ext cx="210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04920" y="1709640"/>
              <a:ext cx="10555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468600" y="1709640"/>
              <a:ext cx="3160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" name=""/>
          <p:cNvGrpSpPr/>
          <p:nvPr/>
        </p:nvGrpSpPr>
        <p:grpSpPr>
          <a:xfrm>
            <a:off x="304920" y="228600"/>
            <a:ext cx="6324480" cy="914400"/>
            <a:chOff x="304920" y="228600"/>
            <a:chExt cx="6324480" cy="914400"/>
          </a:xfrm>
        </p:grpSpPr>
        <p:sp>
          <p:nvSpPr>
            <p:cNvPr id="26" name=""/>
            <p:cNvSpPr/>
            <p:nvPr/>
          </p:nvSpPr>
          <p:spPr>
            <a:xfrm>
              <a:off x="5638680" y="716040"/>
              <a:ext cx="990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Hoja:    de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28840" y="716040"/>
              <a:ext cx="4209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Nombre del Procedimiento: para asesoría a las entidades federativas en la integración de proyectos arquitectónicos de las unidades de atención a la salud</a:t>
              </a: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638680" y="455760"/>
              <a:ext cx="99072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Rev.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428840" y="455760"/>
              <a:ext cx="42098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Dirección de Espacios para la Salud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5638680" y="228600"/>
              <a:ext cx="99072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Código: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428840" y="228600"/>
              <a:ext cx="42098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Arial"/>
                </a:rPr>
                <a:t>MANUAL DE PROCEDIMIENTO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304920" y="228600"/>
              <a:ext cx="11239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304920" y="2286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04920" y="11430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304920" y="228600"/>
              <a:ext cx="0" cy="91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28840" y="2286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638680" y="2286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6629400" y="228600"/>
              <a:ext cx="0" cy="91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428840" y="45576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1428840" y="71604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90720" cy="53028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304920" y="7848720"/>
            <a:ext cx="6324480" cy="1095120"/>
            <a:chOff x="304920" y="7848720"/>
            <a:chExt cx="6324480" cy="1095120"/>
          </a:xfrm>
        </p:grpSpPr>
        <p:sp>
          <p:nvSpPr>
            <p:cNvPr id="43" name=""/>
            <p:cNvSpPr/>
            <p:nvPr/>
          </p:nvSpPr>
          <p:spPr>
            <a:xfrm>
              <a:off x="4800600" y="8077320"/>
              <a:ext cx="18288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utoriz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74880" y="8077320"/>
              <a:ext cx="2025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Revis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14400" y="8077320"/>
              <a:ext cx="18604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Elabor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04920" y="8077320"/>
              <a:ext cx="6094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800600" y="8731080"/>
              <a:ext cx="18288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-AGOSTO-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74880" y="8731080"/>
              <a:ext cx="2025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-AGOSTO-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14400" y="8731080"/>
              <a:ext cx="18604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-AGOSTO-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04920" y="8731080"/>
              <a:ext cx="6094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ech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0600" y="851868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74880" y="8518680"/>
              <a:ext cx="20257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14400" y="8518680"/>
              <a:ext cx="1860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920" y="851868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irm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00600" y="8290080"/>
              <a:ext cx="1828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G. GABRIEL NÚÑEZ URQUIZA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774880" y="8290080"/>
              <a:ext cx="2025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G. </a:t>
              </a:r>
              <a:r>
                <a:rPr b="1" lang="es-E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GREGORIO SÁNCHEZ VÁZQUEZ</a:t>
              </a:r>
              <a:r>
                <a:rPr b="1" lang="es-E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14400" y="8290080"/>
              <a:ext cx="1860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IC. SOFIA NEME NEUMIER</a:t>
              </a:r>
              <a:r>
                <a:rPr b="1" lang="es-E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4920" y="8290080"/>
              <a:ext cx="609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Nomb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4920" y="7848720"/>
              <a:ext cx="6324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CONTROL DE EMISIÓ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04920" y="784872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04920" y="829008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4920" y="851868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4920" y="873108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4920" y="894384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04920" y="7848720"/>
              <a:ext cx="0" cy="1095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629400" y="7848720"/>
              <a:ext cx="0" cy="1095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04920" y="80773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14400" y="807732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774880" y="807732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00600" y="807732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3724200" y="5619600"/>
            <a:ext cx="662040" cy="252360"/>
            <a:chOff x="3724200" y="5619600"/>
            <a:chExt cx="662040" cy="252360"/>
          </a:xfrm>
        </p:grpSpPr>
        <p:sp>
          <p:nvSpPr>
            <p:cNvPr id="108" name=""/>
            <p:cNvSpPr/>
            <p:nvPr/>
          </p:nvSpPr>
          <p:spPr>
            <a:xfrm>
              <a:off x="3776760" y="561960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724200" y="5686560"/>
              <a:ext cx="3970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Oficio.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302400" y="1325520"/>
            <a:ext cx="203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5.0 Diagrama del 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1760400"/>
            <a:ext cx="183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22600" y="2349360"/>
            <a:ext cx="663480" cy="15264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647800" y="2654280"/>
            <a:ext cx="60984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termina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 cartill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38480" y="249552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12" idx="2"/>
            <a:endCxn id="113" idx="0"/>
          </p:cNvCxnSpPr>
          <p:nvPr/>
        </p:nvCxnSpPr>
        <p:spPr>
          <a:xfrm flipH="1">
            <a:off x="2952720" y="2502000"/>
            <a:ext cx="2160" cy="1526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16" name=""/>
          <p:cNvSpPr/>
          <p:nvPr/>
        </p:nvSpPr>
        <p:spPr>
          <a:xfrm>
            <a:off x="3720960" y="2689200"/>
            <a:ext cx="60984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ibe inst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y genera plan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rabaj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30720" y="254016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3" idx="2"/>
            <a:endCxn id="116" idx="0"/>
          </p:cNvCxnSpPr>
          <p:nvPr/>
        </p:nvCxnSpPr>
        <p:spPr>
          <a:xfrm flipH="1" flipV="1" rot="5400000">
            <a:off x="3354120" y="2287800"/>
            <a:ext cx="270360" cy="1073520"/>
          </a:xfrm>
          <a:prstGeom prst="bentConnector5">
            <a:avLst>
              <a:gd name="adj1" fmla="val -85733"/>
              <a:gd name="adj2" fmla="val 50016"/>
              <a:gd name="adj3" fmla="val 185866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19" name=""/>
          <p:cNvSpPr/>
          <p:nvPr/>
        </p:nvSpPr>
        <p:spPr>
          <a:xfrm>
            <a:off x="3657600" y="5396040"/>
            <a:ext cx="60948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Genera ofici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 notificación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aller a Ent. Fed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22720" y="512604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22" idx="2"/>
            <a:endCxn id="119" idx="0"/>
          </p:cNvCxnSpPr>
          <p:nvPr/>
        </p:nvCxnSpPr>
        <p:spPr>
          <a:xfrm flipH="1" rot="16200000">
            <a:off x="2209680" y="3643200"/>
            <a:ext cx="292680" cy="3213360"/>
          </a:xfrm>
          <a:prstGeom prst="bentConnector5">
            <a:avLst>
              <a:gd name="adj1" fmla="val 79310"/>
              <a:gd name="adj2" fmla="val 49983"/>
              <a:gd name="adj3" fmla="val 20812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23" name=""/>
          <p:cNvCxnSpPr>
            <a:stCxn id="108" idx="2"/>
            <a:endCxn id="124" idx="0"/>
          </p:cNvCxnSpPr>
          <p:nvPr/>
        </p:nvCxnSpPr>
        <p:spPr>
          <a:xfrm flipV="1" rot="16200000">
            <a:off x="3414240" y="5188320"/>
            <a:ext cx="177480" cy="1157760"/>
          </a:xfrm>
          <a:prstGeom prst="bentConnector5">
            <a:avLst>
              <a:gd name="adj1" fmla="val -139227"/>
              <a:gd name="adj2" fmla="val 48864"/>
              <a:gd name="adj3" fmla="val 230691"/>
            </a:avLst>
          </a:prstGeom>
          <a:ln w="6480">
            <a:solidFill>
              <a:srgbClr val="000000"/>
            </a:solidFill>
            <a:miter/>
          </a:ln>
        </p:spPr>
      </p:cxnSp>
      <p:grpSp>
        <p:nvGrpSpPr>
          <p:cNvPr id="125" name=""/>
          <p:cNvGrpSpPr/>
          <p:nvPr/>
        </p:nvGrpSpPr>
        <p:grpSpPr>
          <a:xfrm>
            <a:off x="3670560" y="3378240"/>
            <a:ext cx="695880" cy="252360"/>
            <a:chOff x="3670560" y="3378240"/>
            <a:chExt cx="695880" cy="252360"/>
          </a:xfrm>
        </p:grpSpPr>
        <p:sp>
          <p:nvSpPr>
            <p:cNvPr id="126" name=""/>
            <p:cNvSpPr/>
            <p:nvPr/>
          </p:nvSpPr>
          <p:spPr>
            <a:xfrm>
              <a:off x="3722760" y="337824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670560" y="3445200"/>
              <a:ext cx="6958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Plan de trabaj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3683160" y="315108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Aprobación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lan de trbaj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41800" y="300204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60760" y="336708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y revisión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lan de trabaj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13280" y="322740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17760" y="468468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Continua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"/>
          <p:cNvCxnSpPr>
            <a:stCxn id="134" idx="3"/>
            <a:endCxn id="135" idx="2"/>
          </p:cNvCxnSpPr>
          <p:nvPr/>
        </p:nvCxnSpPr>
        <p:spPr>
          <a:xfrm>
            <a:off x="2071440" y="4257720"/>
            <a:ext cx="208800" cy="3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36" name=""/>
          <p:cNvCxnSpPr>
            <a:endCxn id="132" idx="0"/>
          </p:cNvCxnSpPr>
          <p:nvPr/>
        </p:nvCxnSpPr>
        <p:spPr>
          <a:xfrm>
            <a:off x="1797120" y="4501800"/>
            <a:ext cx="25920" cy="183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137" name=""/>
          <p:cNvGrpSpPr/>
          <p:nvPr/>
        </p:nvGrpSpPr>
        <p:grpSpPr>
          <a:xfrm>
            <a:off x="1508040" y="3873600"/>
            <a:ext cx="885960" cy="807840"/>
            <a:chOff x="1508040" y="3873600"/>
            <a:chExt cx="885960" cy="807840"/>
          </a:xfrm>
        </p:grpSpPr>
        <p:sp>
          <p:nvSpPr>
            <p:cNvPr id="135" name=""/>
            <p:cNvSpPr/>
            <p:nvPr/>
          </p:nvSpPr>
          <p:spPr>
            <a:xfrm>
              <a:off x="2279880" y="4191120"/>
              <a:ext cx="114120" cy="13968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1508040" y="3873600"/>
              <a:ext cx="794520" cy="807840"/>
              <a:chOff x="1508040" y="3873600"/>
              <a:chExt cx="794520" cy="807840"/>
            </a:xfrm>
          </p:grpSpPr>
          <p:cxnSp>
            <p:nvCxnSpPr>
              <p:cNvPr id="139" name=""/>
              <p:cNvCxnSpPr/>
              <p:nvPr/>
            </p:nvCxnSpPr>
            <p:spPr>
              <a:xfrm>
                <a:off x="1779480" y="3873600"/>
                <a:ext cx="2160" cy="13356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sm" type="triangle" w="sm"/>
              </a:ln>
            </p:spPr>
          </p:cxnSp>
          <p:sp>
            <p:nvSpPr>
              <p:cNvPr id="134" name=""/>
              <p:cNvSpPr/>
              <p:nvPr/>
            </p:nvSpPr>
            <p:spPr>
              <a:xfrm>
                <a:off x="1508040" y="4013280"/>
                <a:ext cx="563400" cy="488880"/>
              </a:xfrm>
              <a:prstGeom prst="flowChartDecisi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541520" y="4140360"/>
                <a:ext cx="4658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600" spc="-1" strike="noStrike">
                    <a:solidFill>
                      <a:srgbClr val="000000"/>
                    </a:solidFill>
                    <a:latin typeface="Arial"/>
                  </a:rPr>
                  <a:t>Proced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1" name=""/>
              <p:cNvGrpSpPr/>
              <p:nvPr/>
            </p:nvGrpSpPr>
            <p:grpSpPr>
              <a:xfrm>
                <a:off x="1591920" y="4102200"/>
                <a:ext cx="710640" cy="579240"/>
                <a:chOff x="1591920" y="4102200"/>
                <a:chExt cx="710640" cy="5792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2024280" y="4102200"/>
                  <a:ext cx="27828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600" spc="-1" strike="noStrike">
                      <a:solidFill>
                        <a:srgbClr val="000000"/>
                      </a:solidFill>
                      <a:latin typeface="Arial"/>
                    </a:rPr>
                    <a:t>No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591920" y="4496040"/>
                  <a:ext cx="25236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600" spc="-1" strike="noStrike">
                      <a:solidFill>
                        <a:srgbClr val="000000"/>
                      </a:solidFill>
                      <a:latin typeface="Arial"/>
                    </a:rPr>
                    <a:t>Sí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4" name=""/>
          <p:cNvSpPr/>
          <p:nvPr/>
        </p:nvSpPr>
        <p:spPr>
          <a:xfrm>
            <a:off x="2592360" y="5678640"/>
            <a:ext cx="66348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de ofici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 convocatori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65400" y="552924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701720" y="7160760"/>
            <a:ext cx="152280" cy="344880"/>
            <a:chOff x="1701720" y="7160760"/>
            <a:chExt cx="152280" cy="344880"/>
          </a:xfrm>
        </p:grpSpPr>
        <p:sp>
          <p:nvSpPr>
            <p:cNvPr id="146" name=""/>
            <p:cNvSpPr/>
            <p:nvPr/>
          </p:nvSpPr>
          <p:spPr>
            <a:xfrm>
              <a:off x="1701720" y="7359480"/>
              <a:ext cx="152280" cy="146160"/>
            </a:xfrm>
            <a:prstGeom prst="flowChartOffpage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7" name=""/>
            <p:cNvCxnSpPr>
              <a:endCxn id="146" idx="0"/>
            </p:cNvCxnSpPr>
            <p:nvPr/>
          </p:nvCxnSpPr>
          <p:spPr>
            <a:xfrm flipH="1">
              <a:off x="1778040" y="7160760"/>
              <a:ext cx="1800" cy="19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sm" type="triangle" w="sm"/>
            </a:ln>
          </p:spPr>
        </p:cxnSp>
      </p:grpSp>
      <p:cxnSp>
        <p:nvCxnSpPr>
          <p:cNvPr id="148" name=""/>
          <p:cNvCxnSpPr>
            <a:stCxn id="126" idx="2"/>
            <a:endCxn id="130" idx="0"/>
          </p:cNvCxnSpPr>
          <p:nvPr/>
        </p:nvCxnSpPr>
        <p:spPr>
          <a:xfrm flipV="1" rot="16200000">
            <a:off x="3373200" y="2959560"/>
            <a:ext cx="247680" cy="1062360"/>
          </a:xfrm>
          <a:prstGeom prst="bentConnector5">
            <a:avLst>
              <a:gd name="adj1" fmla="val -116885"/>
              <a:gd name="adj2" fmla="val 150542"/>
              <a:gd name="adj3" fmla="val 193886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149" name=""/>
          <p:cNvGrpSpPr/>
          <p:nvPr/>
        </p:nvGrpSpPr>
        <p:grpSpPr>
          <a:xfrm>
            <a:off x="1484280" y="3259080"/>
            <a:ext cx="731880" cy="609480"/>
            <a:chOff x="1484280" y="3259080"/>
            <a:chExt cx="731880" cy="609480"/>
          </a:xfrm>
        </p:grpSpPr>
        <p:grpSp>
          <p:nvGrpSpPr>
            <p:cNvPr id="150" name=""/>
            <p:cNvGrpSpPr/>
            <p:nvPr/>
          </p:nvGrpSpPr>
          <p:grpSpPr>
            <a:xfrm>
              <a:off x="1529640" y="3616200"/>
              <a:ext cx="686520" cy="252360"/>
              <a:chOff x="1529640" y="3616200"/>
              <a:chExt cx="686520" cy="252360"/>
            </a:xfrm>
          </p:grpSpPr>
          <p:sp>
            <p:nvSpPr>
              <p:cNvPr id="151" name=""/>
              <p:cNvSpPr/>
              <p:nvPr/>
            </p:nvSpPr>
            <p:spPr>
              <a:xfrm>
                <a:off x="1582560" y="3616200"/>
                <a:ext cx="609480" cy="250920"/>
              </a:xfrm>
              <a:prstGeom prst="flowChartDocumen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529640" y="3683160"/>
                <a:ext cx="6865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600" spc="-1" strike="noStrike">
                    <a:solidFill>
                      <a:srgbClr val="000000"/>
                    </a:solidFill>
                    <a:latin typeface="Arial"/>
                  </a:rPr>
                  <a:t>Docto. Plan tr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1484280" y="3389400"/>
              <a:ext cx="663480" cy="304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Recepción, y revi-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sión y validació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el plan de trabaj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82880" y="3259080"/>
              <a:ext cx="223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5" name=""/>
          <p:cNvCxnSpPr>
            <a:stCxn id="130" idx="2"/>
            <a:endCxn id="153" idx="0"/>
          </p:cNvCxnSpPr>
          <p:nvPr/>
        </p:nvCxnSpPr>
        <p:spPr>
          <a:xfrm flipV="1" rot="16200000">
            <a:off x="2249640" y="2955600"/>
            <a:ext cx="282960" cy="1149840"/>
          </a:xfrm>
          <a:prstGeom prst="bentConnector5">
            <a:avLst>
              <a:gd name="adj1" fmla="val -81910"/>
              <a:gd name="adj2" fmla="val 48825"/>
              <a:gd name="adj3" fmla="val 182165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56" name=""/>
          <p:cNvCxnSpPr/>
          <p:nvPr/>
        </p:nvCxnSpPr>
        <p:spPr>
          <a:xfrm flipH="1">
            <a:off x="4018680" y="3003480"/>
            <a:ext cx="2520" cy="1533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22" name=""/>
          <p:cNvSpPr/>
          <p:nvPr/>
        </p:nvSpPr>
        <p:spPr>
          <a:xfrm>
            <a:off x="444600" y="4799160"/>
            <a:ext cx="60948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Continua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58" idx="3"/>
            <a:endCxn id="159" idx="2"/>
          </p:cNvCxnSpPr>
          <p:nvPr/>
        </p:nvCxnSpPr>
        <p:spPr>
          <a:xfrm>
            <a:off x="998280" y="4321080"/>
            <a:ext cx="208800" cy="3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60" name=""/>
          <p:cNvCxnSpPr>
            <a:stCxn id="158" idx="2"/>
          </p:cNvCxnSpPr>
          <p:nvPr/>
        </p:nvCxnSpPr>
        <p:spPr>
          <a:xfrm>
            <a:off x="716760" y="4565520"/>
            <a:ext cx="1440" cy="240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161" name=""/>
          <p:cNvGrpSpPr/>
          <p:nvPr/>
        </p:nvGrpSpPr>
        <p:grpSpPr>
          <a:xfrm>
            <a:off x="434880" y="3936960"/>
            <a:ext cx="885960" cy="807840"/>
            <a:chOff x="434880" y="3936960"/>
            <a:chExt cx="885960" cy="807840"/>
          </a:xfrm>
        </p:grpSpPr>
        <p:sp>
          <p:nvSpPr>
            <p:cNvPr id="159" name=""/>
            <p:cNvSpPr/>
            <p:nvPr/>
          </p:nvSpPr>
          <p:spPr>
            <a:xfrm>
              <a:off x="1206720" y="4254480"/>
              <a:ext cx="114120" cy="13968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434880" y="3936960"/>
              <a:ext cx="794520" cy="807840"/>
              <a:chOff x="434880" y="3936960"/>
              <a:chExt cx="794520" cy="807840"/>
            </a:xfrm>
          </p:grpSpPr>
          <p:cxnSp>
            <p:nvCxnSpPr>
              <p:cNvPr id="163" name=""/>
              <p:cNvCxnSpPr/>
              <p:nvPr/>
            </p:nvCxnSpPr>
            <p:spPr>
              <a:xfrm>
                <a:off x="706320" y="3936960"/>
                <a:ext cx="2160" cy="13356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sm" type="triangle" w="sm"/>
              </a:ln>
            </p:spPr>
          </p:cxnSp>
          <p:sp>
            <p:nvSpPr>
              <p:cNvPr id="158" name=""/>
              <p:cNvSpPr/>
              <p:nvPr/>
            </p:nvSpPr>
            <p:spPr>
              <a:xfrm>
                <a:off x="434880" y="4076640"/>
                <a:ext cx="563400" cy="488880"/>
              </a:xfrm>
              <a:prstGeom prst="flowChartDecisi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68360" y="4203720"/>
                <a:ext cx="4658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600" spc="-1" strike="noStrike">
                    <a:solidFill>
                      <a:srgbClr val="000000"/>
                    </a:solidFill>
                    <a:latin typeface="Arial"/>
                  </a:rPr>
                  <a:t>Proced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518760" y="4165560"/>
                <a:ext cx="710640" cy="579240"/>
                <a:chOff x="518760" y="4165560"/>
                <a:chExt cx="710640" cy="57924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951120" y="4165560"/>
                  <a:ext cx="27828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600" spc="-1" strike="noStrike">
                      <a:solidFill>
                        <a:srgbClr val="000000"/>
                      </a:solidFill>
                      <a:latin typeface="Arial"/>
                    </a:rPr>
                    <a:t>No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518760" y="4559400"/>
                  <a:ext cx="25236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600" spc="-1" strike="noStrike">
                      <a:solidFill>
                        <a:srgbClr val="000000"/>
                      </a:solidFill>
                      <a:latin typeface="Arial"/>
                    </a:rPr>
                    <a:t>Sí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68" name=""/>
          <p:cNvGrpSpPr/>
          <p:nvPr/>
        </p:nvGrpSpPr>
        <p:grpSpPr>
          <a:xfrm>
            <a:off x="411120" y="3322800"/>
            <a:ext cx="731880" cy="608760"/>
            <a:chOff x="411120" y="3322800"/>
            <a:chExt cx="731880" cy="608760"/>
          </a:xfrm>
        </p:grpSpPr>
        <p:grpSp>
          <p:nvGrpSpPr>
            <p:cNvPr id="169" name=""/>
            <p:cNvGrpSpPr/>
            <p:nvPr/>
          </p:nvGrpSpPr>
          <p:grpSpPr>
            <a:xfrm>
              <a:off x="456480" y="3679560"/>
              <a:ext cx="686520" cy="252000"/>
              <a:chOff x="456480" y="3679560"/>
              <a:chExt cx="686520" cy="252000"/>
            </a:xfrm>
          </p:grpSpPr>
          <p:sp>
            <p:nvSpPr>
              <p:cNvPr id="170" name=""/>
              <p:cNvSpPr/>
              <p:nvPr/>
            </p:nvSpPr>
            <p:spPr>
              <a:xfrm>
                <a:off x="509400" y="3679560"/>
                <a:ext cx="609480" cy="250560"/>
              </a:xfrm>
              <a:prstGeom prst="flowChartDocumen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56480" y="3746160"/>
                <a:ext cx="6865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600" spc="-1" strike="noStrike">
                    <a:solidFill>
                      <a:srgbClr val="000000"/>
                    </a:solidFill>
                    <a:latin typeface="Arial"/>
                  </a:rPr>
                  <a:t>Docto. Plan tr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411120" y="3452760"/>
              <a:ext cx="663480" cy="30456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Recepción, y revi-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sión y autorizació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el plan de trabaj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09720" y="3322800"/>
              <a:ext cx="223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74" name=""/>
          <p:cNvCxnSpPr>
            <a:stCxn id="132" idx="2"/>
            <a:endCxn id="172" idx="0"/>
          </p:cNvCxnSpPr>
          <p:nvPr/>
        </p:nvCxnSpPr>
        <p:spPr>
          <a:xfrm flipV="1" rot="16200000">
            <a:off x="514440" y="3681000"/>
            <a:ext cx="1537200" cy="1080000"/>
          </a:xfrm>
          <a:prstGeom prst="bentConnector5">
            <a:avLst>
              <a:gd name="adj1" fmla="val -15062"/>
              <a:gd name="adj2" fmla="val -49649"/>
              <a:gd name="adj3" fmla="val 115062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75" name=""/>
          <p:cNvSpPr/>
          <p:nvPr/>
        </p:nvSpPr>
        <p:spPr>
          <a:xfrm>
            <a:off x="1454040" y="6843600"/>
            <a:ext cx="60984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Continua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"/>
          <p:cNvCxnSpPr>
            <a:stCxn id="177" idx="3"/>
            <a:endCxn id="178" idx="2"/>
          </p:cNvCxnSpPr>
          <p:nvPr/>
        </p:nvCxnSpPr>
        <p:spPr>
          <a:xfrm>
            <a:off x="2039760" y="6416640"/>
            <a:ext cx="208800" cy="3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79" name=""/>
          <p:cNvCxnSpPr>
            <a:stCxn id="177" idx="2"/>
            <a:endCxn id="175" idx="0"/>
          </p:cNvCxnSpPr>
          <p:nvPr/>
        </p:nvCxnSpPr>
        <p:spPr>
          <a:xfrm>
            <a:off x="1758240" y="6661080"/>
            <a:ext cx="1080" cy="1828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180" name=""/>
          <p:cNvGrpSpPr/>
          <p:nvPr/>
        </p:nvGrpSpPr>
        <p:grpSpPr>
          <a:xfrm>
            <a:off x="1476360" y="6032520"/>
            <a:ext cx="885960" cy="807840"/>
            <a:chOff x="1476360" y="6032520"/>
            <a:chExt cx="885960" cy="807840"/>
          </a:xfrm>
        </p:grpSpPr>
        <p:sp>
          <p:nvSpPr>
            <p:cNvPr id="178" name=""/>
            <p:cNvSpPr/>
            <p:nvPr/>
          </p:nvSpPr>
          <p:spPr>
            <a:xfrm>
              <a:off x="2248200" y="6350040"/>
              <a:ext cx="114120" cy="13968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1476360" y="6032520"/>
              <a:ext cx="794520" cy="807840"/>
              <a:chOff x="1476360" y="6032520"/>
              <a:chExt cx="794520" cy="807840"/>
            </a:xfrm>
          </p:grpSpPr>
          <p:cxnSp>
            <p:nvCxnSpPr>
              <p:cNvPr id="182" name=""/>
              <p:cNvCxnSpPr/>
              <p:nvPr/>
            </p:nvCxnSpPr>
            <p:spPr>
              <a:xfrm>
                <a:off x="1747800" y="6032520"/>
                <a:ext cx="2160" cy="13356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sm" type="triangle" w="sm"/>
              </a:ln>
            </p:spPr>
          </p:cxnSp>
          <p:sp>
            <p:nvSpPr>
              <p:cNvPr id="177" name=""/>
              <p:cNvSpPr/>
              <p:nvPr/>
            </p:nvSpPr>
            <p:spPr>
              <a:xfrm>
                <a:off x="1476360" y="6172200"/>
                <a:ext cx="563400" cy="488880"/>
              </a:xfrm>
              <a:prstGeom prst="flowChartDecisi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509840" y="6299280"/>
                <a:ext cx="4658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600" spc="-1" strike="noStrike">
                    <a:solidFill>
                      <a:srgbClr val="000000"/>
                    </a:solidFill>
                    <a:latin typeface="Arial"/>
                  </a:rPr>
                  <a:t>Proced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4" name=""/>
              <p:cNvGrpSpPr/>
              <p:nvPr/>
            </p:nvGrpSpPr>
            <p:grpSpPr>
              <a:xfrm>
                <a:off x="1560240" y="6261120"/>
                <a:ext cx="710640" cy="579240"/>
                <a:chOff x="1560240" y="6261120"/>
                <a:chExt cx="710640" cy="57924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1992600" y="6261120"/>
                  <a:ext cx="27828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600" spc="-1" strike="noStrike">
                      <a:solidFill>
                        <a:srgbClr val="000000"/>
                      </a:solidFill>
                      <a:latin typeface="Arial"/>
                    </a:rPr>
                    <a:t>No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1560240" y="6654960"/>
                  <a:ext cx="25236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600" spc="-1" strike="noStrike">
                      <a:solidFill>
                        <a:srgbClr val="000000"/>
                      </a:solidFill>
                      <a:latin typeface="Arial"/>
                    </a:rPr>
                    <a:t>Sí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7" name=""/>
          <p:cNvGrpSpPr/>
          <p:nvPr/>
        </p:nvGrpSpPr>
        <p:grpSpPr>
          <a:xfrm>
            <a:off x="1452600" y="5418000"/>
            <a:ext cx="731880" cy="609480"/>
            <a:chOff x="1452600" y="5418000"/>
            <a:chExt cx="731880" cy="609480"/>
          </a:xfrm>
        </p:grpSpPr>
        <p:grpSp>
          <p:nvGrpSpPr>
            <p:cNvPr id="188" name=""/>
            <p:cNvGrpSpPr/>
            <p:nvPr/>
          </p:nvGrpSpPr>
          <p:grpSpPr>
            <a:xfrm>
              <a:off x="1497960" y="5775120"/>
              <a:ext cx="686520" cy="252360"/>
              <a:chOff x="1497960" y="5775120"/>
              <a:chExt cx="686520" cy="252360"/>
            </a:xfrm>
          </p:grpSpPr>
          <p:sp>
            <p:nvSpPr>
              <p:cNvPr id="189" name=""/>
              <p:cNvSpPr/>
              <p:nvPr/>
            </p:nvSpPr>
            <p:spPr>
              <a:xfrm>
                <a:off x="1550880" y="5775120"/>
                <a:ext cx="609480" cy="250920"/>
              </a:xfrm>
              <a:prstGeom prst="flowChartDocumen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497960" y="5842080"/>
                <a:ext cx="6865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600" spc="-1" strike="noStrike">
                    <a:solidFill>
                      <a:srgbClr val="000000"/>
                    </a:solidFill>
                    <a:latin typeface="Arial"/>
                  </a:rPr>
                  <a:t>Docto. Plan tr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1452600" y="5548320"/>
              <a:ext cx="663480" cy="304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Recepción, y revi-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sión y rubric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el plan de trabaj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951200" y="5418000"/>
              <a:ext cx="223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93" name=""/>
          <p:cNvCxnSpPr>
            <a:stCxn id="124" idx="2"/>
            <a:endCxn id="191" idx="0"/>
          </p:cNvCxnSpPr>
          <p:nvPr/>
        </p:nvCxnSpPr>
        <p:spPr>
          <a:xfrm flipV="1" rot="16200000">
            <a:off x="2136960" y="5195880"/>
            <a:ext cx="435240" cy="1140120"/>
          </a:xfrm>
          <a:prstGeom prst="bentConnector5">
            <a:avLst>
              <a:gd name="adj1" fmla="val -53311"/>
              <a:gd name="adj2" fmla="val 50031"/>
              <a:gd name="adj3" fmla="val 153311"/>
            </a:avLst>
          </a:prstGeom>
          <a:ln w="6480">
            <a:solidFill>
              <a:srgbClr val="000000"/>
            </a:solidFill>
            <a:miter/>
          </a:ln>
        </p:spPr>
      </p:cxnSp>
      <p:sp>
        <p:nvSpPr>
          <p:cNvPr id="194" name=""/>
          <p:cNvSpPr/>
          <p:nvPr/>
        </p:nvSpPr>
        <p:spPr>
          <a:xfrm>
            <a:off x="5597640" y="719280"/>
            <a:ext cx="87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Hoja:25 de 2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619200" y="2378160"/>
            <a:ext cx="152280" cy="145800"/>
          </a:xfrm>
          <a:prstGeom prst="flowChartOffpage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3611520" y="6087960"/>
            <a:ext cx="764640" cy="628560"/>
            <a:chOff x="3611520" y="6087960"/>
            <a:chExt cx="764640" cy="628560"/>
          </a:xfrm>
        </p:grpSpPr>
        <p:grpSp>
          <p:nvGrpSpPr>
            <p:cNvPr id="197" name=""/>
            <p:cNvGrpSpPr/>
            <p:nvPr/>
          </p:nvGrpSpPr>
          <p:grpSpPr>
            <a:xfrm>
              <a:off x="3657600" y="6464160"/>
              <a:ext cx="661680" cy="252360"/>
              <a:chOff x="3657600" y="6464160"/>
              <a:chExt cx="661680" cy="252360"/>
            </a:xfrm>
          </p:grpSpPr>
          <p:sp>
            <p:nvSpPr>
              <p:cNvPr id="198" name=""/>
              <p:cNvSpPr/>
              <p:nvPr/>
            </p:nvSpPr>
            <p:spPr>
              <a:xfrm>
                <a:off x="3709800" y="6464160"/>
                <a:ext cx="609480" cy="250920"/>
              </a:xfrm>
              <a:prstGeom prst="flowChartDocumen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657600" y="6531120"/>
                <a:ext cx="57240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600" spc="-1" strike="noStrike">
                    <a:solidFill>
                      <a:srgbClr val="000000"/>
                    </a:solidFill>
                    <a:latin typeface="Arial"/>
                  </a:rPr>
                  <a:t>Document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>
              <a:off x="3611520" y="6237360"/>
              <a:ext cx="663480" cy="30456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Recepción de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Acuerdos en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el tall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110120" y="6087960"/>
              <a:ext cx="266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2" name=""/>
          <p:cNvCxnSpPr>
            <a:stCxn id="203" idx="2"/>
            <a:endCxn id="204" idx="0"/>
          </p:cNvCxnSpPr>
          <p:nvPr/>
        </p:nvCxnSpPr>
        <p:spPr>
          <a:xfrm flipH="1" rot="16200000">
            <a:off x="2219400" y="4075560"/>
            <a:ext cx="390960" cy="1024920"/>
          </a:xfrm>
          <a:prstGeom prst="bentConnector3">
            <a:avLst>
              <a:gd name="adj1" fmla="val 51612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05" name=""/>
          <p:cNvCxnSpPr>
            <a:stCxn id="206" idx="2"/>
            <a:endCxn id="207" idx="0"/>
          </p:cNvCxnSpPr>
          <p:nvPr/>
        </p:nvCxnSpPr>
        <p:spPr>
          <a:xfrm flipH="1" flipV="1" rot="5400000">
            <a:off x="1125000" y="3498480"/>
            <a:ext cx="302400" cy="1194480"/>
          </a:xfrm>
          <a:prstGeom prst="bentConnector5">
            <a:avLst>
              <a:gd name="adj1" fmla="val -75685"/>
              <a:gd name="adj2" fmla="val 49984"/>
              <a:gd name="adj3" fmla="val 175685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08" name=""/>
          <p:cNvSpPr/>
          <p:nvPr/>
        </p:nvSpPr>
        <p:spPr>
          <a:xfrm>
            <a:off x="2006640" y="3789360"/>
            <a:ext cx="297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545840" y="4156200"/>
            <a:ext cx="662400" cy="252000"/>
            <a:chOff x="1545840" y="4156200"/>
            <a:chExt cx="662400" cy="252000"/>
          </a:xfrm>
        </p:grpSpPr>
        <p:sp>
          <p:nvSpPr>
            <p:cNvPr id="203" name=""/>
            <p:cNvSpPr/>
            <p:nvPr/>
          </p:nvSpPr>
          <p:spPr>
            <a:xfrm>
              <a:off x="1598760" y="415620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545840" y="4222800"/>
              <a:ext cx="3942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1568520" y="394488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Coordinación de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all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032360" y="5192640"/>
            <a:ext cx="328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94240" y="534816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Actividades pre-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vias al taller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"/>
          <p:cNvCxnSpPr/>
          <p:nvPr/>
        </p:nvCxnSpPr>
        <p:spPr>
          <a:xfrm>
            <a:off x="696960" y="2521080"/>
            <a:ext cx="2160" cy="1335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06" name=""/>
          <p:cNvSpPr/>
          <p:nvPr/>
        </p:nvSpPr>
        <p:spPr>
          <a:xfrm>
            <a:off x="374760" y="394164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Continua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stCxn id="215" idx="3"/>
            <a:endCxn id="216" idx="2"/>
          </p:cNvCxnSpPr>
          <p:nvPr/>
        </p:nvCxnSpPr>
        <p:spPr>
          <a:xfrm>
            <a:off x="960480" y="3514320"/>
            <a:ext cx="208800" cy="39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17" name=""/>
          <p:cNvCxnSpPr>
            <a:stCxn id="215" idx="2"/>
            <a:endCxn id="206" idx="0"/>
          </p:cNvCxnSpPr>
          <p:nvPr/>
        </p:nvCxnSpPr>
        <p:spPr>
          <a:xfrm>
            <a:off x="678960" y="3758760"/>
            <a:ext cx="1080" cy="183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218" name=""/>
          <p:cNvGrpSpPr/>
          <p:nvPr/>
        </p:nvGrpSpPr>
        <p:grpSpPr>
          <a:xfrm>
            <a:off x="396720" y="3130560"/>
            <a:ext cx="885960" cy="807840"/>
            <a:chOff x="396720" y="3130560"/>
            <a:chExt cx="885960" cy="807840"/>
          </a:xfrm>
        </p:grpSpPr>
        <p:sp>
          <p:nvSpPr>
            <p:cNvPr id="216" name=""/>
            <p:cNvSpPr/>
            <p:nvPr/>
          </p:nvSpPr>
          <p:spPr>
            <a:xfrm>
              <a:off x="1168560" y="3448080"/>
              <a:ext cx="114120" cy="13968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9" name=""/>
            <p:cNvGrpSpPr/>
            <p:nvPr/>
          </p:nvGrpSpPr>
          <p:grpSpPr>
            <a:xfrm>
              <a:off x="396720" y="3130560"/>
              <a:ext cx="794520" cy="807840"/>
              <a:chOff x="396720" y="3130560"/>
              <a:chExt cx="794520" cy="807840"/>
            </a:xfrm>
          </p:grpSpPr>
          <p:cxnSp>
            <p:nvCxnSpPr>
              <p:cNvPr id="220" name=""/>
              <p:cNvCxnSpPr/>
              <p:nvPr/>
            </p:nvCxnSpPr>
            <p:spPr>
              <a:xfrm>
                <a:off x="668160" y="3130560"/>
                <a:ext cx="2160" cy="13356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sm" type="triangle" w="sm"/>
              </a:ln>
            </p:spPr>
          </p:cxnSp>
          <p:sp>
            <p:nvSpPr>
              <p:cNvPr id="215" name=""/>
              <p:cNvSpPr/>
              <p:nvPr/>
            </p:nvSpPr>
            <p:spPr>
              <a:xfrm>
                <a:off x="396720" y="3270240"/>
                <a:ext cx="563400" cy="488880"/>
              </a:xfrm>
              <a:prstGeom prst="flowChartDecisi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30200" y="3397320"/>
                <a:ext cx="4658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600" spc="-1" strike="noStrike">
                    <a:solidFill>
                      <a:srgbClr val="000000"/>
                    </a:solidFill>
                    <a:latin typeface="Arial"/>
                  </a:rPr>
                  <a:t>Proced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2" name=""/>
              <p:cNvGrpSpPr/>
              <p:nvPr/>
            </p:nvGrpSpPr>
            <p:grpSpPr>
              <a:xfrm>
                <a:off x="480600" y="3359160"/>
                <a:ext cx="710640" cy="579240"/>
                <a:chOff x="480600" y="3359160"/>
                <a:chExt cx="710640" cy="57924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912960" y="3359160"/>
                  <a:ext cx="27828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600" spc="-1" strike="noStrike">
                      <a:solidFill>
                        <a:srgbClr val="000000"/>
                      </a:solidFill>
                      <a:latin typeface="Arial"/>
                    </a:rPr>
                    <a:t>No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480600" y="3753000"/>
                  <a:ext cx="25236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600" spc="-1" strike="noStrike">
                      <a:solidFill>
                        <a:srgbClr val="000000"/>
                      </a:solidFill>
                      <a:latin typeface="Arial"/>
                    </a:rPr>
                    <a:t>Sí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25" name=""/>
          <p:cNvGrpSpPr/>
          <p:nvPr/>
        </p:nvGrpSpPr>
        <p:grpSpPr>
          <a:xfrm>
            <a:off x="372960" y="2516040"/>
            <a:ext cx="764640" cy="609480"/>
            <a:chOff x="372960" y="2516040"/>
            <a:chExt cx="764640" cy="609480"/>
          </a:xfrm>
        </p:grpSpPr>
        <p:grpSp>
          <p:nvGrpSpPr>
            <p:cNvPr id="226" name=""/>
            <p:cNvGrpSpPr/>
            <p:nvPr/>
          </p:nvGrpSpPr>
          <p:grpSpPr>
            <a:xfrm>
              <a:off x="418320" y="2873160"/>
              <a:ext cx="686520" cy="252360"/>
              <a:chOff x="418320" y="2873160"/>
              <a:chExt cx="686520" cy="252360"/>
            </a:xfrm>
          </p:grpSpPr>
          <p:sp>
            <p:nvSpPr>
              <p:cNvPr id="227" name=""/>
              <p:cNvSpPr/>
              <p:nvPr/>
            </p:nvSpPr>
            <p:spPr>
              <a:xfrm>
                <a:off x="471240" y="2873160"/>
                <a:ext cx="609480" cy="250920"/>
              </a:xfrm>
              <a:prstGeom prst="flowChartDocumen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18320" y="2940120"/>
                <a:ext cx="6865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600" spc="-1" strike="noStrike">
                    <a:solidFill>
                      <a:srgbClr val="000000"/>
                    </a:solidFill>
                    <a:latin typeface="Arial"/>
                  </a:rPr>
                  <a:t>Docto. Plan tr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372960" y="2646360"/>
              <a:ext cx="663480" cy="304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Recepción, y revi-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sión y firm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el plan de trabaj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71560" y="2516040"/>
              <a:ext cx="266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3060720" y="4627440"/>
            <a:ext cx="297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2599920" y="4994280"/>
            <a:ext cx="662400" cy="252360"/>
            <a:chOff x="2599920" y="4994280"/>
            <a:chExt cx="662400" cy="252360"/>
          </a:xfrm>
        </p:grpSpPr>
        <p:sp>
          <p:nvSpPr>
            <p:cNvPr id="233" name=""/>
            <p:cNvSpPr/>
            <p:nvPr/>
          </p:nvSpPr>
          <p:spPr>
            <a:xfrm>
              <a:off x="2652840" y="499428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599920" y="5061240"/>
              <a:ext cx="3942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622600" y="478296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Coordinación de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all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070520" y="5656320"/>
            <a:ext cx="32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632040" y="5811840"/>
            <a:ext cx="60984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aliza taller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7" name=""/>
          <p:cNvCxnSpPr/>
          <p:nvPr/>
        </p:nvCxnSpPr>
        <p:spPr>
          <a:xfrm>
            <a:off x="3897360" y="5664240"/>
            <a:ext cx="2160" cy="1335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38" name=""/>
          <p:cNvCxnSpPr>
            <a:endCxn id="212" idx="0"/>
          </p:cNvCxnSpPr>
          <p:nvPr/>
        </p:nvCxnSpPr>
        <p:spPr>
          <a:xfrm>
            <a:off x="2906640" y="5249520"/>
            <a:ext cx="992880" cy="99000"/>
          </a:xfrm>
          <a:prstGeom prst="bentConnector2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39" name=""/>
          <p:cNvCxnSpPr/>
          <p:nvPr/>
        </p:nvCxnSpPr>
        <p:spPr>
          <a:xfrm>
            <a:off x="3941280" y="6108840"/>
            <a:ext cx="2520" cy="1335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40" name=""/>
          <p:cNvSpPr/>
          <p:nvPr/>
        </p:nvSpPr>
        <p:spPr>
          <a:xfrm>
            <a:off x="5591160" y="712800"/>
            <a:ext cx="87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Hoja:26de 2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7:18:20Z</dcterms:created>
  <dc:creator>SECRETARIA DE SALUD</dc:creator>
  <dc:description/>
  <dc:language>en-US</dc:language>
  <cp:lastModifiedBy>VICTORIAR</cp:lastModifiedBy>
  <dcterms:modified xsi:type="dcterms:W3CDTF">2005-08-09T15:40:17Z</dcterms:modified>
  <cp:revision>78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910877957</vt:r8>
  </property>
  <property fmtid="{D5CDD505-2E9C-101B-9397-08002B2CF9AE}" pid="3" name="_AuthorEmail">
    <vt:lpwstr>SOFIAN@DGPEC-S01.SSA.com</vt:lpwstr>
  </property>
  <property fmtid="{D5CDD505-2E9C-101B-9397-08002B2CF9AE}" pid="4" name="_AuthorEmailDisplayName">
    <vt:lpwstr>SOFIA KETRIN NEME MEUNIER</vt:lpwstr>
  </property>
  <property fmtid="{D5CDD505-2E9C-101B-9397-08002B2CF9AE}" pid="5" name="_EmailSubject">
    <vt:lpwstr>Procedimientos</vt:lpwstr>
  </property>
</Properties>
</file>