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04920" y="1590840"/>
            <a:ext cx="6258960" cy="5994000"/>
            <a:chOff x="304920" y="1590840"/>
            <a:chExt cx="6258960" cy="5994000"/>
          </a:xfrm>
        </p:grpSpPr>
        <p:sp>
          <p:nvSpPr>
            <p:cNvPr id="1" name=""/>
            <p:cNvSpPr/>
            <p:nvPr/>
          </p:nvSpPr>
          <p:spPr>
            <a:xfrm>
              <a:off x="5001120" y="2211120"/>
              <a:ext cx="1562400" cy="537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434400" y="2211120"/>
              <a:ext cx="1566720" cy="537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871640" y="2211120"/>
              <a:ext cx="1562400" cy="537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920" y="2211120"/>
              <a:ext cx="1566720" cy="537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01120" y="1590840"/>
              <a:ext cx="1562400" cy="62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Subdirección de Diseño de Herramientas Gerenciale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434400" y="1590840"/>
              <a:ext cx="1566720" cy="62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irección de Sistemas Gerecnciales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871640" y="1590840"/>
              <a:ext cx="1562400" cy="62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irección General Adjunta de Diseño de Sistemas de Salud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04920" y="1590840"/>
              <a:ext cx="1566720" cy="62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irección General de Planeación y Desarrollo en Salud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4920" y="2211120"/>
              <a:ext cx="625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7584840"/>
              <a:ext cx="62589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04920" y="1590840"/>
              <a:ext cx="0" cy="59940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871640" y="1590840"/>
              <a:ext cx="0" cy="599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434400" y="1590840"/>
              <a:ext cx="0" cy="599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001120" y="1590840"/>
              <a:ext cx="0" cy="599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6563880" y="1590840"/>
              <a:ext cx="0" cy="59940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871640" y="1590840"/>
              <a:ext cx="312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04920" y="1590840"/>
              <a:ext cx="15667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01120" y="1590840"/>
              <a:ext cx="15624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" name=""/>
          <p:cNvGrpSpPr/>
          <p:nvPr/>
        </p:nvGrpSpPr>
        <p:grpSpPr>
          <a:xfrm>
            <a:off x="304920" y="228600"/>
            <a:ext cx="6324480" cy="914400"/>
            <a:chOff x="304920" y="228600"/>
            <a:chExt cx="6324480" cy="914400"/>
          </a:xfrm>
        </p:grpSpPr>
        <p:sp>
          <p:nvSpPr>
            <p:cNvPr id="20" name=""/>
            <p:cNvSpPr/>
            <p:nvPr/>
          </p:nvSpPr>
          <p:spPr>
            <a:xfrm>
              <a:off x="5638680" y="716040"/>
              <a:ext cx="9907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Hoja: 71 de 111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428840" y="716040"/>
              <a:ext cx="42098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Nombre del Procedimiento: Para efectuar</a:t>
              </a:r>
              <a:r>
                <a:rPr b="0" lang="es-E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el análisis y la Evaluación de Información Nacional e Internacional sobre Herramientas Gerencial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5638680" y="455760"/>
              <a:ext cx="99072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Rev. No aplic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1428840" y="455760"/>
              <a:ext cx="42098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Dirección de Sistemas Gerencial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5638680" y="228600"/>
              <a:ext cx="99072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Código: No aplic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1428840" y="228600"/>
              <a:ext cx="420984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900" spc="-1" strike="noStrike">
                  <a:solidFill>
                    <a:srgbClr val="000000"/>
                  </a:solidFill>
                  <a:latin typeface="Arial"/>
                </a:rPr>
                <a:t>MANUAL DE PROCEDIMIENTO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04920" y="228600"/>
              <a:ext cx="112392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04920" y="22860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304920" y="114300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04920" y="228600"/>
              <a:ext cx="0" cy="914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1428840" y="2286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5638680" y="2286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29400" y="228600"/>
              <a:ext cx="0" cy="914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428840" y="455760"/>
              <a:ext cx="5200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1428840" y="716040"/>
              <a:ext cx="5200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5" name="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990720" cy="530280"/>
          </a:xfrm>
          <a:prstGeom prst="rect">
            <a:avLst/>
          </a:prstGeom>
          <a:ln w="0">
            <a:noFill/>
          </a:ln>
        </p:spPr>
      </p:pic>
      <p:grpSp>
        <p:nvGrpSpPr>
          <p:cNvPr id="36" name=""/>
          <p:cNvGrpSpPr/>
          <p:nvPr/>
        </p:nvGrpSpPr>
        <p:grpSpPr>
          <a:xfrm>
            <a:off x="304920" y="7848720"/>
            <a:ext cx="6324480" cy="1095120"/>
            <a:chOff x="304920" y="7848720"/>
            <a:chExt cx="6324480" cy="1095120"/>
          </a:xfrm>
        </p:grpSpPr>
        <p:sp>
          <p:nvSpPr>
            <p:cNvPr id="37" name=""/>
            <p:cNvSpPr/>
            <p:nvPr/>
          </p:nvSpPr>
          <p:spPr>
            <a:xfrm>
              <a:off x="4800600" y="8076960"/>
              <a:ext cx="182880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Autorizó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895480" y="8076960"/>
              <a:ext cx="190512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Revisó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914400" y="8076960"/>
              <a:ext cx="198108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Elaboró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304920" y="8076960"/>
              <a:ext cx="60948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4800600" y="8731080"/>
              <a:ext cx="182880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4-AGOSTO-200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895480" y="8731080"/>
              <a:ext cx="190512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4-AGOSTO-200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914400" y="8731080"/>
              <a:ext cx="198108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4-AGOSTO-200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04920" y="8731080"/>
              <a:ext cx="60948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Fecha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800600" y="8518320"/>
              <a:ext cx="182880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895480" y="8518320"/>
              <a:ext cx="190512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914400" y="8518320"/>
              <a:ext cx="198108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4920" y="8518320"/>
              <a:ext cx="60948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Firma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00600" y="8289720"/>
              <a:ext cx="182880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DR. HECTOR ROBLEDO GALV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895480" y="8289720"/>
              <a:ext cx="19051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ING. JORGE GONZALEZ ISASS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914400" y="8289720"/>
              <a:ext cx="198108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LIC. MARISOL COLIN DIAZ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920" y="8289720"/>
              <a:ext cx="60948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Nombr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920" y="7848720"/>
              <a:ext cx="632448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CONTROL DE EMISIÓN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920" y="784872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04920" y="828972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04920" y="851832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04920" y="873108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04920" y="894384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04920" y="7848720"/>
              <a:ext cx="0" cy="10951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629400" y="7848720"/>
              <a:ext cx="0" cy="10951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04920" y="807696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914400" y="8076960"/>
              <a:ext cx="0" cy="86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895480" y="8076960"/>
              <a:ext cx="0" cy="86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800600" y="8076960"/>
              <a:ext cx="0" cy="86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02400" y="1325520"/>
            <a:ext cx="203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5.0 Diagrama del proce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4920" y="1760400"/>
            <a:ext cx="18396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5258160" y="3870360"/>
            <a:ext cx="661680" cy="252360"/>
            <a:chOff x="5258160" y="3870360"/>
            <a:chExt cx="661680" cy="252360"/>
          </a:xfrm>
        </p:grpSpPr>
        <p:sp>
          <p:nvSpPr>
            <p:cNvPr id="104" name=""/>
            <p:cNvSpPr/>
            <p:nvPr/>
          </p:nvSpPr>
          <p:spPr>
            <a:xfrm>
              <a:off x="5310360" y="3870360"/>
              <a:ext cx="60948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258160" y="3937320"/>
              <a:ext cx="5724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ocument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4064040" y="3543480"/>
            <a:ext cx="685800" cy="32364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Requerimient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de Herramient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Gerenci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187960" y="2922480"/>
            <a:ext cx="685800" cy="32400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Detectar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Necesidades de la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entidad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840640" y="282240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187960" y="3598920"/>
            <a:ext cx="685800" cy="32364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Busqueda de Infor-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mación,  analisi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y clasificació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710320" y="344952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597560" y="460836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5285520" y="6907320"/>
            <a:ext cx="662760" cy="252000"/>
            <a:chOff x="5285520" y="6907320"/>
            <a:chExt cx="662760" cy="252000"/>
          </a:xfrm>
        </p:grpSpPr>
        <p:sp>
          <p:nvSpPr>
            <p:cNvPr id="113" name=""/>
            <p:cNvSpPr/>
            <p:nvPr/>
          </p:nvSpPr>
          <p:spPr>
            <a:xfrm>
              <a:off x="5338800" y="6907320"/>
              <a:ext cx="609480" cy="25056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285520" y="6973920"/>
              <a:ext cx="6364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ocumento .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5221440" y="7350120"/>
            <a:ext cx="663480" cy="15228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TÉRMIN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6" name=""/>
          <p:cNvCxnSpPr>
            <a:stCxn id="107" idx="2"/>
            <a:endCxn id="109" idx="0"/>
          </p:cNvCxnSpPr>
          <p:nvPr/>
        </p:nvCxnSpPr>
        <p:spPr>
          <a:xfrm>
            <a:off x="5531040" y="3246480"/>
            <a:ext cx="360" cy="3528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17" name=""/>
          <p:cNvSpPr/>
          <p:nvPr/>
        </p:nvSpPr>
        <p:spPr>
          <a:xfrm>
            <a:off x="5735880" y="574992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862600" y="652932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824360" y="5565600"/>
            <a:ext cx="114480" cy="14004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038480" y="4743360"/>
            <a:ext cx="685800" cy="32400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Aprobación de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la herramient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70520" y="5398920"/>
            <a:ext cx="563400" cy="489240"/>
          </a:xfrm>
          <a:prstGeom prst="flowChartDecis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/>
          <p:nvPr/>
        </p:nvCxnSpPr>
        <p:spPr>
          <a:xfrm flipV="1">
            <a:off x="4640040" y="5641200"/>
            <a:ext cx="160920" cy="25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23" name=""/>
          <p:cNvSpPr/>
          <p:nvPr/>
        </p:nvSpPr>
        <p:spPr>
          <a:xfrm>
            <a:off x="4564440" y="5462640"/>
            <a:ext cx="273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089240" y="5910120"/>
            <a:ext cx="244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071240" y="5532480"/>
            <a:ext cx="5677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probació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445840" y="2840040"/>
            <a:ext cx="662400" cy="252360"/>
            <a:chOff x="2445840" y="2840040"/>
            <a:chExt cx="662400" cy="252360"/>
          </a:xfrm>
        </p:grpSpPr>
        <p:sp>
          <p:nvSpPr>
            <p:cNvPr id="127" name=""/>
            <p:cNvSpPr/>
            <p:nvPr/>
          </p:nvSpPr>
          <p:spPr>
            <a:xfrm>
              <a:off x="2498760" y="2840040"/>
              <a:ext cx="60948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445840" y="2907000"/>
              <a:ext cx="6548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Memorándu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701280" y="2833560"/>
            <a:ext cx="687600" cy="252360"/>
            <a:chOff x="701280" y="2833560"/>
            <a:chExt cx="687600" cy="252360"/>
          </a:xfrm>
        </p:grpSpPr>
        <p:sp>
          <p:nvSpPr>
            <p:cNvPr id="130" name=""/>
            <p:cNvSpPr/>
            <p:nvPr/>
          </p:nvSpPr>
          <p:spPr>
            <a:xfrm>
              <a:off x="756000" y="2833560"/>
              <a:ext cx="63288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01280" y="2900520"/>
              <a:ext cx="6548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Memorándu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689040" y="2300400"/>
            <a:ext cx="663480" cy="15228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INICI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6040" y="2604960"/>
            <a:ext cx="609480" cy="304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Requerimiento d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Información y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turn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206720" y="244620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5" name=""/>
          <p:cNvCxnSpPr>
            <a:stCxn id="132" idx="2"/>
            <a:endCxn id="133" idx="0"/>
          </p:cNvCxnSpPr>
          <p:nvPr/>
        </p:nvCxnSpPr>
        <p:spPr>
          <a:xfrm>
            <a:off x="1020960" y="2452680"/>
            <a:ext cx="360" cy="15264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36" name=""/>
          <p:cNvSpPr/>
          <p:nvPr/>
        </p:nvSpPr>
        <p:spPr>
          <a:xfrm>
            <a:off x="2433600" y="2587680"/>
            <a:ext cx="609480" cy="304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Recepción de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memorandum con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req. y  turn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998800" y="249408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962520" y="2725560"/>
            <a:ext cx="609480" cy="304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Recepción del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requerimiento y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turn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505400" y="2585880"/>
            <a:ext cx="226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694400" y="340992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1" name=""/>
          <p:cNvCxnSpPr>
            <a:stCxn id="105" idx="2"/>
            <a:endCxn id="120" idx="0"/>
          </p:cNvCxnSpPr>
          <p:nvPr/>
        </p:nvCxnSpPr>
        <p:spPr>
          <a:xfrm rot="5400000">
            <a:off x="4652640" y="3851640"/>
            <a:ext cx="621000" cy="1163160"/>
          </a:xfrm>
          <a:prstGeom prst="bentConnector3">
            <a:avLst>
              <a:gd name="adj1" fmla="val 496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2" name=""/>
          <p:cNvCxnSpPr/>
          <p:nvPr/>
        </p:nvCxnSpPr>
        <p:spPr>
          <a:xfrm flipH="1">
            <a:off x="4360680" y="5055840"/>
            <a:ext cx="2160" cy="3229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43" name=""/>
          <p:cNvCxnSpPr>
            <a:stCxn id="144" idx="2"/>
            <a:endCxn id="145" idx="0"/>
          </p:cNvCxnSpPr>
          <p:nvPr/>
        </p:nvCxnSpPr>
        <p:spPr>
          <a:xfrm flipH="1" flipV="1" rot="5400000">
            <a:off x="4736160" y="5550480"/>
            <a:ext cx="452880" cy="1209960"/>
          </a:xfrm>
          <a:prstGeom prst="bentConnector5">
            <a:avLst>
              <a:gd name="adj1" fmla="val -51153"/>
              <a:gd name="adj2" fmla="val 50000"/>
              <a:gd name="adj3" fmla="val 15115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5" name=""/>
          <p:cNvSpPr/>
          <p:nvPr/>
        </p:nvSpPr>
        <p:spPr>
          <a:xfrm>
            <a:off x="5224320" y="5929200"/>
            <a:ext cx="685800" cy="32400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Presentación del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product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226120" y="6645240"/>
            <a:ext cx="685800" cy="32400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Divulgación de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product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5" idx="2"/>
            <a:endCxn id="146" idx="0"/>
          </p:cNvCxnSpPr>
          <p:nvPr/>
        </p:nvCxnSpPr>
        <p:spPr>
          <a:xfrm>
            <a:off x="5567400" y="6253200"/>
            <a:ext cx="2160" cy="3924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48" name=""/>
          <p:cNvCxnSpPr/>
          <p:nvPr/>
        </p:nvCxnSpPr>
        <p:spPr>
          <a:xfrm flipH="1">
            <a:off x="5586120" y="7137000"/>
            <a:ext cx="2160" cy="2041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49" name=""/>
          <p:cNvCxnSpPr>
            <a:stCxn id="128" idx="2"/>
            <a:endCxn id="138" idx="0"/>
          </p:cNvCxnSpPr>
          <p:nvPr/>
        </p:nvCxnSpPr>
        <p:spPr>
          <a:xfrm flipH="1" flipV="1" rot="5400000">
            <a:off x="3336480" y="2161800"/>
            <a:ext cx="367200" cy="1494720"/>
          </a:xfrm>
          <a:prstGeom prst="bentConnector5">
            <a:avLst>
              <a:gd name="adj1" fmla="val -61825"/>
              <a:gd name="adj2" fmla="val 50590"/>
              <a:gd name="adj3" fmla="val 16319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0" name=""/>
          <p:cNvCxnSpPr>
            <a:stCxn id="131" idx="2"/>
            <a:endCxn id="136" idx="0"/>
          </p:cNvCxnSpPr>
          <p:nvPr/>
        </p:nvCxnSpPr>
        <p:spPr>
          <a:xfrm flipH="1" flipV="1" rot="5400000">
            <a:off x="1634400" y="1981800"/>
            <a:ext cx="498600" cy="1710360"/>
          </a:xfrm>
          <a:prstGeom prst="bentConnector5">
            <a:avLst>
              <a:gd name="adj1" fmla="val -45520"/>
              <a:gd name="adj2" fmla="val 50357"/>
              <a:gd name="adj3" fmla="val 14653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1" name=""/>
          <p:cNvSpPr/>
          <p:nvPr/>
        </p:nvSpPr>
        <p:spPr>
          <a:xfrm>
            <a:off x="4286160" y="3024360"/>
            <a:ext cx="0" cy="53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2" name=""/>
          <p:cNvCxnSpPr>
            <a:stCxn id="106" idx="2"/>
            <a:endCxn id="107" idx="0"/>
          </p:cNvCxnSpPr>
          <p:nvPr/>
        </p:nvCxnSpPr>
        <p:spPr>
          <a:xfrm flipH="1" flipV="1" rot="5400000">
            <a:off x="4496760" y="2832840"/>
            <a:ext cx="945000" cy="1124280"/>
          </a:xfrm>
          <a:prstGeom prst="bentConnector5">
            <a:avLst>
              <a:gd name="adj1" fmla="val -24504"/>
              <a:gd name="adj2" fmla="val -51153"/>
              <a:gd name="adj3" fmla="val 12450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4014720" y="6058080"/>
            <a:ext cx="685800" cy="32364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Se elabora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product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3" name=""/>
          <p:cNvCxnSpPr>
            <a:stCxn id="121" idx="2"/>
            <a:endCxn id="144" idx="0"/>
          </p:cNvCxnSpPr>
          <p:nvPr/>
        </p:nvCxnSpPr>
        <p:spPr>
          <a:xfrm>
            <a:off x="4352400" y="5888160"/>
            <a:ext cx="5760" cy="170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2T17:18:20Z</dcterms:created>
  <dc:creator>SECRETARIA DE SALUD</dc:creator>
  <dc:description/>
  <dc:language>en-US</dc:language>
  <cp:lastModifiedBy>VICTORIAR</cp:lastModifiedBy>
  <dcterms:modified xsi:type="dcterms:W3CDTF">2005-08-10T16:04:09Z</dcterms:modified>
  <cp:revision>50</cp:revision>
  <dc:subject/>
  <dc:title>Presentación de PowerPoint</dc:title>
</cp:coreProperties>
</file>