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4480" cy="5875560"/>
            <a:chOff x="304920" y="1709640"/>
            <a:chExt cx="6324480" cy="5875560"/>
          </a:xfrm>
        </p:grpSpPr>
        <p:sp>
          <p:nvSpPr>
            <p:cNvPr id="1" name=""/>
            <p:cNvSpPr/>
            <p:nvPr/>
          </p:nvSpPr>
          <p:spPr>
            <a:xfrm>
              <a:off x="5576760" y="231768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21240" y="231768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68600" y="231768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31768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31768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31768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76760" y="1709640"/>
              <a:ext cx="10526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stancias Sectoriales Intersectoriales  y Afine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Grupo de Coordinación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21240" y="1709640"/>
              <a:ext cx="10555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recciones y áreas responsables de los programas y Servicios Estatales de Salud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68600" y="1709640"/>
              <a:ext cx="10526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Interculturalidad en los Servicio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709640"/>
              <a:ext cx="10555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Medicina Tradicional y Desarrollo Intercultur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60440" y="1709640"/>
              <a:ext cx="10526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555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3176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852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7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0" cy="587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13080" y="1709640"/>
              <a:ext cx="0" cy="587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0" cy="587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21240" y="1709640"/>
              <a:ext cx="0" cy="587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76760" y="1709640"/>
              <a:ext cx="0" cy="587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1709640"/>
              <a:ext cx="0" cy="587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1003320"/>
            <a:chOff x="304920" y="228600"/>
            <a:chExt cx="6324480" cy="1003320"/>
          </a:xfrm>
        </p:grpSpPr>
        <p:sp>
          <p:nvSpPr>
            <p:cNvPr id="26" name=""/>
            <p:cNvSpPr/>
            <p:nvPr/>
          </p:nvSpPr>
          <p:spPr>
            <a:xfrm>
              <a:off x="5638680" y="716040"/>
              <a:ext cx="990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21 de 6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2098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</a:t>
              </a: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 enfoque Intercultural en los Servicios y programas de Salud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Medicina Tradicional y Desarrollo Intercultur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2319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1003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638680" y="2286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1003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201680"/>
            <a:chOff x="304920" y="7848720"/>
            <a:chExt cx="6324480" cy="1201680"/>
          </a:xfrm>
        </p:grpSpPr>
        <p:sp>
          <p:nvSpPr>
            <p:cNvPr id="43" name=""/>
            <p:cNvSpPr/>
            <p:nvPr/>
          </p:nvSpPr>
          <p:spPr>
            <a:xfrm>
              <a:off x="4800600" y="80773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73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73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73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83764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83764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83764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83764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624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624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624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624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9008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R. JOSE ALEJANDRO ALMAGUER GONZÁLEZ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9008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CENTE VARGAS VITE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900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EMÍ LUGO MALDONAD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90080"/>
              <a:ext cx="6094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90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624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83764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90504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20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20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89440" y="3586320"/>
            <a:ext cx="503280" cy="172800"/>
          </a:xfrm>
          <a:prstGeom prst="flowChartDocumen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28960" y="3598920"/>
            <a:ext cx="574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documen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25720" y="4430880"/>
            <a:ext cx="568080" cy="390240"/>
            <a:chOff x="3825720" y="4430880"/>
            <a:chExt cx="568080" cy="390240"/>
          </a:xfrm>
        </p:grpSpPr>
        <p:sp>
          <p:nvSpPr>
            <p:cNvPr id="110" name=""/>
            <p:cNvSpPr/>
            <p:nvPr/>
          </p:nvSpPr>
          <p:spPr>
            <a:xfrm>
              <a:off x="3825720" y="4564080"/>
              <a:ext cx="495000" cy="25704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25720" y="4430880"/>
              <a:ext cx="495000" cy="25704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30400" y="4529160"/>
              <a:ext cx="563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Times New Roman"/>
                </a:rPr>
                <a:t>Lineamiento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95560" y="4664160"/>
              <a:ext cx="3315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Times New Roman"/>
                </a:rPr>
                <a:t>ofici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738520" y="3116160"/>
            <a:ext cx="563400" cy="257400"/>
            <a:chOff x="2738520" y="3116160"/>
            <a:chExt cx="563400" cy="257400"/>
          </a:xfrm>
        </p:grpSpPr>
        <p:sp>
          <p:nvSpPr>
            <p:cNvPr id="115" name=""/>
            <p:cNvSpPr/>
            <p:nvPr/>
          </p:nvSpPr>
          <p:spPr>
            <a:xfrm>
              <a:off x="2746440" y="3116160"/>
              <a:ext cx="494640" cy="25740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38520" y="3202200"/>
              <a:ext cx="563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Times New Roman"/>
                </a:rPr>
                <a:t>Document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38360" y="3051000"/>
            <a:ext cx="563400" cy="257400"/>
            <a:chOff x="1638360" y="3051000"/>
            <a:chExt cx="563400" cy="257400"/>
          </a:xfrm>
        </p:grpSpPr>
        <p:sp>
          <p:nvSpPr>
            <p:cNvPr id="118" name=""/>
            <p:cNvSpPr/>
            <p:nvPr/>
          </p:nvSpPr>
          <p:spPr>
            <a:xfrm>
              <a:off x="1646280" y="3051000"/>
              <a:ext cx="494640" cy="25740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38360" y="3137040"/>
              <a:ext cx="563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Times New Roman"/>
                </a:rPr>
                <a:t>Document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09480" y="3025800"/>
            <a:ext cx="563760" cy="257040"/>
            <a:chOff x="609480" y="3025800"/>
            <a:chExt cx="563760" cy="257040"/>
          </a:xfrm>
        </p:grpSpPr>
        <p:sp>
          <p:nvSpPr>
            <p:cNvPr id="121" name=""/>
            <p:cNvSpPr/>
            <p:nvPr/>
          </p:nvSpPr>
          <p:spPr>
            <a:xfrm>
              <a:off x="617760" y="3025800"/>
              <a:ext cx="495000" cy="257040"/>
            </a:xfrm>
            <a:prstGeom prst="flowChartDocumen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3111480"/>
              <a:ext cx="5637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Times New Roman"/>
                </a:rPr>
                <a:t>Document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894040" y="6937200"/>
            <a:ext cx="447480" cy="212760"/>
          </a:xfrm>
          <a:prstGeom prst="flowChartDocumen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997000" y="6272280"/>
            <a:ext cx="61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79560" y="6064200"/>
            <a:ext cx="443160" cy="225360"/>
          </a:xfrm>
          <a:prstGeom prst="flowChartDocumen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0280" y="3908520"/>
            <a:ext cx="495360" cy="257040"/>
          </a:xfrm>
          <a:prstGeom prst="flowChartDocumen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64120" y="3983040"/>
            <a:ext cx="3315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Times New Roman"/>
              </a:rPr>
              <a:t>ofici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98800" y="3384720"/>
            <a:ext cx="495360" cy="257040"/>
          </a:xfrm>
          <a:prstGeom prst="flowChartDocumen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60640" y="3462480"/>
            <a:ext cx="3315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Times New Roman"/>
              </a:rPr>
              <a:t>ofici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668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76320" y="26002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36880" y="26607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72040" y="292896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35480" y="3506760"/>
            <a:ext cx="239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73320" y="27115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27360" y="5661000"/>
            <a:ext cx="52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20880" y="7345440"/>
            <a:ext cx="66384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TERMIN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33760" y="41576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44751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33680" y="5737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21" idx="2"/>
            <a:endCxn id="144" idx="0"/>
          </p:cNvCxnSpPr>
          <p:nvPr/>
        </p:nvCxnSpPr>
        <p:spPr>
          <a:xfrm flipH="1" flipV="1" rot="5400000">
            <a:off x="1130760" y="2564640"/>
            <a:ext cx="437400" cy="970920"/>
          </a:xfrm>
          <a:prstGeom prst="bentConnector5">
            <a:avLst>
              <a:gd name="adj1" fmla="val -55601"/>
              <a:gd name="adj2" fmla="val 40096"/>
              <a:gd name="adj3" fmla="val 152306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18" idx="2"/>
            <a:endCxn id="146" idx="0"/>
          </p:cNvCxnSpPr>
          <p:nvPr/>
        </p:nvCxnSpPr>
        <p:spPr>
          <a:xfrm flipH="1" flipV="1" rot="5400000">
            <a:off x="2220840" y="2574360"/>
            <a:ext cx="392760" cy="1046880"/>
          </a:xfrm>
          <a:prstGeom prst="bentConnector5">
            <a:avLst>
              <a:gd name="adj1" fmla="val -61926"/>
              <a:gd name="adj2" fmla="val 36704"/>
              <a:gd name="adj3" fmla="val 158256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15" idx="2"/>
            <a:endCxn id="148" idx="0"/>
          </p:cNvCxnSpPr>
          <p:nvPr/>
        </p:nvCxnSpPr>
        <p:spPr>
          <a:xfrm flipH="1" flipV="1" rot="5400000">
            <a:off x="3436560" y="2700000"/>
            <a:ext cx="216720" cy="1102320"/>
          </a:xfrm>
          <a:prstGeom prst="bentConnector5">
            <a:avLst>
              <a:gd name="adj1" fmla="val -112479"/>
              <a:gd name="adj2" fmla="val 33681"/>
              <a:gd name="adj3" fmla="val 205823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735280" y="5119560"/>
            <a:ext cx="506520" cy="262080"/>
          </a:xfrm>
          <a:prstGeom prst="flowChartDocumen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46360" y="5137200"/>
            <a:ext cx="608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Acuerdos de Coord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2"/>
            <a:endCxn id="152" idx="0"/>
          </p:cNvCxnSpPr>
          <p:nvPr/>
        </p:nvCxnSpPr>
        <p:spPr>
          <a:xfrm flipH="1" flipV="1" rot="5400000">
            <a:off x="3407400" y="4709520"/>
            <a:ext cx="230760" cy="1145160"/>
          </a:xfrm>
          <a:prstGeom prst="bentConnector5">
            <a:avLst>
              <a:gd name="adj1" fmla="val -33750"/>
              <a:gd name="adj2" fmla="val 30628"/>
              <a:gd name="adj3" fmla="val 162656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894040" y="6816600"/>
            <a:ext cx="447480" cy="212760"/>
          </a:xfrm>
          <a:prstGeom prst="flowChartDocumen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68480" y="6832440"/>
            <a:ext cx="5000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Ofici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83120" y="649908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4640" y="5398920"/>
            <a:ext cx="482760" cy="211320"/>
          </a:xfrm>
          <a:prstGeom prst="flowChartDocumen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5446800"/>
            <a:ext cx="411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Ofici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79560" y="5921280"/>
            <a:ext cx="449280" cy="238320"/>
          </a:xfrm>
          <a:prstGeom prst="flowChartDocumen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66960" y="6016680"/>
            <a:ext cx="728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Oficio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1480" y="281304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ye par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Implantació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720" y="25909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0360" y="28321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Inicio de contacto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35200" y="29019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ción de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áreas 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intervenció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0800" y="314316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Adecuación 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envío de Docs. y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lineamiento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32280" y="366408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Inst. involucrada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solicitan asesoría y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aceptan la interv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14840" y="424188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Asesoría especí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a los nivel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intervenció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35200" y="48704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Apoyo en la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Implantación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y adecuació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90800" y="516744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ación de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es y se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roponen  indic.</a:t>
            </a:r>
            <a:r>
              <a:rPr b="0" lang="es-ES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9080" y="57085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Elab. de Inf.conj. c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Inst. respectivas y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Aut. Estatales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55800" y="6114960"/>
            <a:ext cx="590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Times New Roman"/>
              </a:rPr>
              <a:t>Documento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36720" y="654696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Entrega de informe</a:t>
            </a: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81440" y="6985080"/>
            <a:ext cx="5000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Inform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54240" y="714996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45120" y="49449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21080" y="553572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87800" y="6386400"/>
            <a:ext cx="330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52720" y="5375160"/>
            <a:ext cx="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872800" y="4637160"/>
            <a:ext cx="1133640" cy="290520"/>
            <a:chOff x="2872800" y="4637160"/>
            <a:chExt cx="1133640" cy="290520"/>
          </a:xfrm>
        </p:grpSpPr>
        <p:sp>
          <p:nvSpPr>
            <p:cNvPr id="175" name=""/>
            <p:cNvSpPr/>
            <p:nvPr/>
          </p:nvSpPr>
          <p:spPr>
            <a:xfrm>
              <a:off x="2872800" y="4639680"/>
              <a:ext cx="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73520" y="4637160"/>
              <a:ext cx="718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580920" y="4640400"/>
              <a:ext cx="324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87760" y="4923000"/>
              <a:ext cx="41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003200" y="4813200"/>
              <a:ext cx="32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 flipH="1">
            <a:off x="4008240" y="4073400"/>
            <a:ext cx="11520" cy="1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11480" y="4070520"/>
            <a:ext cx="71928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719240" y="4075200"/>
            <a:ext cx="324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6080" y="4311720"/>
            <a:ext cx="41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41880" y="4168800"/>
            <a:ext cx="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35400" y="340992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4455720" y="3409560"/>
            <a:ext cx="676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3760920"/>
            <a:ext cx="504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038480" y="3843360"/>
            <a:ext cx="42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52840" y="3408480"/>
            <a:ext cx="504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39400" y="5524560"/>
            <a:ext cx="61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41560" y="5522760"/>
            <a:ext cx="719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6160" y="55278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60840" y="5778360"/>
            <a:ext cx="41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076280" y="5611680"/>
            <a:ext cx="324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Noemi Lugo Maldonado</cp:lastModifiedBy>
  <dcterms:modified xsi:type="dcterms:W3CDTF">2005-08-08T15:49:20Z</dcterms:modified>
  <cp:revision>66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030348</vt:r8>
  </property>
  <property fmtid="{D5CDD505-2E9C-101B-9397-08002B2CF9AE}" pid="3" name="_AuthorEmail">
    <vt:lpwstr>HERNANG@DGPEC-S01.SSA.com</vt:lpwstr>
  </property>
  <property fmtid="{D5CDD505-2E9C-101B-9397-08002B2CF9AE}" pid="4" name="_AuthorEmailDisplayName">
    <vt:lpwstr>HERNAN JOSE GARCIA RAMIREZ</vt:lpwstr>
  </property>
  <property fmtid="{D5CDD505-2E9C-101B-9397-08002B2CF9AE}" pid="5" name="_EmailSubject">
    <vt:lpwstr>diagramas</vt:lpwstr>
  </property>
</Properties>
</file>