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24800"/>
            <a:chOff x="304920" y="1709640"/>
            <a:chExt cx="6324480" cy="5824800"/>
          </a:xfrm>
        </p:grpSpPr>
        <p:sp>
          <p:nvSpPr>
            <p:cNvPr id="1" name=""/>
            <p:cNvSpPr/>
            <p:nvPr/>
          </p:nvSpPr>
          <p:spPr>
            <a:xfrm>
              <a:off x="5576760" y="226692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6692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6692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6692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6692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6692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tivos de las  entidades Federativa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esarrollo Gerenc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oordinación Administrativ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669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344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2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2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1123920"/>
            <a:chOff x="304920" y="228600"/>
            <a:chExt cx="6324480" cy="1123920"/>
          </a:xfrm>
        </p:grpSpPr>
        <p:sp>
          <p:nvSpPr>
            <p:cNvPr id="26" name=""/>
            <p:cNvSpPr/>
            <p:nvPr/>
          </p:nvSpPr>
          <p:spPr>
            <a:xfrm>
              <a:off x="5638680" y="852480"/>
              <a:ext cx="990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Hoja: 5 de 8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852480"/>
              <a:ext cx="4209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Nombre del Procedimiento: Coordinar eventos de actualización e intercambio de experiencias dirigidos a personal directivo de los servicios estatales de salu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59220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59220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3525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1123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11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11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1123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5922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85248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driana Stanford Camar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lipe de Jesús Vargas Garcí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04920" y="1709640"/>
            <a:ext cx="6324480" cy="5824800"/>
            <a:chOff x="304920" y="1709640"/>
            <a:chExt cx="6324480" cy="5824800"/>
          </a:xfrm>
        </p:grpSpPr>
        <p:sp>
          <p:nvSpPr>
            <p:cNvPr id="111" name=""/>
            <p:cNvSpPr/>
            <p:nvPr/>
          </p:nvSpPr>
          <p:spPr>
            <a:xfrm>
              <a:off x="5576760" y="226692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21240" y="226692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68600" y="226692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13080" y="226692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60440" y="226692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920" y="226692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76760" y="1709640"/>
              <a:ext cx="1052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tivos de las  entidades Federativa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21240" y="1709640"/>
              <a:ext cx="10555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esarrollo Gerenc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68600" y="1709640"/>
              <a:ext cx="1052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oordinación Administrativ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13080" y="1709640"/>
              <a:ext cx="10555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60440" y="1709640"/>
              <a:ext cx="1052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Implantación de Servicio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1709640"/>
              <a:ext cx="10555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4920" y="22669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920" y="75344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1709640"/>
              <a:ext cx="0" cy="582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60440" y="1709640"/>
              <a:ext cx="0" cy="58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13080" y="1709640"/>
              <a:ext cx="0" cy="58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68600" y="1709640"/>
              <a:ext cx="0" cy="58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21240" y="1709640"/>
              <a:ext cx="0" cy="58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76760" y="1709640"/>
              <a:ext cx="0" cy="58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29400" y="1709640"/>
              <a:ext cx="0" cy="582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4920" y="228600"/>
            <a:ext cx="6324480" cy="1123920"/>
            <a:chOff x="304920" y="228600"/>
            <a:chExt cx="6324480" cy="1123920"/>
          </a:xfrm>
        </p:grpSpPr>
        <p:sp>
          <p:nvSpPr>
            <p:cNvPr id="136" name=""/>
            <p:cNvSpPr/>
            <p:nvPr/>
          </p:nvSpPr>
          <p:spPr>
            <a:xfrm>
              <a:off x="5638680" y="852480"/>
              <a:ext cx="990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Hoja: 6 de 8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28840" y="852480"/>
              <a:ext cx="4209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Nombre del Procedimiento: Coordinar eventos de actualización e intercambio de experiencias dirigidos a personal directivo de los servicios estatales de salu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38680" y="59220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28840" y="59220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Dirección de Desarrollo y Sustentabilidad de Servicios de Salu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228600"/>
              <a:ext cx="990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28840" y="228600"/>
              <a:ext cx="42098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4920" y="228600"/>
              <a:ext cx="112392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920" y="13525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228600"/>
              <a:ext cx="0" cy="1123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28840" y="228600"/>
              <a:ext cx="0" cy="11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228600"/>
              <a:ext cx="0" cy="11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228600"/>
              <a:ext cx="0" cy="1123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28840" y="5922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28840" y="85248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304920" y="7848720"/>
            <a:ext cx="6324480" cy="1241280"/>
            <a:chOff x="304920" y="7848720"/>
            <a:chExt cx="6324480" cy="1241280"/>
          </a:xfrm>
        </p:grpSpPr>
        <p:sp>
          <p:nvSpPr>
            <p:cNvPr id="153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600" y="8731080"/>
              <a:ext cx="1828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5480" y="8731080"/>
              <a:ext cx="1905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8731080"/>
              <a:ext cx="19810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28 de juli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920" y="8731080"/>
              <a:ext cx="609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00600" y="85186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5480" y="85186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14400" y="85186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85186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600" y="829008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ucero Rodríguez Cabr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95480" y="829008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driana Stanford Camar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829008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lipe de Jesús Vargas Garcí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82900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8518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920" y="9090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920" y="7848720"/>
              <a:ext cx="0" cy="1241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9400" y="7848720"/>
              <a:ext cx="0" cy="1241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14400" y="8077320"/>
              <a:ext cx="0" cy="10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95480" y="8077320"/>
              <a:ext cx="0" cy="10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8077320"/>
              <a:ext cx="0" cy="10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74640" y="31082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560" y="1400040"/>
            <a:ext cx="1108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784520"/>
            <a:ext cx="1839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66960" y="2603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19520" y="2965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0040" y="348768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44800" y="32306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92200" y="3092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. sobre realización de ev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73480" y="439092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6800" y="401940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35760" y="732456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31" idx="2"/>
            <a:endCxn id="229" idx="0"/>
          </p:cNvCxnSpPr>
          <p:nvPr/>
        </p:nvCxnSpPr>
        <p:spPr>
          <a:xfrm>
            <a:off x="6105600" y="7010280"/>
            <a:ext cx="684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32" name=""/>
          <p:cNvGrpSpPr/>
          <p:nvPr/>
        </p:nvGrpSpPr>
        <p:grpSpPr>
          <a:xfrm>
            <a:off x="4696200" y="4781520"/>
            <a:ext cx="663120" cy="252360"/>
            <a:chOff x="4696200" y="4781520"/>
            <a:chExt cx="663120" cy="252360"/>
          </a:xfrm>
        </p:grpSpPr>
        <p:sp>
          <p:nvSpPr>
            <p:cNvPr id="233" name=""/>
            <p:cNvSpPr/>
            <p:nvPr/>
          </p:nvSpPr>
          <p:spPr>
            <a:xfrm>
              <a:off x="4749840" y="4781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96200" y="4848480"/>
              <a:ext cx="61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g. de act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23800" y="236844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9360" y="27874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274320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sobre realización de ev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81200" y="340992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86040" y="364824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05120" y="42195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338472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eación y logística del ev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35280" y="36194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. del evento para logística y presu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76680" y="41720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signación de recursos para el ev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11680" y="45594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08440" y="452124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oración del programa y material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523960" y="5067360"/>
            <a:ext cx="781200" cy="636480"/>
            <a:chOff x="2523960" y="5067360"/>
            <a:chExt cx="781200" cy="636480"/>
          </a:xfrm>
        </p:grpSpPr>
        <p:grpSp>
          <p:nvGrpSpPr>
            <p:cNvPr id="247" name=""/>
            <p:cNvGrpSpPr/>
            <p:nvPr/>
          </p:nvGrpSpPr>
          <p:grpSpPr>
            <a:xfrm>
              <a:off x="2578320" y="5451480"/>
              <a:ext cx="663120" cy="252360"/>
              <a:chOff x="2578320" y="5451480"/>
              <a:chExt cx="663120" cy="252360"/>
            </a:xfrm>
          </p:grpSpPr>
          <p:sp>
            <p:nvSpPr>
              <p:cNvPr id="248" name=""/>
              <p:cNvSpPr/>
              <p:nvPr/>
            </p:nvSpPr>
            <p:spPr>
              <a:xfrm>
                <a:off x="2631960" y="545148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78320" y="5518440"/>
                <a:ext cx="615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Prog. de act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887560" y="5067360"/>
              <a:ext cx="331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3800" y="521964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23960" y="516888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visión y autorización del  programa y mat.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100480" y="571968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2720" y="592596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4720" y="654192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/>
          <p:nvPr/>
        </p:nvCxnSpPr>
        <p:spPr>
          <a:xfrm>
            <a:off x="6100560" y="6381720"/>
            <a:ext cx="540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5794200" y="609912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14920" y="58960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0280" y="5908680"/>
            <a:ext cx="733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ibe y envía  información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53160" y="6105600"/>
            <a:ext cx="6951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0680" y="670572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15000" y="67532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siste al evento y estab.  acuer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8" idx="2"/>
            <a:endCxn id="257" idx="0"/>
          </p:cNvCxnSpPr>
          <p:nvPr/>
        </p:nvCxnSpPr>
        <p:spPr>
          <a:xfrm flipH="1" flipV="1" rot="5400000">
            <a:off x="5508720" y="5610240"/>
            <a:ext cx="101880" cy="1079640"/>
          </a:xfrm>
          <a:prstGeom prst="bentConnector5">
            <a:avLst>
              <a:gd name="adj1" fmla="val -228368"/>
              <a:gd name="adj2" fmla="val 49966"/>
              <a:gd name="adj3" fmla="val 328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4010040" y="3971880"/>
            <a:ext cx="9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/>
          <p:nvPr/>
        </p:nvCxnSpPr>
        <p:spPr>
          <a:xfrm flipH="1" flipV="1" rot="5400000">
            <a:off x="1412640" y="2593440"/>
            <a:ext cx="19800" cy="1016640"/>
          </a:xfrm>
          <a:prstGeom prst="bentConnector5">
            <a:avLst>
              <a:gd name="adj1" fmla="val -1200000"/>
              <a:gd name="adj2" fmla="val 50938"/>
              <a:gd name="adj3" fmla="val 13000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5" name=""/>
          <p:cNvCxnSpPr/>
          <p:nvPr/>
        </p:nvCxnSpPr>
        <p:spPr>
          <a:xfrm flipH="1" flipV="1" rot="5400000">
            <a:off x="2314440" y="2904480"/>
            <a:ext cx="19800" cy="1016640"/>
          </a:xfrm>
          <a:prstGeom prst="bentConnector5">
            <a:avLst>
              <a:gd name="adj1" fmla="val -1200000"/>
              <a:gd name="adj2" fmla="val 50938"/>
              <a:gd name="adj3" fmla="val 13000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6" name=""/>
          <p:cNvCxnSpPr/>
          <p:nvPr/>
        </p:nvCxnSpPr>
        <p:spPr>
          <a:xfrm flipH="1" flipV="1" rot="5400000">
            <a:off x="3395520" y="3137760"/>
            <a:ext cx="67320" cy="1105920"/>
          </a:xfrm>
          <a:prstGeom prst="bentConnector5">
            <a:avLst>
              <a:gd name="adj1" fmla="val -342473"/>
              <a:gd name="adj2" fmla="val 49983"/>
              <a:gd name="adj3" fmla="val 44247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7" name=""/>
          <p:cNvCxnSpPr/>
          <p:nvPr/>
        </p:nvCxnSpPr>
        <p:spPr>
          <a:xfrm flipH="1" flipV="1" rot="5400000">
            <a:off x="4417560" y="4016520"/>
            <a:ext cx="19800" cy="1027800"/>
          </a:xfrm>
          <a:prstGeom prst="bentConnector5">
            <a:avLst>
              <a:gd name="adj1" fmla="val -1200000"/>
              <a:gd name="adj2" fmla="val 50210"/>
              <a:gd name="adj3" fmla="val 13000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8" name=""/>
          <p:cNvCxnSpPr>
            <a:stCxn id="234" idx="2"/>
            <a:endCxn id="252" idx="0"/>
          </p:cNvCxnSpPr>
          <p:nvPr/>
        </p:nvCxnSpPr>
        <p:spPr>
          <a:xfrm rot="5400000">
            <a:off x="3891240" y="4056840"/>
            <a:ext cx="135360" cy="2089440"/>
          </a:xfrm>
          <a:prstGeom prst="bentConnector5">
            <a:avLst>
              <a:gd name="adj1" fmla="val 168000"/>
              <a:gd name="adj2" fmla="val 48009"/>
              <a:gd name="adj3" fmla="val -6826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69" name=""/>
          <p:cNvSpPr/>
          <p:nvPr/>
        </p:nvSpPr>
        <p:spPr>
          <a:xfrm>
            <a:off x="835200" y="2530440"/>
            <a:ext cx="9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49" idx="2"/>
            <a:endCxn id="258" idx="0"/>
          </p:cNvCxnSpPr>
          <p:nvPr/>
        </p:nvCxnSpPr>
        <p:spPr>
          <a:xfrm flipH="1" rot="16200000">
            <a:off x="3856680" y="4732920"/>
            <a:ext cx="192600" cy="2134440"/>
          </a:xfrm>
          <a:prstGeom prst="bentConnector5">
            <a:avLst>
              <a:gd name="adj1" fmla="val 117977"/>
              <a:gd name="adj2" fmla="val 49949"/>
              <a:gd name="adj3" fmla="val -204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2505960" y="4105440"/>
            <a:ext cx="652680" cy="250560"/>
            <a:chOff x="2505960" y="4105440"/>
            <a:chExt cx="652680" cy="250560"/>
          </a:xfrm>
        </p:grpSpPr>
        <p:sp>
          <p:nvSpPr>
            <p:cNvPr id="272" name=""/>
            <p:cNvSpPr/>
            <p:nvPr/>
          </p:nvSpPr>
          <p:spPr>
            <a:xfrm>
              <a:off x="2549520" y="4105440"/>
              <a:ext cx="60912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05960" y="410544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495520" y="470844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97600" y="230508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14960" y="282420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4160" y="256392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3633840"/>
            <a:ext cx="331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/>
          <p:nvPr/>
        </p:nvCxnSpPr>
        <p:spPr>
          <a:xfrm>
            <a:off x="2833560" y="4359240"/>
            <a:ext cx="720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0" name=""/>
          <p:cNvGrpSpPr/>
          <p:nvPr/>
        </p:nvGrpSpPr>
        <p:grpSpPr>
          <a:xfrm>
            <a:off x="4795200" y="3137040"/>
            <a:ext cx="653040" cy="276840"/>
            <a:chOff x="4795200" y="3137040"/>
            <a:chExt cx="653040" cy="276840"/>
          </a:xfrm>
        </p:grpSpPr>
        <p:sp>
          <p:nvSpPr>
            <p:cNvPr id="281" name=""/>
            <p:cNvSpPr/>
            <p:nvPr/>
          </p:nvSpPr>
          <p:spPr>
            <a:xfrm>
              <a:off x="4838760" y="3137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95200" y="3137040"/>
              <a:ext cx="529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to.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cuer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622600" y="27176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19680" y="29527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33680" y="37814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81200" y="2755800"/>
            <a:ext cx="695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 el ev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88000" y="2959200"/>
            <a:ext cx="752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ticipación y da seguimiento a los acuerd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75" idx="2"/>
            <a:endCxn id="283" idx="0"/>
          </p:cNvCxnSpPr>
          <p:nvPr/>
        </p:nvCxnSpPr>
        <p:spPr>
          <a:xfrm rot="5400000">
            <a:off x="4366800" y="1011240"/>
            <a:ext cx="267120" cy="314712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2476440" y="376560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 acuerdos, compromisos y av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3" idx="2"/>
            <a:endCxn id="284" idx="0"/>
          </p:cNvCxnSpPr>
          <p:nvPr/>
        </p:nvCxnSpPr>
        <p:spPr>
          <a:xfrm flipH="1" flipV="1" rot="5400000">
            <a:off x="3990240" y="1888920"/>
            <a:ext cx="70200" cy="2197800"/>
          </a:xfrm>
          <a:prstGeom prst="bentConnector5">
            <a:avLst>
              <a:gd name="adj1" fmla="val -328865"/>
              <a:gd name="adj2" fmla="val 50000"/>
              <a:gd name="adj3" fmla="val 42938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91" name=""/>
          <p:cNvCxnSpPr>
            <a:stCxn id="282" idx="2"/>
            <a:endCxn id="285" idx="0"/>
          </p:cNvCxnSpPr>
          <p:nvPr/>
        </p:nvCxnSpPr>
        <p:spPr>
          <a:xfrm rot="5400000">
            <a:off x="3764880" y="2485800"/>
            <a:ext cx="369000" cy="2223000"/>
          </a:xfrm>
          <a:prstGeom prst="bentConnector3">
            <a:avLst>
              <a:gd name="adj1" fmla="val 500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92" name=""/>
          <p:cNvSpPr/>
          <p:nvPr/>
        </p:nvSpPr>
        <p:spPr>
          <a:xfrm>
            <a:off x="5638680" y="882720"/>
            <a:ext cx="9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02400" y="988920"/>
            <a:ext cx="78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57760" y="880920"/>
            <a:ext cx="9082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ja: 6 de 8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aquel Almazán</cp:lastModifiedBy>
  <dcterms:modified xsi:type="dcterms:W3CDTF">2005-08-05T18:17:19Z</dcterms:modified>
  <cp:revision>7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2934720</vt:r8>
  </property>
  <property fmtid="{D5CDD505-2E9C-101B-9397-08002B2CF9AE}" pid="3" name="_AuthorEmail">
    <vt:lpwstr>FELIPEV@DGPEC-S01.SSA.com</vt:lpwstr>
  </property>
  <property fmtid="{D5CDD505-2E9C-101B-9397-08002B2CF9AE}" pid="4" name="_AuthorEmailDisplayName">
    <vt:lpwstr>FELIPE VARGAS GARCIA</vt:lpwstr>
  </property>
  <property fmtid="{D5CDD505-2E9C-101B-9397-08002B2CF9AE}" pid="5" name="_EmailSubject">
    <vt:lpwstr>ENVIO MANUAL DE PROCEDIMIENTOS DRA. ADRIANA STANFORD DIRECCIÓN DE SUSTENTABILIDAD</vt:lpwstr>
  </property>
  <property fmtid="{D5CDD505-2E9C-101B-9397-08002B2CF9AE}" pid="6" name="_PreviousAdHocReviewCycleID">
    <vt:r8>-234170048</vt:r8>
  </property>
  <property fmtid="{D5CDD505-2E9C-101B-9397-08002B2CF9AE}" pid="7" name="_ReviewingToolsShownOnce">
    <vt:lpwstr/>
  </property>
</Properties>
</file>