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39880"/>
            <a:ext cx="6267240" cy="5815080"/>
            <a:chOff x="304920" y="1739880"/>
            <a:chExt cx="6267240" cy="5815080"/>
          </a:xfrm>
        </p:grpSpPr>
        <p:sp>
          <p:nvSpPr>
            <p:cNvPr id="1" name=""/>
            <p:cNvSpPr/>
            <p:nvPr/>
          </p:nvSpPr>
          <p:spPr>
            <a:xfrm>
              <a:off x="5452920" y="2287800"/>
              <a:ext cx="11188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36920" y="2287800"/>
              <a:ext cx="1115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27240" y="2287800"/>
              <a:ext cx="13093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706400" y="2287800"/>
              <a:ext cx="13204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2287800"/>
              <a:ext cx="140148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52920" y="1739880"/>
              <a:ext cx="1118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tancias académicas Estatales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36920" y="1739880"/>
              <a:ext cx="1115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Interculturalidad en los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27240" y="1739880"/>
              <a:ext cx="1309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06400" y="1739880"/>
              <a:ext cx="1320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739880"/>
              <a:ext cx="1401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287800"/>
              <a:ext cx="626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554960"/>
              <a:ext cx="6267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73988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706400" y="173988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27240" y="173988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336920" y="173988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52920" y="173988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572160" y="173988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706400" y="1739880"/>
              <a:ext cx="263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4920" y="1739880"/>
              <a:ext cx="1401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336920" y="1739880"/>
              <a:ext cx="2234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3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12 de 6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 la Implantación del componente Intercultural  en la Enseñanza y Capacitación del personal de Salud en Formación.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04920" y="7848720"/>
            <a:ext cx="6324480" cy="1201680"/>
            <a:chOff x="304920" y="7848720"/>
            <a:chExt cx="6324480" cy="1201680"/>
          </a:xfrm>
        </p:grpSpPr>
        <p:sp>
          <p:nvSpPr>
            <p:cNvPr id="40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837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837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837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837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624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624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624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624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82900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JOSE ALEJANDRO ALMAGUER GONZÁL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82900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CENTE VARGAS VITE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8290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EMÍ LUGO MALDONAD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90080"/>
              <a:ext cx="609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8624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837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90504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784872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807732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491280" y="2803680"/>
            <a:ext cx="572400" cy="378720"/>
            <a:chOff x="3491280" y="2803680"/>
            <a:chExt cx="572400" cy="378720"/>
          </a:xfrm>
        </p:grpSpPr>
        <p:grpSp>
          <p:nvGrpSpPr>
            <p:cNvPr id="105" name=""/>
            <p:cNvGrpSpPr/>
            <p:nvPr/>
          </p:nvGrpSpPr>
          <p:grpSpPr>
            <a:xfrm>
              <a:off x="3521160" y="2931840"/>
              <a:ext cx="491760" cy="250560"/>
              <a:chOff x="3521160" y="2931840"/>
              <a:chExt cx="491760" cy="250560"/>
            </a:xfrm>
          </p:grpSpPr>
          <p:sp>
            <p:nvSpPr>
              <p:cNvPr id="106" name=""/>
              <p:cNvSpPr/>
              <p:nvPr/>
            </p:nvSpPr>
            <p:spPr>
              <a:xfrm>
                <a:off x="3561120" y="2931840"/>
                <a:ext cx="451800" cy="25056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21160" y="3011040"/>
                <a:ext cx="418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Format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491280" y="2803680"/>
              <a:ext cx="572400" cy="250560"/>
              <a:chOff x="3491280" y="2803680"/>
              <a:chExt cx="572400" cy="250560"/>
            </a:xfrm>
          </p:grpSpPr>
          <p:sp>
            <p:nvSpPr>
              <p:cNvPr id="109" name=""/>
              <p:cNvSpPr/>
              <p:nvPr/>
            </p:nvSpPr>
            <p:spPr>
              <a:xfrm>
                <a:off x="3532320" y="2803680"/>
                <a:ext cx="487080" cy="24408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91280" y="2868840"/>
                <a:ext cx="572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4597560" y="3892680"/>
            <a:ext cx="534600" cy="250560"/>
            <a:chOff x="4597560" y="3892680"/>
            <a:chExt cx="534600" cy="250560"/>
          </a:xfrm>
        </p:grpSpPr>
        <p:sp>
          <p:nvSpPr>
            <p:cNvPr id="112" name=""/>
            <p:cNvSpPr/>
            <p:nvPr/>
          </p:nvSpPr>
          <p:spPr>
            <a:xfrm>
              <a:off x="4639320" y="3892680"/>
              <a:ext cx="492840" cy="2444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7560" y="3957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596120" y="3745080"/>
            <a:ext cx="572400" cy="250560"/>
            <a:chOff x="4596120" y="3745080"/>
            <a:chExt cx="572400" cy="250560"/>
          </a:xfrm>
        </p:grpSpPr>
        <p:sp>
          <p:nvSpPr>
            <p:cNvPr id="115" name=""/>
            <p:cNvSpPr/>
            <p:nvPr/>
          </p:nvSpPr>
          <p:spPr>
            <a:xfrm>
              <a:off x="4637160" y="3745080"/>
              <a:ext cx="487080" cy="2444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96120" y="38102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743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Iniciar proceso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de Implantació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05120" y="2603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2"/>
            <a:endCxn id="120" idx="0"/>
          </p:cNvCxnSpPr>
          <p:nvPr/>
        </p:nvCxnSpPr>
        <p:spPr>
          <a:xfrm flipH="1">
            <a:off x="837360" y="259056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3" name=""/>
          <p:cNvSpPr/>
          <p:nvPr/>
        </p:nvSpPr>
        <p:spPr>
          <a:xfrm>
            <a:off x="2324160" y="2492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03920" y="324180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440" y="322740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44920" y="4483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88440" y="3679920"/>
            <a:ext cx="467640" cy="259920"/>
            <a:chOff x="5788440" y="3679920"/>
            <a:chExt cx="467640" cy="259920"/>
          </a:xfrm>
        </p:grpSpPr>
        <p:sp>
          <p:nvSpPr>
            <p:cNvPr id="128" name=""/>
            <p:cNvSpPr/>
            <p:nvPr/>
          </p:nvSpPr>
          <p:spPr>
            <a:xfrm>
              <a:off x="5824440" y="3679920"/>
              <a:ext cx="43164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8440" y="37490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156120" y="264636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7360" y="5661000"/>
            <a:ext cx="52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470520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0" idx="2"/>
            <a:endCxn id="134" idx="0"/>
          </p:cNvCxnSpPr>
          <p:nvPr/>
        </p:nvCxnSpPr>
        <p:spPr>
          <a:xfrm flipH="1" flipV="1" rot="5400000">
            <a:off x="1398240" y="2220480"/>
            <a:ext cx="267120" cy="1388160"/>
          </a:xfrm>
          <a:prstGeom prst="bentConnector5">
            <a:avLst>
              <a:gd name="adj1" fmla="val -85695"/>
              <a:gd name="adj2" fmla="val 49987"/>
              <a:gd name="adj3" fmla="val 1858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4" idx="2"/>
            <a:endCxn id="136" idx="0"/>
          </p:cNvCxnSpPr>
          <p:nvPr/>
        </p:nvCxnSpPr>
        <p:spPr>
          <a:xfrm flipH="1" flipV="1" rot="5400000">
            <a:off x="2709360" y="2079720"/>
            <a:ext cx="521640" cy="1491480"/>
          </a:xfrm>
          <a:prstGeom prst="bentConnector5">
            <a:avLst>
              <a:gd name="adj1" fmla="val -43853"/>
              <a:gd name="adj2" fmla="val 38749"/>
              <a:gd name="adj3" fmla="val 1246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07" idx="2"/>
            <a:endCxn id="138" idx="0"/>
          </p:cNvCxnSpPr>
          <p:nvPr/>
        </p:nvCxnSpPr>
        <p:spPr>
          <a:xfrm flipH="1" rot="16200000">
            <a:off x="4104360" y="2804760"/>
            <a:ext cx="346680" cy="10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 flipV="1" rot="16200000">
            <a:off x="5312880" y="5603400"/>
            <a:ext cx="342000" cy="1243800"/>
          </a:xfrm>
          <a:prstGeom prst="bentConnector5">
            <a:avLst>
              <a:gd name="adj1" fmla="val -66912"/>
              <a:gd name="adj2" fmla="val 46612"/>
              <a:gd name="adj3" fmla="val 166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194280" y="64022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785840" y="4832280"/>
            <a:ext cx="503640" cy="360360"/>
            <a:chOff x="4785840" y="4832280"/>
            <a:chExt cx="503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794120" y="4941720"/>
              <a:ext cx="491760" cy="250920"/>
              <a:chOff x="4794120" y="4941720"/>
              <a:chExt cx="491760" cy="250920"/>
            </a:xfrm>
          </p:grpSpPr>
          <p:sp>
            <p:nvSpPr>
              <p:cNvPr id="145" name=""/>
              <p:cNvSpPr/>
              <p:nvPr/>
            </p:nvSpPr>
            <p:spPr>
              <a:xfrm>
                <a:off x="4834080" y="4941720"/>
                <a:ext cx="45180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94120" y="5021280"/>
                <a:ext cx="418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Format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785840" y="4832280"/>
              <a:ext cx="503640" cy="240480"/>
              <a:chOff x="4785840" y="4832280"/>
              <a:chExt cx="503640" cy="240480"/>
            </a:xfrm>
          </p:grpSpPr>
          <p:sp>
            <p:nvSpPr>
              <p:cNvPr id="148" name=""/>
              <p:cNvSpPr/>
              <p:nvPr/>
            </p:nvSpPr>
            <p:spPr>
              <a:xfrm>
                <a:off x="4825800" y="4832280"/>
                <a:ext cx="463680" cy="21888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85840" y="490284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1920960" y="27813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Inicio de contactos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11360" y="25653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ción a la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cia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cadémicas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21240" y="35258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ifusión del Modelo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sensibilización-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ció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5160" y="34369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Recepción d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y definición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acciones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76760" y="46324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Recepción del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y definición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acciones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680000" y="6288120"/>
            <a:ext cx="572400" cy="252360"/>
            <a:chOff x="4680000" y="6288120"/>
            <a:chExt cx="572400" cy="252360"/>
          </a:xfrm>
        </p:grpSpPr>
        <p:sp>
          <p:nvSpPr>
            <p:cNvPr id="153" name=""/>
            <p:cNvSpPr/>
            <p:nvPr/>
          </p:nvSpPr>
          <p:spPr>
            <a:xfrm>
              <a:off x="4717800" y="6288120"/>
              <a:ext cx="44964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80000" y="63550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29160" y="5850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7600" y="605484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  inclusió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propuesta e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Mapas curricular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753160" y="4968720"/>
            <a:ext cx="706320" cy="1428480"/>
            <a:chOff x="5753160" y="4968720"/>
            <a:chExt cx="706320" cy="1428480"/>
          </a:xfrm>
        </p:grpSpPr>
        <p:sp>
          <p:nvSpPr>
            <p:cNvPr id="157" name=""/>
            <p:cNvSpPr/>
            <p:nvPr/>
          </p:nvSpPr>
          <p:spPr>
            <a:xfrm>
              <a:off x="6235920" y="55767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872320" y="5305320"/>
              <a:ext cx="491760" cy="250920"/>
              <a:chOff x="5872320" y="5305320"/>
              <a:chExt cx="491760" cy="250920"/>
            </a:xfrm>
          </p:grpSpPr>
          <p:sp>
            <p:nvSpPr>
              <p:cNvPr id="159" name=""/>
              <p:cNvSpPr/>
              <p:nvPr/>
            </p:nvSpPr>
            <p:spPr>
              <a:xfrm>
                <a:off x="5912280" y="5305320"/>
                <a:ext cx="45180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72320" y="5384880"/>
                <a:ext cx="418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Format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058080" y="5556240"/>
              <a:ext cx="288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871240" y="5222880"/>
              <a:ext cx="489600" cy="243720"/>
              <a:chOff x="5871240" y="5222880"/>
              <a:chExt cx="489600" cy="243720"/>
            </a:xfrm>
          </p:grpSpPr>
          <p:sp>
            <p:nvSpPr>
              <p:cNvPr id="163" name=""/>
              <p:cNvSpPr/>
              <p:nvPr/>
            </p:nvSpPr>
            <p:spPr>
              <a:xfrm>
                <a:off x="5909040" y="5222880"/>
                <a:ext cx="451800" cy="21888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71240" y="5281200"/>
                <a:ext cx="358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879520" y="5999040"/>
              <a:ext cx="501840" cy="398160"/>
              <a:chOff x="5879520" y="5999040"/>
              <a:chExt cx="501840" cy="39816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5886000" y="6145200"/>
                <a:ext cx="488880" cy="252000"/>
                <a:chOff x="5886000" y="6145200"/>
                <a:chExt cx="488880" cy="252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924160" y="6145200"/>
                  <a:ext cx="450720" cy="250560"/>
                </a:xfrm>
                <a:prstGeom prst="flowChartDocumen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886000" y="6211800"/>
                  <a:ext cx="4366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inform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879520" y="5999040"/>
                <a:ext cx="501840" cy="245520"/>
                <a:chOff x="5879520" y="5999040"/>
                <a:chExt cx="501840" cy="2455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919120" y="5999040"/>
                  <a:ext cx="462240" cy="225720"/>
                </a:xfrm>
                <a:prstGeom prst="flowChartDocumen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879520" y="6059160"/>
                  <a:ext cx="3970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Oficio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5753160" y="496872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ividad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Implantación.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76920" y="575316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uesta 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if. curricul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32240" y="6419880"/>
            <a:ext cx="698400" cy="1028160"/>
            <a:chOff x="3432240" y="6419880"/>
            <a:chExt cx="698400" cy="1028160"/>
          </a:xfrm>
        </p:grpSpPr>
        <p:sp>
          <p:nvSpPr>
            <p:cNvPr id="174" name=""/>
            <p:cNvSpPr/>
            <p:nvPr/>
          </p:nvSpPr>
          <p:spPr>
            <a:xfrm>
              <a:off x="3741840" y="691488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67160" y="7295760"/>
              <a:ext cx="663480" cy="152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TERMIN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432240" y="6419880"/>
              <a:ext cx="609480" cy="622800"/>
              <a:chOff x="3432240" y="6419880"/>
              <a:chExt cx="609480" cy="622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3536280" y="6657840"/>
                <a:ext cx="501840" cy="384840"/>
                <a:chOff x="3536280" y="6657840"/>
                <a:chExt cx="501840" cy="3848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3542760" y="6790680"/>
                  <a:ext cx="488880" cy="252000"/>
                  <a:chOff x="3542760" y="6790680"/>
                  <a:chExt cx="488880" cy="2520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3580920" y="6790680"/>
                    <a:ext cx="450720" cy="250560"/>
                  </a:xfrm>
                  <a:prstGeom prst="flowChartDocumen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542760" y="6857280"/>
                    <a:ext cx="436680" cy="185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600" spc="-1" strike="noStrike">
                        <a:solidFill>
                          <a:srgbClr val="000000"/>
                        </a:solidFill>
                        <a:latin typeface="Arial"/>
                      </a:rPr>
                      <a:t>informe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3536280" y="6657840"/>
                  <a:ext cx="501840" cy="245520"/>
                  <a:chOff x="3536280" y="6657840"/>
                  <a:chExt cx="501840" cy="2455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575880" y="6657840"/>
                    <a:ext cx="462240" cy="225360"/>
                  </a:xfrm>
                  <a:prstGeom prst="flowChartDocumen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536280" y="6717960"/>
                    <a:ext cx="397080" cy="185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600" spc="-1" strike="noStrike">
                        <a:solidFill>
                          <a:srgbClr val="000000"/>
                        </a:solidFill>
                        <a:latin typeface="Arial"/>
                      </a:rPr>
                      <a:t>Oficio 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4" name=""/>
              <p:cNvSpPr/>
              <p:nvPr/>
            </p:nvSpPr>
            <p:spPr>
              <a:xfrm>
                <a:off x="3432240" y="6419880"/>
                <a:ext cx="609480" cy="3045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 entrega Infor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inal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85" name=""/>
          <p:cNvCxnSpPr>
            <a:stCxn id="113" idx="2"/>
            <a:endCxn id="150" idx="0"/>
          </p:cNvCxnSpPr>
          <p:nvPr/>
        </p:nvCxnSpPr>
        <p:spPr>
          <a:xfrm flipH="1" flipV="1" rot="5400000">
            <a:off x="5014800" y="3207240"/>
            <a:ext cx="705240" cy="1164600"/>
          </a:xfrm>
          <a:prstGeom prst="bentConnector5">
            <a:avLst>
              <a:gd name="adj1" fmla="val -32431"/>
              <a:gd name="adj2" fmla="val 44990"/>
              <a:gd name="adj3" fmla="val 1324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28" idx="2"/>
            <a:endCxn id="151" idx="0"/>
          </p:cNvCxnSpPr>
          <p:nvPr/>
        </p:nvCxnSpPr>
        <p:spPr>
          <a:xfrm rot="5400000">
            <a:off x="5157000" y="3749400"/>
            <a:ext cx="707400" cy="1059480"/>
          </a:xfrm>
          <a:prstGeom prst="bentConnector3">
            <a:avLst>
              <a:gd name="adj1" fmla="val 75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46" idx="2"/>
            <a:endCxn id="171" idx="0"/>
          </p:cNvCxnSpPr>
          <p:nvPr/>
        </p:nvCxnSpPr>
        <p:spPr>
          <a:xfrm flipH="1" flipV="1" rot="5400000">
            <a:off x="5419440" y="4551120"/>
            <a:ext cx="221400" cy="1055160"/>
          </a:xfrm>
          <a:prstGeom prst="bentConnector5">
            <a:avLst>
              <a:gd name="adj1" fmla="val -103583"/>
              <a:gd name="adj2" fmla="val 32354"/>
              <a:gd name="adj3" fmla="val 2035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V="1" rot="16200000">
            <a:off x="4331520" y="5863680"/>
            <a:ext cx="119880" cy="1230840"/>
          </a:xfrm>
          <a:prstGeom prst="bentConnector5">
            <a:avLst>
              <a:gd name="adj1" fmla="val -191867"/>
              <a:gd name="adj2" fmla="val 49268"/>
              <a:gd name="adj3" fmla="val 291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4944960" y="617220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Noemi Lugo Maldonado</cp:lastModifiedBy>
  <dcterms:modified xsi:type="dcterms:W3CDTF">2005-08-08T15:48:58Z</dcterms:modified>
  <cp:revision>6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3122290</vt:r8>
  </property>
  <property fmtid="{D5CDD505-2E9C-101B-9397-08002B2CF9AE}" pid="3" name="_AuthorEmail">
    <vt:lpwstr>HERNANG@DGPEC-S01.SSA.com</vt:lpwstr>
  </property>
  <property fmtid="{D5CDD505-2E9C-101B-9397-08002B2CF9AE}" pid="4" name="_AuthorEmailDisplayName">
    <vt:lpwstr>HERNAN JOSE GARCIA RAMIREZ</vt:lpwstr>
  </property>
  <property fmtid="{D5CDD505-2E9C-101B-9397-08002B2CF9AE}" pid="5" name="_EmailSubject">
    <vt:lpwstr>docs manual</vt:lpwstr>
  </property>
</Properties>
</file>