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693800"/>
            <a:ext cx="6311520" cy="5830560"/>
            <a:chOff x="304920" y="1693800"/>
            <a:chExt cx="6311520" cy="5830560"/>
          </a:xfrm>
        </p:grpSpPr>
        <p:sp>
          <p:nvSpPr>
            <p:cNvPr id="1" name=""/>
            <p:cNvSpPr/>
            <p:nvPr/>
          </p:nvSpPr>
          <p:spPr>
            <a:xfrm>
              <a:off x="4510440" y="2243160"/>
              <a:ext cx="2105640" cy="52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10560" y="2243160"/>
              <a:ext cx="2099880" cy="52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2243160"/>
              <a:ext cx="2105640" cy="52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10440" y="1693800"/>
              <a:ext cx="2105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0560" y="1693800"/>
              <a:ext cx="2099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1693800"/>
              <a:ext cx="2105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43160"/>
              <a:ext cx="631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7524360"/>
              <a:ext cx="631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693800"/>
              <a:ext cx="0" cy="5830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0560" y="1693800"/>
              <a:ext cx="0" cy="58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10440" y="1693800"/>
              <a:ext cx="0" cy="58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16440" y="1693800"/>
              <a:ext cx="0" cy="5830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693800"/>
              <a:ext cx="210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0560" y="1693800"/>
              <a:ext cx="420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16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108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Elaborar Informe de Av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055520" y="6564240"/>
            <a:ext cx="763560" cy="361800"/>
            <a:chOff x="1055520" y="6564240"/>
            <a:chExt cx="763560" cy="361800"/>
          </a:xfrm>
        </p:grpSpPr>
        <p:sp>
          <p:nvSpPr>
            <p:cNvPr id="98" name=""/>
            <p:cNvSpPr/>
            <p:nvPr/>
          </p:nvSpPr>
          <p:spPr>
            <a:xfrm>
              <a:off x="1095480" y="656424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55520" y="674064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278320" y="5245200"/>
            <a:ext cx="763560" cy="361800"/>
            <a:chOff x="5278320" y="5245200"/>
            <a:chExt cx="763560" cy="361800"/>
          </a:xfrm>
        </p:grpSpPr>
        <p:sp>
          <p:nvSpPr>
            <p:cNvPr id="101" name=""/>
            <p:cNvSpPr/>
            <p:nvPr/>
          </p:nvSpPr>
          <p:spPr>
            <a:xfrm>
              <a:off x="5318280" y="52452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78320" y="54216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Gráf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65720" y="512604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ratamient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1358640" y="2643120"/>
            <a:ext cx="108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639800" y="27846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9400" y="34797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8600" y="43689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1520" y="50022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57276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81280" y="64040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6800" y="64501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2"/>
            <a:endCxn id="116" idx="0"/>
          </p:cNvCxnSpPr>
          <p:nvPr/>
        </p:nvCxnSpPr>
        <p:spPr>
          <a:xfrm flipH="1" rot="16200000">
            <a:off x="2120040" y="3134880"/>
            <a:ext cx="559080" cy="210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6" idx="2"/>
            <a:endCxn id="105" idx="0"/>
          </p:cNvCxnSpPr>
          <p:nvPr/>
        </p:nvCxnSpPr>
        <p:spPr>
          <a:xfrm flipH="1" rot="16200000">
            <a:off x="4371840" y="3864960"/>
            <a:ext cx="343800" cy="217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2" idx="2"/>
            <a:endCxn id="119" idx="0"/>
          </p:cNvCxnSpPr>
          <p:nvPr/>
        </p:nvCxnSpPr>
        <p:spPr>
          <a:xfrm rot="5400000">
            <a:off x="4420800" y="4636800"/>
            <a:ext cx="192600" cy="2129760"/>
          </a:xfrm>
          <a:prstGeom prst="bentConnector3">
            <a:avLst>
              <a:gd name="adj1" fmla="val 494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99" idx="2"/>
          </p:cNvCxnSpPr>
          <p:nvPr/>
        </p:nvCxnSpPr>
        <p:spPr>
          <a:xfrm>
            <a:off x="1358640" y="6924240"/>
            <a:ext cx="39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019160" y="2435400"/>
            <a:ext cx="68436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71440" y="2448000"/>
            <a:ext cx="416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17720" y="7172280"/>
            <a:ext cx="684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2160" y="717876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01880" y="3703680"/>
            <a:ext cx="763560" cy="361800"/>
            <a:chOff x="1001880" y="3703680"/>
            <a:chExt cx="763560" cy="361800"/>
          </a:xfrm>
        </p:grpSpPr>
        <p:sp>
          <p:nvSpPr>
            <p:cNvPr id="126" name=""/>
            <p:cNvSpPr/>
            <p:nvPr/>
          </p:nvSpPr>
          <p:spPr>
            <a:xfrm>
              <a:off x="1041840" y="370368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01880" y="388008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Archiv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9560" y="35956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116160" y="5889600"/>
            <a:ext cx="763560" cy="361800"/>
            <a:chOff x="3116160" y="5889600"/>
            <a:chExt cx="763560" cy="361800"/>
          </a:xfrm>
        </p:grpSpPr>
        <p:sp>
          <p:nvSpPr>
            <p:cNvPr id="129" name=""/>
            <p:cNvSpPr/>
            <p:nvPr/>
          </p:nvSpPr>
          <p:spPr>
            <a:xfrm>
              <a:off x="3156120" y="58896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16160" y="60660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Gráf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86280" y="579744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15" idx="0"/>
          </p:cNvCxnSpPr>
          <p:nvPr/>
        </p:nvCxnSpPr>
        <p:spPr>
          <a:xfrm flipH="1">
            <a:off x="1345680" y="3227040"/>
            <a:ext cx="5760" cy="36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1017720" y="3013200"/>
            <a:ext cx="763560" cy="361800"/>
            <a:chOff x="1017720" y="3013200"/>
            <a:chExt cx="763560" cy="361800"/>
          </a:xfrm>
        </p:grpSpPr>
        <p:sp>
          <p:nvSpPr>
            <p:cNvPr id="134" name=""/>
            <p:cNvSpPr/>
            <p:nvPr/>
          </p:nvSpPr>
          <p:spPr>
            <a:xfrm>
              <a:off x="1057680" y="30132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31896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Corre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84240" y="29131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17960" y="4572000"/>
            <a:ext cx="763560" cy="361800"/>
            <a:chOff x="3117960" y="4572000"/>
            <a:chExt cx="763560" cy="361800"/>
          </a:xfrm>
        </p:grpSpPr>
        <p:sp>
          <p:nvSpPr>
            <p:cNvPr id="137" name=""/>
            <p:cNvSpPr/>
            <p:nvPr/>
          </p:nvSpPr>
          <p:spPr>
            <a:xfrm>
              <a:off x="3157920" y="45720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17960" y="47484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Archiv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87720" y="44686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0" idx="2"/>
            <a:endCxn id="113" idx="0"/>
          </p:cNvCxnSpPr>
          <p:nvPr/>
        </p:nvCxnSpPr>
        <p:spPr>
          <a:xfrm rot="5400000">
            <a:off x="2310480" y="5341680"/>
            <a:ext cx="200880" cy="201708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21:37:29Z</dcterms:modified>
  <cp:revision>8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9892105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