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sponsables estatales del Programa de capacit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itulares de las entidades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esarrollo Gerenc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Coordinar eventos de capacitación dirigidos a personal directivo de los Servicios de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driana Stanford Camar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02560" y="3117960"/>
            <a:ext cx="662400" cy="252000"/>
            <a:chOff x="502560" y="3117960"/>
            <a:chExt cx="662400" cy="252000"/>
          </a:xfrm>
        </p:grpSpPr>
        <p:sp>
          <p:nvSpPr>
            <p:cNvPr id="110" name=""/>
            <p:cNvSpPr/>
            <p:nvPr/>
          </p:nvSpPr>
          <p:spPr>
            <a:xfrm>
              <a:off x="555480" y="31179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560" y="318456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icio/Mem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2" name=""/>
          <p:cNvCxnSpPr>
            <a:endCxn id="113" idx="0"/>
          </p:cNvCxnSpPr>
          <p:nvPr/>
        </p:nvCxnSpPr>
        <p:spPr>
          <a:xfrm>
            <a:off x="2830680" y="5559120"/>
            <a:ext cx="1080" cy="324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4" name=""/>
          <p:cNvGrpSpPr/>
          <p:nvPr/>
        </p:nvGrpSpPr>
        <p:grpSpPr>
          <a:xfrm>
            <a:off x="3678120" y="6791400"/>
            <a:ext cx="662040" cy="252360"/>
            <a:chOff x="3678120" y="6791400"/>
            <a:chExt cx="662040" cy="252360"/>
          </a:xfrm>
        </p:grpSpPr>
        <p:sp>
          <p:nvSpPr>
            <p:cNvPr id="115" name=""/>
            <p:cNvSpPr/>
            <p:nvPr/>
          </p:nvSpPr>
          <p:spPr>
            <a:xfrm>
              <a:off x="3730680" y="6791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8120" y="68583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endCxn id="118" idx="0"/>
          </p:cNvCxnSpPr>
          <p:nvPr/>
        </p:nvCxnSpPr>
        <p:spPr>
          <a:xfrm flipH="1">
            <a:off x="4025880" y="7040160"/>
            <a:ext cx="180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8" name=""/>
          <p:cNvSpPr/>
          <p:nvPr/>
        </p:nvSpPr>
        <p:spPr>
          <a:xfrm>
            <a:off x="3949560" y="723888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5480" y="2870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1880" y="368784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3516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5" idx="2"/>
            <a:endCxn id="126" idx="0"/>
          </p:cNvCxnSpPr>
          <p:nvPr/>
        </p:nvCxnSpPr>
        <p:spPr>
          <a:xfrm flipH="1" rot="16200000">
            <a:off x="2237040" y="2998440"/>
            <a:ext cx="314640" cy="1067040"/>
          </a:xfrm>
          <a:prstGeom prst="bentConnector5">
            <a:avLst>
              <a:gd name="adj1" fmla="val 270675"/>
              <a:gd name="adj2" fmla="val 150253"/>
              <a:gd name="adj3" fmla="val 262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035600" y="442764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68560" y="513252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08320" y="637704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6320" y="2641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4066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720" y="28447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57960" y="4114800"/>
            <a:ext cx="773640" cy="252360"/>
            <a:chOff x="3657960" y="4114800"/>
            <a:chExt cx="773640" cy="252360"/>
          </a:xfrm>
        </p:grpSpPr>
        <p:sp>
          <p:nvSpPr>
            <p:cNvPr id="134" name=""/>
            <p:cNvSpPr/>
            <p:nvPr/>
          </p:nvSpPr>
          <p:spPr>
            <a:xfrm>
              <a:off x="3711600" y="4114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960" y="4181760"/>
              <a:ext cx="77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strumento diag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55920" y="30700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2600" y="36892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0840" y="3828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440" y="28098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ruye para desarrollo de progra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812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01920" y="3083040"/>
            <a:ext cx="933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signación de responsabilidad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7360" y="3657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truye para la elaboración del progra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 flipH="1" flipV="1" rot="5400000">
            <a:off x="1368720" y="2610720"/>
            <a:ext cx="80280" cy="997560"/>
          </a:xfrm>
          <a:prstGeom prst="bentConnector5">
            <a:avLst>
              <a:gd name="adj1" fmla="val -287837"/>
              <a:gd name="adj2" fmla="val 50000"/>
              <a:gd name="adj3" fmla="val 3878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664080" y="3762360"/>
            <a:ext cx="93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seña instr. diagnó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43280" y="45910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4920" y="52768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5" idx="2"/>
            <a:endCxn id="143" idx="0"/>
          </p:cNvCxnSpPr>
          <p:nvPr/>
        </p:nvCxnSpPr>
        <p:spPr>
          <a:xfrm>
            <a:off x="4044600" y="4367160"/>
            <a:ext cx="3960" cy="22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762360" y="4592520"/>
            <a:ext cx="9334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para aprob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9280" y="655020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57520" y="5232240"/>
            <a:ext cx="58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y Vo.Bo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49520" y="5883120"/>
            <a:ext cx="563400" cy="489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02080" y="60292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4880" y="606096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13" idx="3"/>
            <a:endCxn id="150" idx="2"/>
          </p:cNvCxnSpPr>
          <p:nvPr/>
        </p:nvCxnSpPr>
        <p:spPr>
          <a:xfrm>
            <a:off x="3112920" y="6127560"/>
            <a:ext cx="20232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3047040" y="5972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14320" y="63658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92520" y="6553080"/>
            <a:ext cx="657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 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3" idx="2"/>
            <a:endCxn id="148" idx="0"/>
          </p:cNvCxnSpPr>
          <p:nvPr/>
        </p:nvCxnSpPr>
        <p:spPr>
          <a:xfrm rot="5400000">
            <a:off x="3330000" y="4514040"/>
            <a:ext cx="336600" cy="1100520"/>
          </a:xfrm>
          <a:prstGeom prst="bentConnector5">
            <a:avLst>
              <a:gd name="adj1" fmla="val 68843"/>
              <a:gd name="adj2" fmla="val 50883"/>
              <a:gd name="adj3" fmla="val 325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13" idx="2"/>
            <a:endCxn id="147" idx="0"/>
          </p:cNvCxnSpPr>
          <p:nvPr/>
        </p:nvCxnSpPr>
        <p:spPr>
          <a:xfrm flipH="1" rot="16200000">
            <a:off x="3323880" y="5879880"/>
            <a:ext cx="178200" cy="1163160"/>
          </a:xfrm>
          <a:prstGeom prst="bentConnector5">
            <a:avLst>
              <a:gd name="adj1" fmla="val 130971"/>
              <a:gd name="adj2" fmla="val 49102"/>
              <a:gd name="adj3" fmla="val -30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7" name=""/>
          <p:cNvGrpSpPr/>
          <p:nvPr/>
        </p:nvGrpSpPr>
        <p:grpSpPr>
          <a:xfrm>
            <a:off x="2819520" y="3609720"/>
            <a:ext cx="1211400" cy="784440"/>
            <a:chOff x="2819520" y="3609720"/>
            <a:chExt cx="1211400" cy="784440"/>
          </a:xfrm>
        </p:grpSpPr>
        <p:cxnSp>
          <p:nvCxnSpPr>
            <p:cNvPr id="158" name=""/>
            <p:cNvCxnSpPr/>
            <p:nvPr/>
          </p:nvCxnSpPr>
          <p:spPr>
            <a:xfrm flipH="1" flipV="1" rot="5400000">
              <a:off x="3265200" y="3400200"/>
              <a:ext cx="327600" cy="1203840"/>
            </a:xfrm>
            <a:prstGeom prst="bentConnector5">
              <a:avLst>
                <a:gd name="adj1" fmla="val -69856"/>
                <a:gd name="adj2" fmla="val 43254"/>
                <a:gd name="adj3" fmla="val 1698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 flipV="1">
              <a:off x="2819520" y="399096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 18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681440" y="6264360"/>
            <a:ext cx="662040" cy="252360"/>
            <a:chOff x="4681440" y="6264360"/>
            <a:chExt cx="662040" cy="252360"/>
          </a:xfrm>
        </p:grpSpPr>
        <p:sp>
          <p:nvSpPr>
            <p:cNvPr id="162" name=""/>
            <p:cNvSpPr/>
            <p:nvPr/>
          </p:nvSpPr>
          <p:spPr>
            <a:xfrm>
              <a:off x="4734000" y="6264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1440" y="6331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627360" y="5686560"/>
            <a:ext cx="662040" cy="252000"/>
            <a:chOff x="3627360" y="5686560"/>
            <a:chExt cx="662040" cy="252000"/>
          </a:xfrm>
        </p:grpSpPr>
        <p:sp>
          <p:nvSpPr>
            <p:cNvPr id="165" name=""/>
            <p:cNvSpPr/>
            <p:nvPr/>
          </p:nvSpPr>
          <p:spPr>
            <a:xfrm>
              <a:off x="3679920" y="56865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27360" y="57531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960" y="5038560"/>
            <a:ext cx="662040" cy="252360"/>
            <a:chOff x="426960" y="5038560"/>
            <a:chExt cx="662040" cy="252360"/>
          </a:xfrm>
        </p:grpSpPr>
        <p:sp>
          <p:nvSpPr>
            <p:cNvPr id="168" name=""/>
            <p:cNvSpPr/>
            <p:nvPr/>
          </p:nvSpPr>
          <p:spPr>
            <a:xfrm>
              <a:off x="479520" y="5038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960" y="51055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38280" y="4454640"/>
            <a:ext cx="662040" cy="252000"/>
            <a:chOff x="1538280" y="4454640"/>
            <a:chExt cx="662040" cy="252000"/>
          </a:xfrm>
        </p:grpSpPr>
        <p:sp>
          <p:nvSpPr>
            <p:cNvPr id="171" name=""/>
            <p:cNvSpPr/>
            <p:nvPr/>
          </p:nvSpPr>
          <p:spPr>
            <a:xfrm>
              <a:off x="1590840" y="44546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8280" y="45212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54200" y="3762360"/>
            <a:ext cx="662040" cy="252360"/>
            <a:chOff x="2554200" y="3762360"/>
            <a:chExt cx="662040" cy="252360"/>
          </a:xfrm>
        </p:grpSpPr>
        <p:sp>
          <p:nvSpPr>
            <p:cNvPr id="174" name=""/>
            <p:cNvSpPr/>
            <p:nvPr/>
          </p:nvSpPr>
          <p:spPr>
            <a:xfrm>
              <a:off x="2606760" y="3762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4200" y="3829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46440" y="3000240"/>
            <a:ext cx="662040" cy="252360"/>
            <a:chOff x="3646440" y="3000240"/>
            <a:chExt cx="662040" cy="252360"/>
          </a:xfrm>
        </p:grpSpPr>
        <p:sp>
          <p:nvSpPr>
            <p:cNvPr id="177" name=""/>
            <p:cNvSpPr/>
            <p:nvPr/>
          </p:nvSpPr>
          <p:spPr>
            <a:xfrm>
              <a:off x="3699000" y="3000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6440" y="30672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081680" y="256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2960" y="230508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2"/>
          </p:cNvCxnSpPr>
          <p:nvPr/>
        </p:nvCxnSpPr>
        <p:spPr>
          <a:xfrm>
            <a:off x="3958920" y="2451240"/>
            <a:ext cx="3960" cy="218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2" name=""/>
          <p:cNvCxnSpPr/>
          <p:nvPr/>
        </p:nvCxnSpPr>
        <p:spPr>
          <a:xfrm rot="5400000">
            <a:off x="2211480" y="3437280"/>
            <a:ext cx="424440" cy="1064520"/>
          </a:xfrm>
          <a:prstGeom prst="bentConnector3">
            <a:avLst>
              <a:gd name="adj1" fmla="val 516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2097360" y="40244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13280" y="3287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5440" y="46116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15080" y="52563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67360" y="5872320"/>
            <a:ext cx="26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>
            <a:off x="5044320" y="6411600"/>
            <a:ext cx="252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9" name=""/>
          <p:cNvSpPr/>
          <p:nvPr/>
        </p:nvSpPr>
        <p:spPr>
          <a:xfrm>
            <a:off x="4968720" y="664848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00280" y="34545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35280" y="2746440"/>
            <a:ext cx="733320" cy="304560"/>
            <a:chOff x="3635280" y="2746440"/>
            <a:chExt cx="733320" cy="304560"/>
          </a:xfrm>
        </p:grpSpPr>
        <p:sp>
          <p:nvSpPr>
            <p:cNvPr id="192" name=""/>
            <p:cNvSpPr/>
            <p:nvPr/>
          </p:nvSpPr>
          <p:spPr>
            <a:xfrm>
              <a:off x="3682800" y="274644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5280" y="277164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vío de oficio para rúbric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87680" y="3419640"/>
            <a:ext cx="6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úbrica y env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endCxn id="194" idx="0"/>
          </p:cNvCxnSpPr>
          <p:nvPr/>
        </p:nvCxnSpPr>
        <p:spPr>
          <a:xfrm rot="5400000">
            <a:off x="3277440" y="2696400"/>
            <a:ext cx="351360" cy="1094760"/>
          </a:xfrm>
          <a:prstGeom prst="bentConnector3">
            <a:avLst>
              <a:gd name="adj1" fmla="val 52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6" name=""/>
          <p:cNvGrpSpPr/>
          <p:nvPr/>
        </p:nvGrpSpPr>
        <p:grpSpPr>
          <a:xfrm>
            <a:off x="1536840" y="4200480"/>
            <a:ext cx="733320" cy="313920"/>
            <a:chOff x="1536840" y="4200480"/>
            <a:chExt cx="733320" cy="313920"/>
          </a:xfrm>
        </p:grpSpPr>
        <p:sp>
          <p:nvSpPr>
            <p:cNvPr id="197" name=""/>
            <p:cNvSpPr/>
            <p:nvPr/>
          </p:nvSpPr>
          <p:spPr>
            <a:xfrm>
              <a:off x="1584360" y="4200480"/>
              <a:ext cx="60984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36840" y="422640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ubrica y envía a fir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1640" y="4762440"/>
            <a:ext cx="733320" cy="304560"/>
            <a:chOff x="431640" y="4762440"/>
            <a:chExt cx="733320" cy="304560"/>
          </a:xfrm>
        </p:grpSpPr>
        <p:sp>
          <p:nvSpPr>
            <p:cNvPr id="200" name=""/>
            <p:cNvSpPr/>
            <p:nvPr/>
          </p:nvSpPr>
          <p:spPr>
            <a:xfrm>
              <a:off x="479160" y="476244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640" y="4787640"/>
              <a:ext cx="733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irma 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endCxn id="200" idx="0"/>
          </p:cNvCxnSpPr>
          <p:nvPr/>
        </p:nvCxnSpPr>
        <p:spPr>
          <a:xfrm rot="5400000">
            <a:off x="1231200" y="4092480"/>
            <a:ext cx="222840" cy="1118160"/>
          </a:xfrm>
          <a:prstGeom prst="bentConnector3">
            <a:avLst>
              <a:gd name="adj1" fmla="val 52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"/>
          <p:cNvGrpSpPr/>
          <p:nvPr/>
        </p:nvGrpSpPr>
        <p:grpSpPr>
          <a:xfrm>
            <a:off x="3629160" y="5416560"/>
            <a:ext cx="733320" cy="304560"/>
            <a:chOff x="3629160" y="5416560"/>
            <a:chExt cx="733320" cy="304560"/>
          </a:xfrm>
        </p:grpSpPr>
        <p:sp>
          <p:nvSpPr>
            <p:cNvPr id="204" name=""/>
            <p:cNvSpPr/>
            <p:nvPr/>
          </p:nvSpPr>
          <p:spPr>
            <a:xfrm>
              <a:off x="3676680" y="541656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29160" y="544176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ibe oficio y enví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6" name=""/>
          <p:cNvCxnSpPr>
            <a:endCxn id="204" idx="0"/>
          </p:cNvCxnSpPr>
          <p:nvPr/>
        </p:nvCxnSpPr>
        <p:spPr>
          <a:xfrm flipH="1" rot="16200000">
            <a:off x="2223360" y="3657960"/>
            <a:ext cx="332640" cy="3185280"/>
          </a:xfrm>
          <a:prstGeom prst="bentConnector3">
            <a:avLst>
              <a:gd name="adj1" fmla="val 521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7" name=""/>
          <p:cNvGrpSpPr/>
          <p:nvPr/>
        </p:nvGrpSpPr>
        <p:grpSpPr>
          <a:xfrm>
            <a:off x="4683240" y="6051600"/>
            <a:ext cx="733320" cy="304560"/>
            <a:chOff x="4683240" y="6051600"/>
            <a:chExt cx="733320" cy="304560"/>
          </a:xfrm>
        </p:grpSpPr>
        <p:sp>
          <p:nvSpPr>
            <p:cNvPr id="208" name=""/>
            <p:cNvSpPr/>
            <p:nvPr/>
          </p:nvSpPr>
          <p:spPr>
            <a:xfrm>
              <a:off x="4730760" y="605160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3240" y="6076800"/>
              <a:ext cx="733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ibe ofici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4" idx="2"/>
            <a:endCxn id="208" idx="0"/>
          </p:cNvCxnSpPr>
          <p:nvPr/>
        </p:nvCxnSpPr>
        <p:spPr>
          <a:xfrm flipH="1" rot="16200000">
            <a:off x="4343400" y="5358960"/>
            <a:ext cx="330840" cy="10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19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664160" y="3483000"/>
            <a:ext cx="663480" cy="252360"/>
            <a:chOff x="4664160" y="3483000"/>
            <a:chExt cx="663480" cy="252360"/>
          </a:xfrm>
        </p:grpSpPr>
        <p:sp>
          <p:nvSpPr>
            <p:cNvPr id="213" name=""/>
            <p:cNvSpPr/>
            <p:nvPr/>
          </p:nvSpPr>
          <p:spPr>
            <a:xfrm>
              <a:off x="4718160" y="3483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4160" y="3549960"/>
              <a:ext cx="645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strumen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74880" y="4940280"/>
            <a:ext cx="662040" cy="252360"/>
            <a:chOff x="3674880" y="4940280"/>
            <a:chExt cx="662040" cy="252360"/>
          </a:xfrm>
        </p:grpSpPr>
        <p:sp>
          <p:nvSpPr>
            <p:cNvPr id="216" name=""/>
            <p:cNvSpPr/>
            <p:nvPr/>
          </p:nvSpPr>
          <p:spPr>
            <a:xfrm>
              <a:off x="3727440" y="4940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880" y="5007240"/>
              <a:ext cx="51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05120" y="3686040"/>
            <a:ext cx="663480" cy="252360"/>
            <a:chOff x="3705120" y="3686040"/>
            <a:chExt cx="663480" cy="252360"/>
          </a:xfrm>
        </p:grpSpPr>
        <p:sp>
          <p:nvSpPr>
            <p:cNvPr id="219" name=""/>
            <p:cNvSpPr/>
            <p:nvPr/>
          </p:nvSpPr>
          <p:spPr>
            <a:xfrm>
              <a:off x="3759120" y="3686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05120" y="3753000"/>
              <a:ext cx="607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str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8520" y="30528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37040" y="232092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94280" y="39924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62600" y="32749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81680" y="45324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2" idx="2"/>
            <a:endCxn id="227" idx="0"/>
          </p:cNvCxnSpPr>
          <p:nvPr/>
        </p:nvCxnSpPr>
        <p:spPr>
          <a:xfrm>
            <a:off x="5013000" y="24670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5107320" y="24526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660920" y="2629080"/>
            <a:ext cx="733320" cy="313920"/>
            <a:chOff x="4660920" y="2629080"/>
            <a:chExt cx="733320" cy="313920"/>
          </a:xfrm>
        </p:grpSpPr>
        <p:sp>
          <p:nvSpPr>
            <p:cNvPr id="227" name=""/>
            <p:cNvSpPr/>
            <p:nvPr/>
          </p:nvSpPr>
          <p:spPr>
            <a:xfrm>
              <a:off x="4708440" y="2629080"/>
              <a:ext cx="60984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60920" y="265500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strib. Y llenado de inst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705200" y="3216240"/>
            <a:ext cx="60984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05200" y="3186000"/>
            <a:ext cx="733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instrum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7" idx="2"/>
            <a:endCxn id="231" idx="0"/>
          </p:cNvCxnSpPr>
          <p:nvPr/>
        </p:nvCxnSpPr>
        <p:spPr>
          <a:xfrm flipH="1">
            <a:off x="5009400" y="2943360"/>
            <a:ext cx="39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740040" y="3432240"/>
            <a:ext cx="609840" cy="314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/>
          <p:nvPr/>
        </p:nvCxnSpPr>
        <p:spPr>
          <a:xfrm flipV="1" rot="16200000">
            <a:off x="4392000" y="2998080"/>
            <a:ext cx="99000" cy="965880"/>
          </a:xfrm>
          <a:prstGeom prst="bentConnector5">
            <a:avLst>
              <a:gd name="adj1" fmla="val -232116"/>
              <a:gd name="adj2" fmla="val 50000"/>
              <a:gd name="adj3" fmla="val 3321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562200" y="34164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instrumentos requisita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4149720"/>
            <a:ext cx="733320" cy="313920"/>
            <a:chOff x="3657600" y="4149720"/>
            <a:chExt cx="733320" cy="313920"/>
          </a:xfrm>
        </p:grpSpPr>
        <p:sp>
          <p:nvSpPr>
            <p:cNvPr id="238" name=""/>
            <p:cNvSpPr/>
            <p:nvPr/>
          </p:nvSpPr>
          <p:spPr>
            <a:xfrm>
              <a:off x="3705120" y="4149720"/>
              <a:ext cx="60984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57600" y="417564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nálisis de instr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0" name=""/>
          <p:cNvCxnSpPr>
            <a:stCxn id="220" idx="2"/>
            <a:endCxn id="238" idx="0"/>
          </p:cNvCxnSpPr>
          <p:nvPr/>
        </p:nvCxnSpPr>
        <p:spPr>
          <a:xfrm>
            <a:off x="4009680" y="39366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3673440" y="4681440"/>
            <a:ext cx="733320" cy="313920"/>
            <a:chOff x="3673440" y="4681440"/>
            <a:chExt cx="733320" cy="313920"/>
          </a:xfrm>
        </p:grpSpPr>
        <p:sp>
          <p:nvSpPr>
            <p:cNvPr id="242" name=""/>
            <p:cNvSpPr/>
            <p:nvPr/>
          </p:nvSpPr>
          <p:spPr>
            <a:xfrm>
              <a:off x="3720960" y="4681440"/>
              <a:ext cx="60984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3440" y="470736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 Progra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" name=""/>
          <p:cNvCxnSpPr>
            <a:stCxn id="239" idx="2"/>
            <a:endCxn id="242" idx="0"/>
          </p:cNvCxnSpPr>
          <p:nvPr/>
        </p:nvCxnSpPr>
        <p:spPr>
          <a:xfrm>
            <a:off x="4024440" y="445248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5" name=""/>
          <p:cNvGrpSpPr/>
          <p:nvPr/>
        </p:nvGrpSpPr>
        <p:grpSpPr>
          <a:xfrm>
            <a:off x="3718080" y="5281560"/>
            <a:ext cx="733320" cy="506520"/>
            <a:chOff x="3718080" y="5281560"/>
            <a:chExt cx="733320" cy="506520"/>
          </a:xfrm>
        </p:grpSpPr>
        <p:sp>
          <p:nvSpPr>
            <p:cNvPr id="246" name=""/>
            <p:cNvSpPr/>
            <p:nvPr/>
          </p:nvSpPr>
          <p:spPr>
            <a:xfrm>
              <a:off x="4097520" y="52815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27440" y="5430960"/>
              <a:ext cx="609480" cy="314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8080" y="541980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ord.  con edos. para inicio de act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9" name=""/>
          <p:cNvCxnSpPr>
            <a:stCxn id="216" idx="2"/>
            <a:endCxn id="247" idx="0"/>
          </p:cNvCxnSpPr>
          <p:nvPr/>
        </p:nvCxnSpPr>
        <p:spPr>
          <a:xfrm>
            <a:off x="4032000" y="517680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" name=""/>
          <p:cNvGrpSpPr/>
          <p:nvPr/>
        </p:nvGrpSpPr>
        <p:grpSpPr>
          <a:xfrm>
            <a:off x="5724360" y="5516640"/>
            <a:ext cx="733320" cy="506160"/>
            <a:chOff x="5724360" y="5516640"/>
            <a:chExt cx="733320" cy="506160"/>
          </a:xfrm>
        </p:grpSpPr>
        <p:sp>
          <p:nvSpPr>
            <p:cNvPr id="251" name=""/>
            <p:cNvSpPr/>
            <p:nvPr/>
          </p:nvSpPr>
          <p:spPr>
            <a:xfrm>
              <a:off x="6103800" y="55166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33720" y="5665680"/>
              <a:ext cx="60948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4360" y="565452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ord.  con inst.. para realizar cap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21480" y="6151680"/>
            <a:ext cx="733320" cy="506160"/>
            <a:chOff x="5721480" y="6151680"/>
            <a:chExt cx="733320" cy="506160"/>
          </a:xfrm>
        </p:grpSpPr>
        <p:sp>
          <p:nvSpPr>
            <p:cNvPr id="255" name=""/>
            <p:cNvSpPr/>
            <p:nvPr/>
          </p:nvSpPr>
          <p:spPr>
            <a:xfrm>
              <a:off x="6100920" y="61516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30840" y="6300720"/>
              <a:ext cx="609480" cy="31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21480" y="628956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p. del personal directiv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" name=""/>
          <p:cNvCxnSpPr/>
          <p:nvPr/>
        </p:nvCxnSpPr>
        <p:spPr>
          <a:xfrm flipH="1">
            <a:off x="6082560" y="6638760"/>
            <a:ext cx="5400" cy="324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6006960" y="701028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/>
          <p:nvPr/>
        </p:nvCxnSpPr>
        <p:spPr>
          <a:xfrm flipH="1" flipV="1" rot="5400000">
            <a:off x="4999680" y="4739400"/>
            <a:ext cx="122400" cy="1955160"/>
          </a:xfrm>
          <a:prstGeom prst="bentConnector5">
            <a:avLst>
              <a:gd name="adj1" fmla="val -187315"/>
              <a:gd name="adj2" fmla="val 51565"/>
              <a:gd name="adj3" fmla="val 2876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3" idx="2"/>
            <a:endCxn id="257" idx="0"/>
          </p:cNvCxnSpPr>
          <p:nvPr/>
        </p:nvCxnSpPr>
        <p:spPr>
          <a:xfrm flipH="1">
            <a:off x="6087240" y="602244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ja:20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601000" y="5616720"/>
            <a:ext cx="662760" cy="252000"/>
            <a:chOff x="2601000" y="5616720"/>
            <a:chExt cx="662760" cy="252000"/>
          </a:xfrm>
        </p:grpSpPr>
        <p:sp>
          <p:nvSpPr>
            <p:cNvPr id="264" name=""/>
            <p:cNvSpPr/>
            <p:nvPr/>
          </p:nvSpPr>
          <p:spPr>
            <a:xfrm>
              <a:off x="2654280" y="56167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01000" y="568332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670920" y="4876920"/>
            <a:ext cx="662760" cy="252000"/>
            <a:chOff x="3670920" y="4876920"/>
            <a:chExt cx="662760" cy="252000"/>
          </a:xfrm>
        </p:grpSpPr>
        <p:sp>
          <p:nvSpPr>
            <p:cNvPr id="267" name=""/>
            <p:cNvSpPr/>
            <p:nvPr/>
          </p:nvSpPr>
          <p:spPr>
            <a:xfrm>
              <a:off x="3724200" y="48769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70920" y="494352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585160" y="4629240"/>
            <a:ext cx="662760" cy="252000"/>
            <a:chOff x="2585160" y="4629240"/>
            <a:chExt cx="662760" cy="252000"/>
          </a:xfrm>
        </p:grpSpPr>
        <p:sp>
          <p:nvSpPr>
            <p:cNvPr id="270" name=""/>
            <p:cNvSpPr/>
            <p:nvPr/>
          </p:nvSpPr>
          <p:spPr>
            <a:xfrm>
              <a:off x="2638440" y="4629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5160" y="469584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7000" y="3917880"/>
            <a:ext cx="662760" cy="252360"/>
            <a:chOff x="477000" y="3917880"/>
            <a:chExt cx="662760" cy="252360"/>
          </a:xfrm>
        </p:grpSpPr>
        <p:sp>
          <p:nvSpPr>
            <p:cNvPr id="273" name=""/>
            <p:cNvSpPr/>
            <p:nvPr/>
          </p:nvSpPr>
          <p:spPr>
            <a:xfrm>
              <a:off x="530280" y="3917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000" y="398484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686760" y="5514840"/>
            <a:ext cx="662760" cy="252360"/>
            <a:chOff x="3686760" y="5514840"/>
            <a:chExt cx="662760" cy="252360"/>
          </a:xfrm>
        </p:grpSpPr>
        <p:sp>
          <p:nvSpPr>
            <p:cNvPr id="276" name=""/>
            <p:cNvSpPr/>
            <p:nvPr/>
          </p:nvSpPr>
          <p:spPr>
            <a:xfrm>
              <a:off x="3740040" y="5514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86760" y="558180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804640" y="3003480"/>
            <a:ext cx="662760" cy="252360"/>
            <a:chOff x="5804640" y="3003480"/>
            <a:chExt cx="662760" cy="252360"/>
          </a:xfrm>
        </p:grpSpPr>
        <p:sp>
          <p:nvSpPr>
            <p:cNvPr id="279" name=""/>
            <p:cNvSpPr/>
            <p:nvPr/>
          </p:nvSpPr>
          <p:spPr>
            <a:xfrm>
              <a:off x="5857920" y="3003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04640" y="307044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826240" y="2589120"/>
            <a:ext cx="733320" cy="463680"/>
            <a:chOff x="5826240" y="2589120"/>
            <a:chExt cx="733320" cy="463680"/>
          </a:xfrm>
        </p:grpSpPr>
        <p:sp>
          <p:nvSpPr>
            <p:cNvPr id="282" name=""/>
            <p:cNvSpPr/>
            <p:nvPr/>
          </p:nvSpPr>
          <p:spPr>
            <a:xfrm>
              <a:off x="6205680" y="258912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35600" y="2738520"/>
              <a:ext cx="609480" cy="314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6240" y="2727360"/>
              <a:ext cx="733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vía 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22800" y="2292480"/>
            <a:ext cx="15264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5" idx="2"/>
          </p:cNvCxnSpPr>
          <p:nvPr/>
        </p:nvCxnSpPr>
        <p:spPr>
          <a:xfrm>
            <a:off x="6098760" y="2438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" name=""/>
          <p:cNvGrpSpPr/>
          <p:nvPr/>
        </p:nvGrpSpPr>
        <p:grpSpPr>
          <a:xfrm>
            <a:off x="488880" y="3500280"/>
            <a:ext cx="733320" cy="492120"/>
            <a:chOff x="488880" y="3500280"/>
            <a:chExt cx="733320" cy="492120"/>
          </a:xfrm>
        </p:grpSpPr>
        <p:sp>
          <p:nvSpPr>
            <p:cNvPr id="288" name=""/>
            <p:cNvSpPr/>
            <p:nvPr/>
          </p:nvSpPr>
          <p:spPr>
            <a:xfrm>
              <a:off x="906840" y="3500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88880" y="3678120"/>
              <a:ext cx="733320" cy="314280"/>
              <a:chOff x="488880" y="3678120"/>
              <a:chExt cx="733320" cy="31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536400" y="3678120"/>
                <a:ext cx="609840" cy="3142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880" y="3753000"/>
                <a:ext cx="733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Recibe y turn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92" name=""/>
          <p:cNvCxnSpPr>
            <a:stCxn id="279" idx="2"/>
            <a:endCxn id="290" idx="0"/>
          </p:cNvCxnSpPr>
          <p:nvPr/>
        </p:nvCxnSpPr>
        <p:spPr>
          <a:xfrm rot="5400000">
            <a:off x="3282480" y="798120"/>
            <a:ext cx="438840" cy="5322240"/>
          </a:xfrm>
          <a:prstGeom prst="bentConnector3">
            <a:avLst>
              <a:gd name="adj1" fmla="val 513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3" name=""/>
          <p:cNvGrpSpPr/>
          <p:nvPr/>
        </p:nvGrpSpPr>
        <p:grpSpPr>
          <a:xfrm>
            <a:off x="1495440" y="3649680"/>
            <a:ext cx="733320" cy="492120"/>
            <a:chOff x="1495440" y="3649680"/>
            <a:chExt cx="733320" cy="492120"/>
          </a:xfrm>
        </p:grpSpPr>
        <p:sp>
          <p:nvSpPr>
            <p:cNvPr id="294" name=""/>
            <p:cNvSpPr/>
            <p:nvPr/>
          </p:nvSpPr>
          <p:spPr>
            <a:xfrm>
              <a:off x="1913400" y="36496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495440" y="3827520"/>
              <a:ext cx="733320" cy="314280"/>
              <a:chOff x="1495440" y="3827520"/>
              <a:chExt cx="733320" cy="314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42960" y="3827520"/>
                <a:ext cx="609840" cy="3142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5440" y="3902400"/>
                <a:ext cx="733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Recibe y turn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581200" y="4202280"/>
            <a:ext cx="733320" cy="492120"/>
            <a:chOff x="2581200" y="4202280"/>
            <a:chExt cx="733320" cy="492120"/>
          </a:xfrm>
        </p:grpSpPr>
        <p:sp>
          <p:nvSpPr>
            <p:cNvPr id="299" name=""/>
            <p:cNvSpPr/>
            <p:nvPr/>
          </p:nvSpPr>
          <p:spPr>
            <a:xfrm>
              <a:off x="2999160" y="4202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581200" y="4380120"/>
              <a:ext cx="733320" cy="314280"/>
              <a:chOff x="2581200" y="4380120"/>
              <a:chExt cx="733320" cy="314280"/>
            </a:xfrm>
          </p:grpSpPr>
          <p:sp>
            <p:nvSpPr>
              <p:cNvPr id="301" name=""/>
              <p:cNvSpPr/>
              <p:nvPr/>
            </p:nvSpPr>
            <p:spPr>
              <a:xfrm>
                <a:off x="2628720" y="4380120"/>
                <a:ext cx="609840" cy="3142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81200" y="4455000"/>
                <a:ext cx="733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Recibe y turn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66960" y="4459320"/>
            <a:ext cx="733680" cy="492120"/>
            <a:chOff x="3666960" y="4459320"/>
            <a:chExt cx="733680" cy="492120"/>
          </a:xfrm>
        </p:grpSpPr>
        <p:sp>
          <p:nvSpPr>
            <p:cNvPr id="304" name=""/>
            <p:cNvSpPr/>
            <p:nvPr/>
          </p:nvSpPr>
          <p:spPr>
            <a:xfrm>
              <a:off x="4084920" y="445932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4840" y="4637160"/>
              <a:ext cx="609480" cy="314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66960" y="4664160"/>
              <a:ext cx="7336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guimiento de activida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692520" y="5113440"/>
            <a:ext cx="733320" cy="492120"/>
            <a:chOff x="3692520" y="5113440"/>
            <a:chExt cx="733320" cy="492120"/>
          </a:xfrm>
        </p:grpSpPr>
        <p:sp>
          <p:nvSpPr>
            <p:cNvPr id="308" name=""/>
            <p:cNvSpPr/>
            <p:nvPr/>
          </p:nvSpPr>
          <p:spPr>
            <a:xfrm>
              <a:off x="4109760" y="51134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40040" y="5291280"/>
              <a:ext cx="609120" cy="314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92520" y="5318280"/>
              <a:ext cx="733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 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97040" y="5237280"/>
            <a:ext cx="733320" cy="528840"/>
            <a:chOff x="2597040" y="5237280"/>
            <a:chExt cx="733320" cy="528840"/>
          </a:xfrm>
        </p:grpSpPr>
        <p:sp>
          <p:nvSpPr>
            <p:cNvPr id="312" name=""/>
            <p:cNvSpPr/>
            <p:nvPr/>
          </p:nvSpPr>
          <p:spPr>
            <a:xfrm>
              <a:off x="3015000" y="5237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597040" y="5414760"/>
              <a:ext cx="733320" cy="351360"/>
              <a:chOff x="2597040" y="5414760"/>
              <a:chExt cx="733320" cy="351360"/>
            </a:xfrm>
          </p:grpSpPr>
          <p:sp>
            <p:nvSpPr>
              <p:cNvPr id="314" name=""/>
              <p:cNvSpPr/>
              <p:nvPr/>
            </p:nvSpPr>
            <p:spPr>
              <a:xfrm>
                <a:off x="2644560" y="5414760"/>
                <a:ext cx="609840" cy="3139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7040" y="5489280"/>
                <a:ext cx="733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Informa a la DGPLAD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16" name=""/>
          <p:cNvCxnSpPr/>
          <p:nvPr/>
        </p:nvCxnSpPr>
        <p:spPr>
          <a:xfrm flipH="1" flipV="1" rot="5400000">
            <a:off x="1357200" y="3406320"/>
            <a:ext cx="165600" cy="1007280"/>
          </a:xfrm>
          <a:prstGeom prst="bentConnector5">
            <a:avLst>
              <a:gd name="adj1" fmla="val -138344"/>
              <a:gd name="adj2" fmla="val 49982"/>
              <a:gd name="adj3" fmla="val 2383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6" idx="2"/>
            <a:endCxn id="301" idx="0"/>
          </p:cNvCxnSpPr>
          <p:nvPr/>
        </p:nvCxnSpPr>
        <p:spPr>
          <a:xfrm flipH="1" rot="16200000">
            <a:off x="2271600" y="3717360"/>
            <a:ext cx="238680" cy="1086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1" idx="2"/>
            <a:endCxn id="305" idx="0"/>
          </p:cNvCxnSpPr>
          <p:nvPr/>
        </p:nvCxnSpPr>
        <p:spPr>
          <a:xfrm flipH="1" flipV="1" rot="5400000">
            <a:off x="3447720" y="4122360"/>
            <a:ext cx="57960" cy="1086480"/>
          </a:xfrm>
          <a:prstGeom prst="bentConnector5">
            <a:avLst>
              <a:gd name="adj1" fmla="val -400000"/>
              <a:gd name="adj2" fmla="val 49983"/>
              <a:gd name="adj3" fmla="val 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06" idx="2"/>
            <a:endCxn id="309" idx="0"/>
          </p:cNvCxnSpPr>
          <p:nvPr/>
        </p:nvCxnSpPr>
        <p:spPr>
          <a:xfrm>
            <a:off x="4033440" y="493992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/>
          <p:nvPr/>
        </p:nvCxnSpPr>
        <p:spPr>
          <a:xfrm flipV="1" rot="16200000">
            <a:off x="3167640" y="5110200"/>
            <a:ext cx="351360" cy="959760"/>
          </a:xfrm>
          <a:prstGeom prst="bentConnector5">
            <a:avLst>
              <a:gd name="adj1" fmla="val -65128"/>
              <a:gd name="adj2" fmla="val 45666"/>
              <a:gd name="adj3" fmla="val 165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2536920" y="61628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H="1">
            <a:off x="2867760" y="5890680"/>
            <a:ext cx="252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3" name=""/>
          <p:cNvGrpSpPr/>
          <p:nvPr/>
        </p:nvGrpSpPr>
        <p:grpSpPr>
          <a:xfrm>
            <a:off x="1492920" y="4064040"/>
            <a:ext cx="662760" cy="252360"/>
            <a:chOff x="1492920" y="4064040"/>
            <a:chExt cx="662760" cy="252360"/>
          </a:xfrm>
        </p:grpSpPr>
        <p:sp>
          <p:nvSpPr>
            <p:cNvPr id="324" name=""/>
            <p:cNvSpPr/>
            <p:nvPr/>
          </p:nvSpPr>
          <p:spPr>
            <a:xfrm>
              <a:off x="1546200" y="4064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92920" y="413100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oja: 21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8:27:48Z</dcterms:modified>
  <cp:revision>78</cp:revision>
  <dc:subject/>
  <dc:title>Presentación de PowerPoint</dc:title>
</cp:coreProperties>
</file>