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72880" y="1663560"/>
            <a:ext cx="6324840" cy="5815080"/>
            <a:chOff x="272880" y="1663560"/>
            <a:chExt cx="6324840" cy="5815080"/>
          </a:xfrm>
        </p:grpSpPr>
        <p:sp>
          <p:nvSpPr>
            <p:cNvPr id="1" name=""/>
            <p:cNvSpPr/>
            <p:nvPr/>
          </p:nvSpPr>
          <p:spPr>
            <a:xfrm>
              <a:off x="5545080" y="2211480"/>
              <a:ext cx="105264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489560" y="2211480"/>
              <a:ext cx="105552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36920" y="2211480"/>
              <a:ext cx="105264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381400" y="2211480"/>
              <a:ext cx="105552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328760" y="2211480"/>
              <a:ext cx="105264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72880" y="2211480"/>
              <a:ext cx="105588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545080" y="1663560"/>
              <a:ext cx="10526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489560" y="1663560"/>
              <a:ext cx="10555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36920" y="1663560"/>
              <a:ext cx="10526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381400" y="1663560"/>
              <a:ext cx="10555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ada institución del sector salud</a:t>
              </a: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328760" y="1663560"/>
              <a:ext cx="10526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ubdirección de Innovación Logística</a:t>
              </a: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72880" y="1663560"/>
              <a:ext cx="10558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de Procesos Logísticos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72880" y="2211480"/>
              <a:ext cx="632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72880" y="7478640"/>
              <a:ext cx="6324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72880" y="1663560"/>
              <a:ext cx="0" cy="5815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28760" y="166356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381400" y="166356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436920" y="166356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4489560" y="166356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545080" y="166356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6597720" y="1663560"/>
              <a:ext cx="0" cy="5815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28760" y="1663560"/>
              <a:ext cx="2108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272880" y="1663560"/>
              <a:ext cx="10558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436920" y="1663560"/>
              <a:ext cx="3160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" name=""/>
          <p:cNvGrpSpPr/>
          <p:nvPr/>
        </p:nvGrpSpPr>
        <p:grpSpPr>
          <a:xfrm>
            <a:off x="304920" y="228600"/>
            <a:ext cx="6324480" cy="914400"/>
            <a:chOff x="304920" y="228600"/>
            <a:chExt cx="6324480" cy="914400"/>
          </a:xfrm>
        </p:grpSpPr>
        <p:sp>
          <p:nvSpPr>
            <p:cNvPr id="26" name=""/>
            <p:cNvSpPr/>
            <p:nvPr/>
          </p:nvSpPr>
          <p:spPr>
            <a:xfrm>
              <a:off x="5549760" y="716040"/>
              <a:ext cx="10796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Hoja: 55 de 11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28840" y="716040"/>
              <a:ext cx="4120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Nombre del Procedimiento: Para la retroalimentación que potencie el papel de cada institución en la implantación de mejoras en la cadena de suministro</a:t>
              </a:r>
              <a:r>
                <a:rPr b="1" lang="es-MX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549760" y="455760"/>
              <a:ext cx="1079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Rev.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428840" y="455760"/>
              <a:ext cx="412092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Dirección de Procesos Logísticos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5549760" y="228600"/>
              <a:ext cx="10796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Código: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428840" y="228600"/>
              <a:ext cx="412092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Arial"/>
                </a:rPr>
                <a:t>MANUAL DE PROCEDIMIENTO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304920" y="228600"/>
              <a:ext cx="11239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304920" y="2286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04920" y="11430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304920" y="228600"/>
              <a:ext cx="0" cy="91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28840" y="2286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549760" y="2286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6629400" y="228600"/>
              <a:ext cx="0" cy="91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428840" y="45576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1428840" y="71604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90720" cy="53208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304920" y="7848720"/>
            <a:ext cx="6324480" cy="1096920"/>
            <a:chOff x="304920" y="7848720"/>
            <a:chExt cx="6324480" cy="1096920"/>
          </a:xfrm>
        </p:grpSpPr>
        <p:sp>
          <p:nvSpPr>
            <p:cNvPr id="43" name=""/>
            <p:cNvSpPr/>
            <p:nvPr/>
          </p:nvSpPr>
          <p:spPr>
            <a:xfrm>
              <a:off x="4800600" y="8077320"/>
              <a:ext cx="1828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utoriz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895480" y="8077320"/>
              <a:ext cx="1905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Revis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14400" y="8077320"/>
              <a:ext cx="19810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Elabor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04920" y="8077320"/>
              <a:ext cx="6094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800600" y="8732880"/>
              <a:ext cx="18288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gosto 4, 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95480" y="8732880"/>
              <a:ext cx="19051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gosto 4, 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14400" y="8732880"/>
              <a:ext cx="19810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gosto 4, 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04920" y="8732880"/>
              <a:ext cx="6094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ech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0600" y="8520120"/>
              <a:ext cx="18288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895480" y="8520120"/>
              <a:ext cx="19051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14400" y="8520120"/>
              <a:ext cx="19810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920" y="8520120"/>
              <a:ext cx="6094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irm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00600" y="8291520"/>
              <a:ext cx="1828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Ing. Jorge Medina Lamadri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895480" y="8291520"/>
              <a:ext cx="1905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Lic. Blanca Chávez Buenrostr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14400" y="8291520"/>
              <a:ext cx="1981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Lic. Marisol Osorio Marí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04920" y="8291520"/>
              <a:ext cx="609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Nomb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4920" y="7848720"/>
              <a:ext cx="6324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CONTROL DE EMISIÓN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04920" y="784872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04920" y="82915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4920" y="85201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4920" y="873288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04920" y="894564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04920" y="7848720"/>
              <a:ext cx="0" cy="10969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629400" y="7848720"/>
              <a:ext cx="0" cy="10969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04920" y="80773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14400" y="8077320"/>
              <a:ext cx="0" cy="86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8077320"/>
              <a:ext cx="0" cy="86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00600" y="8077320"/>
              <a:ext cx="0" cy="86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507960" y="2438280"/>
            <a:ext cx="663480" cy="15264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33720" y="372600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01880" y="531324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2880" y="2762280"/>
            <a:ext cx="609480" cy="2970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Coordinació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/ retroalimentar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a las institucion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76320" y="261468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/>
          <p:nvPr/>
        </p:nvCxnSpPr>
        <p:spPr>
          <a:xfrm>
            <a:off x="839880" y="2590920"/>
            <a:ext cx="8640" cy="172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1339920" y="29145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7680" y="6165720"/>
            <a:ext cx="663480" cy="15264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ÉRMI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42880" y="545616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Comunicació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sobre retroali-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mentació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/>
          <p:nvPr/>
        </p:nvCxnSpPr>
        <p:spPr>
          <a:xfrm>
            <a:off x="847800" y="5761080"/>
            <a:ext cx="2160" cy="405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2577960" y="3868560"/>
            <a:ext cx="609840" cy="3146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finición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accion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52560" y="291312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398960" y="3259080"/>
            <a:ext cx="661680" cy="252360"/>
            <a:chOff x="1398960" y="3259080"/>
            <a:chExt cx="661680" cy="252360"/>
          </a:xfrm>
        </p:grpSpPr>
        <p:sp>
          <p:nvSpPr>
            <p:cNvPr id="84" name=""/>
            <p:cNvSpPr/>
            <p:nvPr/>
          </p:nvSpPr>
          <p:spPr>
            <a:xfrm>
              <a:off x="1451160" y="325908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398960" y="3326040"/>
              <a:ext cx="4154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rre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1397160" y="3056040"/>
            <a:ext cx="609480" cy="314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troalimen-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ación a la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stitucione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/>
          <p:nvPr/>
        </p:nvCxnSpPr>
        <p:spPr>
          <a:xfrm flipH="1" flipV="1" rot="5400000">
            <a:off x="1272960" y="2630160"/>
            <a:ext cx="3960" cy="854640"/>
          </a:xfrm>
          <a:prstGeom prst="bentConnector5">
            <a:avLst>
              <a:gd name="adj1" fmla="val -7200000"/>
              <a:gd name="adj2" fmla="val 49978"/>
              <a:gd name="adj3" fmla="val 7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"/>
          <p:cNvCxnSpPr/>
          <p:nvPr/>
        </p:nvCxnSpPr>
        <p:spPr>
          <a:xfrm flipH="1" rot="16200000">
            <a:off x="2131920" y="3118320"/>
            <a:ext cx="373680" cy="1127880"/>
          </a:xfrm>
          <a:prstGeom prst="bentConnector3">
            <a:avLst>
              <a:gd name="adj1" fmla="val 518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1960560" y="453852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01920" y="468144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Comunicació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sobre retroali-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mentació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/>
          <p:nvPr/>
        </p:nvCxnSpPr>
        <p:spPr>
          <a:xfrm rot="5400000">
            <a:off x="1091520" y="4741560"/>
            <a:ext cx="470520" cy="9594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/>
          <p:nvPr/>
        </p:nvCxnSpPr>
        <p:spPr>
          <a:xfrm rot="5400000">
            <a:off x="2094840" y="3894120"/>
            <a:ext cx="498960" cy="1077120"/>
          </a:xfrm>
          <a:prstGeom prst="bentConnector3">
            <a:avLst>
              <a:gd name="adj1" fmla="val 499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Base" hidden="1"/>
          <p:cNvSpPr/>
          <p:nvPr/>
        </p:nvSpPr>
        <p:spPr>
          <a:xfrm>
            <a:off x="1143000" y="3048120"/>
            <a:ext cx="45720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49920" y="1325520"/>
            <a:ext cx="203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5.0 Diagrama del 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7:18:20Z</dcterms:created>
  <dc:creator>SECRETARIA DE SALUD</dc:creator>
  <dc:description/>
  <dc:language>en-US</dc:language>
  <cp:lastModifiedBy>MARISOLO</cp:lastModifiedBy>
  <dcterms:modified xsi:type="dcterms:W3CDTF">2005-08-05T18:48:52Z</dcterms:modified>
  <cp:revision>63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363602823</vt:r8>
  </property>
  <property fmtid="{D5CDD505-2E9C-101B-9397-08002B2CF9AE}" pid="3" name="_AuthorEmail">
    <vt:lpwstr>MARISOLO@DGPEC-S01.SSA.com</vt:lpwstr>
  </property>
  <property fmtid="{D5CDD505-2E9C-101B-9397-08002B2CF9AE}" pid="4" name="_AuthorEmailDisplayName">
    <vt:lpwstr>MARISOL OSORIO MARIN</vt:lpwstr>
  </property>
  <property fmtid="{D5CDD505-2E9C-101B-9397-08002B2CF9AE}" pid="5" name="_EmailSubject">
    <vt:lpwstr>ISO 9001-2000</vt:lpwstr>
  </property>
  <property fmtid="{D5CDD505-2E9C-101B-9397-08002B2CF9AE}" pid="6" name="_PreviousAdHocReviewCycleID">
    <vt:r8>453209922</vt:r8>
  </property>
</Properties>
</file>