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77960"/>
            <a:ext cx="6311520" cy="5846400"/>
            <a:chOff x="304920" y="1677960"/>
            <a:chExt cx="6311520" cy="5846400"/>
          </a:xfrm>
        </p:grpSpPr>
        <p:sp>
          <p:nvSpPr>
            <p:cNvPr id="1" name=""/>
            <p:cNvSpPr/>
            <p:nvPr/>
          </p:nvSpPr>
          <p:spPr>
            <a:xfrm>
              <a:off x="4510440" y="2228760"/>
              <a:ext cx="21056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0560" y="2228760"/>
              <a:ext cx="209988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2228760"/>
              <a:ext cx="21056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10440" y="1677960"/>
              <a:ext cx="210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0560" y="1677960"/>
              <a:ext cx="209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1677960"/>
              <a:ext cx="210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28760"/>
              <a:ext cx="631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7524360"/>
              <a:ext cx="631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677960"/>
              <a:ext cx="0" cy="584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056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10440" y="1677960"/>
              <a:ext cx="0" cy="58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16440" y="1677960"/>
              <a:ext cx="0" cy="584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77960"/>
              <a:ext cx="210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0560" y="1677960"/>
              <a:ext cx="42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102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Elaborar Informe Trimes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84240" y="6461280"/>
            <a:ext cx="763560" cy="361800"/>
            <a:chOff x="984240" y="646128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1024200" y="646128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4240" y="66376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70400" y="5064120"/>
            <a:ext cx="763560" cy="361800"/>
            <a:chOff x="5270400" y="5064120"/>
            <a:chExt cx="763560" cy="361800"/>
          </a:xfrm>
        </p:grpSpPr>
        <p:sp>
          <p:nvSpPr>
            <p:cNvPr id="101" name=""/>
            <p:cNvSpPr/>
            <p:nvPr/>
          </p:nvSpPr>
          <p:spPr>
            <a:xfrm>
              <a:off x="5310360" y="506412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70400" y="524052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Gráf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0160" y="44449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48440" y="49672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1358640" y="265104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639800" y="2792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70280" y="36226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96080" y="4329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851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7920" y="55926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8360" y="6237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81000" y="63468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2"/>
            <a:endCxn id="117" idx="0"/>
          </p:cNvCxnSpPr>
          <p:nvPr/>
        </p:nvCxnSpPr>
        <p:spPr>
          <a:xfrm flipH="1" rot="16200000">
            <a:off x="2164680" y="2435760"/>
            <a:ext cx="497520" cy="2124720"/>
          </a:xfrm>
          <a:prstGeom prst="bentConnector3">
            <a:avLst>
              <a:gd name="adj1" fmla="val 49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7" idx="2"/>
            <a:endCxn id="105" idx="0"/>
          </p:cNvCxnSpPr>
          <p:nvPr/>
        </p:nvCxnSpPr>
        <p:spPr>
          <a:xfrm flipH="1" rot="16200000">
            <a:off x="4348800" y="3186720"/>
            <a:ext cx="384840" cy="2132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5" idx="2"/>
            <a:endCxn id="106" idx="0"/>
          </p:cNvCxnSpPr>
          <p:nvPr/>
        </p:nvCxnSpPr>
        <p:spPr>
          <a:xfrm>
            <a:off x="5607000" y="4759200"/>
            <a:ext cx="8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2" idx="2"/>
            <a:endCxn id="121" idx="0"/>
          </p:cNvCxnSpPr>
          <p:nvPr/>
        </p:nvCxnSpPr>
        <p:spPr>
          <a:xfrm rot="5400000">
            <a:off x="4385520" y="4506840"/>
            <a:ext cx="270720" cy="210600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99" idx="2"/>
          </p:cNvCxnSpPr>
          <p:nvPr/>
        </p:nvCxnSpPr>
        <p:spPr>
          <a:xfrm>
            <a:off x="1287000" y="6821640"/>
            <a:ext cx="3960" cy="1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1027080" y="243540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71440" y="245592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4000" y="7029360"/>
            <a:ext cx="68436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0240" y="705960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85680" y="3027240"/>
            <a:ext cx="763560" cy="361800"/>
            <a:chOff x="985680" y="3027240"/>
            <a:chExt cx="763560" cy="361800"/>
          </a:xfrm>
        </p:grpSpPr>
        <p:sp>
          <p:nvSpPr>
            <p:cNvPr id="128" name=""/>
            <p:cNvSpPr/>
            <p:nvPr/>
          </p:nvSpPr>
          <p:spPr>
            <a:xfrm>
              <a:off x="1025640" y="30272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85680" y="32036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84240" y="29354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116160" y="5786280"/>
            <a:ext cx="763560" cy="361800"/>
            <a:chOff x="3116160" y="5786280"/>
            <a:chExt cx="763560" cy="361800"/>
          </a:xfrm>
        </p:grpSpPr>
        <p:sp>
          <p:nvSpPr>
            <p:cNvPr id="131" name=""/>
            <p:cNvSpPr/>
            <p:nvPr/>
          </p:nvSpPr>
          <p:spPr>
            <a:xfrm>
              <a:off x="3156120" y="578628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16160" y="59626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Gráf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102120" y="56944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133800" y="3832200"/>
            <a:ext cx="763560" cy="361800"/>
            <a:chOff x="3133800" y="3832200"/>
            <a:chExt cx="763560" cy="361800"/>
          </a:xfrm>
        </p:grpSpPr>
        <p:sp>
          <p:nvSpPr>
            <p:cNvPr id="134" name=""/>
            <p:cNvSpPr/>
            <p:nvPr/>
          </p:nvSpPr>
          <p:spPr>
            <a:xfrm>
              <a:off x="3173760" y="3832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33800" y="4008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108240" y="37465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 l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2"/>
            <a:endCxn id="114" idx="0"/>
          </p:cNvCxnSpPr>
          <p:nvPr/>
        </p:nvCxnSpPr>
        <p:spPr>
          <a:xfrm rot="5400000">
            <a:off x="2282760" y="5210640"/>
            <a:ext cx="200880" cy="207252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8:13:32Z</dcterms:modified>
  <cp:revision>7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88518380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