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1709640"/>
            <a:ext cx="6324480" cy="5815080"/>
            <a:chOff x="304920" y="1709640"/>
            <a:chExt cx="6324480" cy="5815080"/>
          </a:xfrm>
        </p:grpSpPr>
        <p:sp>
          <p:nvSpPr>
            <p:cNvPr id="1" name=""/>
            <p:cNvSpPr/>
            <p:nvPr/>
          </p:nvSpPr>
          <p:spPr>
            <a:xfrm>
              <a:off x="5576760" y="225756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521240" y="225756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68600" y="225756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413080" y="225756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360440" y="225756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04920" y="225756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576760" y="170964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epartamento de Planeación en el Estad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521240" y="170964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Planeación en el Estad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68600" y="170964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Subdirección de Desarrollo de la Cultura Organizaciona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13080" y="170964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Desarrollo y Sustentabilidad de Servicios de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360440" y="170964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Adjunta de Implantación de Sistemas de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04920" y="170964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irección General de Planeación y Desarrollo en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04920" y="225756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04920" y="7524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4920" y="170964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6044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1308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46860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52124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57676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6629400" y="170964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60440" y="1709640"/>
              <a:ext cx="210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920" y="1709640"/>
              <a:ext cx="1055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468600" y="1709640"/>
              <a:ext cx="3160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" name=""/>
          <p:cNvGrpSpPr/>
          <p:nvPr/>
        </p:nvGrpSpPr>
        <p:grpSpPr>
          <a:xfrm>
            <a:off x="304920" y="228600"/>
            <a:ext cx="6324480" cy="914400"/>
            <a:chOff x="304920" y="228600"/>
            <a:chExt cx="6324480" cy="914400"/>
          </a:xfrm>
        </p:grpSpPr>
        <p:sp>
          <p:nvSpPr>
            <p:cNvPr id="26" name=""/>
            <p:cNvSpPr/>
            <p:nvPr/>
          </p:nvSpPr>
          <p:spPr>
            <a:xfrm>
              <a:off x="5638680" y="716040"/>
              <a:ext cx="99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Hoja:    d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28840" y="716040"/>
              <a:ext cx="4209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Nombre del Procedimiento: Para el seguimiento y reporte de la aplicación  de planes de acción para el cambio de la Cultura Organizacional en las unidades de salud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638680" y="455760"/>
              <a:ext cx="990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428840" y="455760"/>
              <a:ext cx="4209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irección de Desarrollo de Sustentabilidad de Servicios de Salu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5638680" y="228600"/>
              <a:ext cx="9907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428840" y="228600"/>
              <a:ext cx="4209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304920" y="228600"/>
              <a:ext cx="1123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04920" y="11430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30492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2884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63868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662940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428840" y="45576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428840" y="716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028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304920" y="7848720"/>
            <a:ext cx="6324480" cy="1095120"/>
            <a:chOff x="304920" y="7848720"/>
            <a:chExt cx="6324480" cy="1095120"/>
          </a:xfrm>
        </p:grpSpPr>
        <p:sp>
          <p:nvSpPr>
            <p:cNvPr id="43" name=""/>
            <p:cNvSpPr/>
            <p:nvPr/>
          </p:nvSpPr>
          <p:spPr>
            <a:xfrm>
              <a:off x="4800600" y="807696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95480" y="807696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807696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04920" y="807696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800600" y="873108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28 de julio de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95480" y="873108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28 de julio de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873108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28 de julio de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4920" y="873108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0600" y="851832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95480" y="851832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14400" y="851832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851832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00600" y="8289720"/>
              <a:ext cx="18288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ucero Rodríguez Cabre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95480" y="8289720"/>
              <a:ext cx="19051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Julián Mendoza Flor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14400" y="8289720"/>
              <a:ext cx="1981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María Sol Aguilar Núñe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8289720"/>
              <a:ext cx="609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7848720"/>
              <a:ext cx="6324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920" y="82897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8518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920" y="8731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89438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492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62940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04920" y="807696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144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006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699080" y="5127480"/>
            <a:ext cx="585720" cy="47016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848560" y="3778200"/>
            <a:ext cx="691200" cy="374040"/>
            <a:chOff x="5848560" y="3778200"/>
            <a:chExt cx="691200" cy="374040"/>
          </a:xfrm>
        </p:grpSpPr>
        <p:sp>
          <p:nvSpPr>
            <p:cNvPr id="111" name=""/>
            <p:cNvSpPr/>
            <p:nvPr/>
          </p:nvSpPr>
          <p:spPr>
            <a:xfrm>
              <a:off x="5900760" y="3778200"/>
              <a:ext cx="609480" cy="3643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48560" y="3875400"/>
              <a:ext cx="69120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Resultados de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aplicació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700440" y="3557520"/>
            <a:ext cx="674640" cy="331560"/>
            <a:chOff x="3700440" y="3557520"/>
            <a:chExt cx="674640" cy="331560"/>
          </a:xfrm>
        </p:grpSpPr>
        <p:sp>
          <p:nvSpPr>
            <p:cNvPr id="114" name=""/>
            <p:cNvSpPr/>
            <p:nvPr/>
          </p:nvSpPr>
          <p:spPr>
            <a:xfrm>
              <a:off x="3753360" y="3557520"/>
              <a:ext cx="613800" cy="331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00440" y="3645720"/>
              <a:ext cx="67464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municació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vía electrónic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749840" y="6178680"/>
            <a:ext cx="659880" cy="259920"/>
            <a:chOff x="4749840" y="6178680"/>
            <a:chExt cx="659880" cy="259920"/>
          </a:xfrm>
        </p:grpSpPr>
        <p:sp>
          <p:nvSpPr>
            <p:cNvPr id="117" name=""/>
            <p:cNvSpPr/>
            <p:nvPr/>
          </p:nvSpPr>
          <p:spPr>
            <a:xfrm>
              <a:off x="4801680" y="6178680"/>
              <a:ext cx="608040" cy="259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49840" y="6247800"/>
              <a:ext cx="414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fici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97640" y="6026040"/>
            <a:ext cx="669240" cy="258480"/>
            <a:chOff x="4697640" y="6026040"/>
            <a:chExt cx="669240" cy="258480"/>
          </a:xfrm>
        </p:grpSpPr>
        <p:sp>
          <p:nvSpPr>
            <p:cNvPr id="120" name=""/>
            <p:cNvSpPr/>
            <p:nvPr/>
          </p:nvSpPr>
          <p:spPr>
            <a:xfrm>
              <a:off x="4751640" y="6026040"/>
              <a:ext cx="615240" cy="2584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97640" y="6094800"/>
              <a:ext cx="441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Infor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02400" y="132552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351160"/>
            <a:ext cx="663480" cy="1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23840" y="24415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3" idx="2"/>
          </p:cNvCxnSpPr>
          <p:nvPr/>
        </p:nvCxnSpPr>
        <p:spPr>
          <a:xfrm>
            <a:off x="816120" y="2503440"/>
            <a:ext cx="720" cy="2390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6" name=""/>
          <p:cNvSpPr/>
          <p:nvPr/>
        </p:nvSpPr>
        <p:spPr>
          <a:xfrm>
            <a:off x="1982880" y="24782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8" idx="2"/>
          </p:cNvCxnSpPr>
          <p:nvPr/>
        </p:nvCxnSpPr>
        <p:spPr>
          <a:xfrm flipH="1" flipV="1" rot="5400000">
            <a:off x="1143720" y="2542320"/>
            <a:ext cx="419400" cy="998640"/>
          </a:xfrm>
          <a:prstGeom prst="bentConnector3">
            <a:avLst>
              <a:gd name="adj1" fmla="val -58848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29" name=""/>
          <p:cNvCxnSpPr>
            <a:stCxn id="130" idx="2"/>
            <a:endCxn id="131" idx="0"/>
          </p:cNvCxnSpPr>
          <p:nvPr/>
        </p:nvCxnSpPr>
        <p:spPr>
          <a:xfrm flipH="1" flipV="1" rot="5400000">
            <a:off x="2322000" y="2703600"/>
            <a:ext cx="187560" cy="1089000"/>
          </a:xfrm>
          <a:prstGeom prst="bentConnector5">
            <a:avLst>
              <a:gd name="adj1" fmla="val -186538"/>
              <a:gd name="adj2" fmla="val 149768"/>
              <a:gd name="adj3" fmla="val 223846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2" name=""/>
          <p:cNvSpPr/>
          <p:nvPr/>
        </p:nvSpPr>
        <p:spPr>
          <a:xfrm>
            <a:off x="4075200" y="29304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40120" y="5248440"/>
            <a:ext cx="50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60840" y="5276880"/>
            <a:ext cx="114480" cy="1396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"/>
          <p:cNvCxnSpPr/>
          <p:nvPr/>
        </p:nvCxnSpPr>
        <p:spPr>
          <a:xfrm flipV="1">
            <a:off x="5300640" y="5351040"/>
            <a:ext cx="164160" cy="72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6" name=""/>
          <p:cNvSpPr/>
          <p:nvPr/>
        </p:nvSpPr>
        <p:spPr>
          <a:xfrm>
            <a:off x="5172480" y="5038560"/>
            <a:ext cx="27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10240" y="5781600"/>
            <a:ext cx="618840" cy="3175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nvía ofic, e infor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 la SD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"/>
          <p:cNvCxnSpPr/>
          <p:nvPr/>
        </p:nvCxnSpPr>
        <p:spPr>
          <a:xfrm flipH="1">
            <a:off x="4987440" y="5601960"/>
            <a:ext cx="5760" cy="189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9" name=""/>
          <p:cNvSpPr/>
          <p:nvPr/>
        </p:nvSpPr>
        <p:spPr>
          <a:xfrm>
            <a:off x="4636800" y="5506920"/>
            <a:ext cx="25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76560" y="28638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27560" y="31226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/>
          <p:nvPr/>
        </p:nvCxnSpPr>
        <p:spPr>
          <a:xfrm flipH="1">
            <a:off x="4987080" y="4928760"/>
            <a:ext cx="2520" cy="1962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43" name=""/>
          <p:cNvCxnSpPr/>
          <p:nvPr/>
        </p:nvCxnSpPr>
        <p:spPr>
          <a:xfrm>
            <a:off x="3966840" y="7067520"/>
            <a:ext cx="1080" cy="186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44" name=""/>
          <p:cNvCxnSpPr/>
          <p:nvPr/>
        </p:nvCxnSpPr>
        <p:spPr>
          <a:xfrm flipH="1" flipV="1" rot="5400000">
            <a:off x="3217680" y="2880720"/>
            <a:ext cx="461160" cy="1023120"/>
          </a:xfrm>
          <a:prstGeom prst="bentConnector5">
            <a:avLst>
              <a:gd name="adj1" fmla="val -22734"/>
              <a:gd name="adj2" fmla="val 43470"/>
              <a:gd name="adj3" fmla="val 125156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45" name=""/>
          <p:cNvCxnSpPr>
            <a:stCxn id="112" idx="2"/>
            <a:endCxn id="146" idx="0"/>
          </p:cNvCxnSpPr>
          <p:nvPr/>
        </p:nvCxnSpPr>
        <p:spPr>
          <a:xfrm rot="5400000">
            <a:off x="5350680" y="3744360"/>
            <a:ext cx="435960" cy="1251720"/>
          </a:xfrm>
          <a:prstGeom prst="bentConnector5">
            <a:avLst>
              <a:gd name="adj1" fmla="val 52066"/>
              <a:gd name="adj2" fmla="val 51265"/>
              <a:gd name="adj3" fmla="val 46694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47" name=""/>
          <p:cNvCxnSpPr/>
          <p:nvPr/>
        </p:nvCxnSpPr>
        <p:spPr>
          <a:xfrm rot="5400000">
            <a:off x="4314960" y="6111000"/>
            <a:ext cx="283320" cy="983520"/>
          </a:xfrm>
          <a:prstGeom prst="bentConnector3">
            <a:avLst>
              <a:gd name="adj1" fmla="val 27989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48" name=""/>
          <p:cNvSpPr/>
          <p:nvPr/>
        </p:nvSpPr>
        <p:spPr>
          <a:xfrm>
            <a:off x="3890880" y="7254720"/>
            <a:ext cx="152640" cy="146160"/>
          </a:xfrm>
          <a:prstGeom prst="flowChartOffpage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/>
          <p:nvPr/>
        </p:nvCxnSpPr>
        <p:spPr>
          <a:xfrm flipH="1" flipV="1" rot="5400000">
            <a:off x="4263120" y="3097800"/>
            <a:ext cx="583200" cy="1003680"/>
          </a:xfrm>
          <a:prstGeom prst="bentConnector5">
            <a:avLst>
              <a:gd name="adj1" fmla="val -18221"/>
              <a:gd name="adj2" fmla="val 37316"/>
              <a:gd name="adj3" fmla="val 119332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0" name=""/>
          <p:cNvSpPr/>
          <p:nvPr/>
        </p:nvSpPr>
        <p:spPr>
          <a:xfrm>
            <a:off x="6213600" y="31273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38720" y="41450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21280" y="61596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96440" y="3014640"/>
            <a:ext cx="662400" cy="252360"/>
            <a:chOff x="496440" y="3014640"/>
            <a:chExt cx="662400" cy="252360"/>
          </a:xfrm>
        </p:grpSpPr>
        <p:sp>
          <p:nvSpPr>
            <p:cNvPr id="128" name=""/>
            <p:cNvSpPr/>
            <p:nvPr/>
          </p:nvSpPr>
          <p:spPr>
            <a:xfrm>
              <a:off x="549360" y="301464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6440" y="308160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20560" y="2743200"/>
            <a:ext cx="603360" cy="3398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st. seg.y rep.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Aplica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lan. de ac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544040" y="3089160"/>
            <a:ext cx="662400" cy="252360"/>
            <a:chOff x="1544040" y="3089160"/>
            <a:chExt cx="662400" cy="252360"/>
          </a:xfrm>
        </p:grpSpPr>
        <p:sp>
          <p:nvSpPr>
            <p:cNvPr id="157" name=""/>
            <p:cNvSpPr/>
            <p:nvPr/>
          </p:nvSpPr>
          <p:spPr>
            <a:xfrm>
              <a:off x="1596960" y="308916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4040" y="315612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541520" y="2870280"/>
            <a:ext cx="62064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omunicado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ur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673000" y="3370320"/>
            <a:ext cx="662400" cy="252360"/>
            <a:chOff x="2673000" y="3370320"/>
            <a:chExt cx="662400" cy="252360"/>
          </a:xfrm>
        </p:grpSpPr>
        <p:sp>
          <p:nvSpPr>
            <p:cNvPr id="160" name=""/>
            <p:cNvSpPr/>
            <p:nvPr/>
          </p:nvSpPr>
          <p:spPr>
            <a:xfrm>
              <a:off x="2725920" y="337032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73000" y="343728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2649600" y="3154320"/>
            <a:ext cx="6206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omunicado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ur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665520" y="3390840"/>
            <a:ext cx="662040" cy="252360"/>
            <a:chOff x="3665520" y="3390840"/>
            <a:chExt cx="662040" cy="252360"/>
          </a:xfrm>
        </p:grpSpPr>
        <p:sp>
          <p:nvSpPr>
            <p:cNvPr id="163" name=""/>
            <p:cNvSpPr/>
            <p:nvPr/>
          </p:nvSpPr>
          <p:spPr>
            <a:xfrm>
              <a:off x="3718080" y="339084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65520" y="3457800"/>
              <a:ext cx="414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fici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3649680" y="3165480"/>
            <a:ext cx="628560" cy="3160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a seguimien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 aplica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lanes de ac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4779720" y="3568680"/>
            <a:ext cx="662040" cy="252360"/>
            <a:chOff x="4779720" y="3568680"/>
            <a:chExt cx="662040" cy="252360"/>
          </a:xfrm>
        </p:grpSpPr>
        <p:sp>
          <p:nvSpPr>
            <p:cNvPr id="167" name=""/>
            <p:cNvSpPr/>
            <p:nvPr/>
          </p:nvSpPr>
          <p:spPr>
            <a:xfrm>
              <a:off x="4832280" y="35686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79720" y="3635640"/>
              <a:ext cx="414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fici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4773600" y="3328920"/>
            <a:ext cx="615960" cy="3207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ibe comunic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y turn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805360" y="3683160"/>
            <a:ext cx="662040" cy="252000"/>
            <a:chOff x="5805360" y="3683160"/>
            <a:chExt cx="662040" cy="252000"/>
          </a:xfrm>
        </p:grpSpPr>
        <p:sp>
          <p:nvSpPr>
            <p:cNvPr id="171" name=""/>
            <p:cNvSpPr/>
            <p:nvPr/>
          </p:nvSpPr>
          <p:spPr>
            <a:xfrm>
              <a:off x="5857920" y="368316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05360" y="3749760"/>
              <a:ext cx="414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fici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5853240" y="3425760"/>
            <a:ext cx="585720" cy="3301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plicación 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lan de ac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/>
          <p:nvPr/>
        </p:nvCxnSpPr>
        <p:spPr>
          <a:xfrm flipH="1" flipV="1" rot="5400000">
            <a:off x="5360760" y="3119040"/>
            <a:ext cx="460800" cy="1023120"/>
          </a:xfrm>
          <a:prstGeom prst="bentConnector5">
            <a:avLst>
              <a:gd name="adj1" fmla="val -22752"/>
              <a:gd name="adj2" fmla="val 40830"/>
              <a:gd name="adj3" fmla="val 125097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46" name=""/>
          <p:cNvSpPr/>
          <p:nvPr/>
        </p:nvSpPr>
        <p:spPr>
          <a:xfrm>
            <a:off x="4633920" y="4587840"/>
            <a:ext cx="617400" cy="3128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y verifica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la 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57600" y="6753240"/>
            <a:ext cx="6508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. de Inf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obre aplic.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lanes de ac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70720" y="747720"/>
            <a:ext cx="9079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ja:28 de 8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1648800" y="6093000"/>
            <a:ext cx="689760" cy="259920"/>
            <a:chOff x="1648800" y="6093000"/>
            <a:chExt cx="689760" cy="259920"/>
          </a:xfrm>
        </p:grpSpPr>
        <p:sp>
          <p:nvSpPr>
            <p:cNvPr id="178" name=""/>
            <p:cNvSpPr/>
            <p:nvPr/>
          </p:nvSpPr>
          <p:spPr>
            <a:xfrm>
              <a:off x="1700280" y="6093000"/>
              <a:ext cx="609480" cy="259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48800" y="6162120"/>
              <a:ext cx="689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Plan de Acció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3662280" y="2631960"/>
            <a:ext cx="585720" cy="47016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75040" y="2293920"/>
            <a:ext cx="152280" cy="146160"/>
          </a:xfrm>
          <a:prstGeom prst="flowChartOffpage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/>
          <p:nvPr/>
        </p:nvCxnSpPr>
        <p:spPr>
          <a:xfrm>
            <a:off x="3951000" y="2463840"/>
            <a:ext cx="1080" cy="186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83" name=""/>
          <p:cNvSpPr/>
          <p:nvPr/>
        </p:nvSpPr>
        <p:spPr>
          <a:xfrm>
            <a:off x="3694320" y="2754360"/>
            <a:ext cx="46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/>
          <p:nvPr/>
        </p:nvCxnSpPr>
        <p:spPr>
          <a:xfrm>
            <a:off x="3952440" y="3111480"/>
            <a:ext cx="2520" cy="162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85" name=""/>
          <p:cNvCxnSpPr/>
          <p:nvPr/>
        </p:nvCxnSpPr>
        <p:spPr>
          <a:xfrm>
            <a:off x="4244760" y="2867040"/>
            <a:ext cx="17676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86" name=""/>
          <p:cNvSpPr/>
          <p:nvPr/>
        </p:nvSpPr>
        <p:spPr>
          <a:xfrm>
            <a:off x="4403880" y="2782800"/>
            <a:ext cx="114120" cy="1396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00360" y="3048120"/>
            <a:ext cx="25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97880" y="2516040"/>
            <a:ext cx="27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1600" y="7086600"/>
            <a:ext cx="663480" cy="1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ERM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60960" y="37051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02120" y="449100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26000" y="540864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94" idx="2"/>
            <a:endCxn id="195" idx="0"/>
          </p:cNvCxnSpPr>
          <p:nvPr/>
        </p:nvCxnSpPr>
        <p:spPr>
          <a:xfrm rot="5400000">
            <a:off x="3280680" y="4100040"/>
            <a:ext cx="453240" cy="1104120"/>
          </a:xfrm>
          <a:prstGeom prst="bentConnector3">
            <a:avLst>
              <a:gd name="adj1" fmla="val 51510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96" name=""/>
          <p:cNvCxnSpPr/>
          <p:nvPr/>
        </p:nvCxnSpPr>
        <p:spPr>
          <a:xfrm rot="5400000">
            <a:off x="1262160" y="5958720"/>
            <a:ext cx="194400" cy="1053360"/>
          </a:xfrm>
          <a:prstGeom prst="bentConnector3">
            <a:avLst>
              <a:gd name="adj1" fmla="val 53246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97" name=""/>
          <p:cNvCxnSpPr/>
          <p:nvPr/>
        </p:nvCxnSpPr>
        <p:spPr>
          <a:xfrm>
            <a:off x="824040" y="6924600"/>
            <a:ext cx="2160" cy="162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98" name=""/>
          <p:cNvCxnSpPr>
            <a:stCxn id="199" idx="2"/>
            <a:endCxn id="200" idx="0"/>
          </p:cNvCxnSpPr>
          <p:nvPr/>
        </p:nvCxnSpPr>
        <p:spPr>
          <a:xfrm rot="5400000">
            <a:off x="2343240" y="5022000"/>
            <a:ext cx="241920" cy="1199520"/>
          </a:xfrm>
          <a:prstGeom prst="bentConnector3">
            <a:avLst>
              <a:gd name="adj1" fmla="val 52608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01" name=""/>
          <p:cNvCxnSpPr/>
          <p:nvPr/>
        </p:nvCxnSpPr>
        <p:spPr>
          <a:xfrm>
            <a:off x="3939840" y="3613320"/>
            <a:ext cx="3960" cy="202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202" name=""/>
          <p:cNvGrpSpPr/>
          <p:nvPr/>
        </p:nvGrpSpPr>
        <p:grpSpPr>
          <a:xfrm>
            <a:off x="3701880" y="4179960"/>
            <a:ext cx="662040" cy="259920"/>
            <a:chOff x="3701880" y="4179960"/>
            <a:chExt cx="662040" cy="259920"/>
          </a:xfrm>
        </p:grpSpPr>
        <p:sp>
          <p:nvSpPr>
            <p:cNvPr id="194" name=""/>
            <p:cNvSpPr/>
            <p:nvPr/>
          </p:nvSpPr>
          <p:spPr>
            <a:xfrm>
              <a:off x="3754440" y="4179960"/>
              <a:ext cx="609480" cy="259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701880" y="4249080"/>
              <a:ext cx="491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Report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1036800" y="624996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35280" y="3308400"/>
            <a:ext cx="6206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teg result.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plic de Pla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cc en Uni S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647520" y="4032360"/>
            <a:ext cx="662400" cy="252000"/>
            <a:chOff x="3647520" y="4032360"/>
            <a:chExt cx="662400" cy="252000"/>
          </a:xfrm>
        </p:grpSpPr>
        <p:sp>
          <p:nvSpPr>
            <p:cNvPr id="207" name=""/>
            <p:cNvSpPr/>
            <p:nvPr/>
          </p:nvSpPr>
          <p:spPr>
            <a:xfrm>
              <a:off x="3700440" y="403236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47520" y="409896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622680" y="3821040"/>
            <a:ext cx="62388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epar. report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aplic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plan de ac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707560" y="5254560"/>
            <a:ext cx="689760" cy="259920"/>
            <a:chOff x="2707560" y="5254560"/>
            <a:chExt cx="689760" cy="259920"/>
          </a:xfrm>
        </p:grpSpPr>
        <p:sp>
          <p:nvSpPr>
            <p:cNvPr id="199" name=""/>
            <p:cNvSpPr/>
            <p:nvPr/>
          </p:nvSpPr>
          <p:spPr>
            <a:xfrm>
              <a:off x="2759040" y="5254560"/>
              <a:ext cx="609480" cy="259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07560" y="5323680"/>
              <a:ext cx="689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Plan de Acció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666520" y="5113440"/>
            <a:ext cx="662400" cy="252000"/>
            <a:chOff x="2666520" y="5113440"/>
            <a:chExt cx="662400" cy="252000"/>
          </a:xfrm>
        </p:grpSpPr>
        <p:sp>
          <p:nvSpPr>
            <p:cNvPr id="213" name=""/>
            <p:cNvSpPr/>
            <p:nvPr/>
          </p:nvSpPr>
          <p:spPr>
            <a:xfrm>
              <a:off x="2719440" y="511344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666520" y="518004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2638440" y="4878360"/>
            <a:ext cx="633240" cy="3128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y conocimien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la 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593360" y="5969160"/>
            <a:ext cx="662400" cy="252000"/>
            <a:chOff x="1593360" y="5969160"/>
            <a:chExt cx="662400" cy="252000"/>
          </a:xfrm>
        </p:grpSpPr>
        <p:sp>
          <p:nvSpPr>
            <p:cNvPr id="216" name=""/>
            <p:cNvSpPr/>
            <p:nvPr/>
          </p:nvSpPr>
          <p:spPr>
            <a:xfrm>
              <a:off x="1646280" y="596916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593360" y="603576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1547640" y="5742000"/>
            <a:ext cx="633600" cy="3128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y conocimien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la 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0560" y="6599160"/>
            <a:ext cx="633600" cy="3128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y conocimien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la 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70720" y="747720"/>
            <a:ext cx="9079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ja:29 de 8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Raquel Almazán</cp:lastModifiedBy>
  <dcterms:modified xsi:type="dcterms:W3CDTF">2005-08-05T19:31:06Z</dcterms:modified>
  <cp:revision>60</cp:revision>
  <dc:subject/>
  <dc:title>Presentación de PowerPoint</dc:title>
</cp:coreProperties>
</file>