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1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92 de 11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la regularización de la Estructura Orgánica Funcional de la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irección General de Planeación y Desarrollo en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18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 DE AGOST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7310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 DE AGOST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7310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 DE AGOSTO DE 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5186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5186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HÉCTOR MURGUÍA RO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ACT. MA. VICTORIA REPIZO GARC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04920" y="1709640"/>
            <a:ext cx="6266880" cy="5856480"/>
            <a:chOff x="304920" y="1709640"/>
            <a:chExt cx="6266880" cy="5856480"/>
          </a:xfrm>
        </p:grpSpPr>
        <p:sp>
          <p:nvSpPr>
            <p:cNvPr id="47" name=""/>
            <p:cNvSpPr/>
            <p:nvPr/>
          </p:nvSpPr>
          <p:spPr>
            <a:xfrm>
              <a:off x="3421800" y="2298600"/>
              <a:ext cx="10497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21800" y="1709640"/>
              <a:ext cx="10497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Innovación de Proces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22040" y="2298600"/>
              <a:ext cx="10497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71920" y="2298600"/>
              <a:ext cx="10497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0880" y="2298600"/>
              <a:ext cx="10605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21560" y="2298600"/>
              <a:ext cx="103896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2298600"/>
              <a:ext cx="1016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2040" y="1709640"/>
              <a:ext cx="10497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71920" y="1709640"/>
              <a:ext cx="10497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partamento de Análisis y Diseño de Proces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0880" y="1709640"/>
              <a:ext cx="1060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1560" y="1709640"/>
              <a:ext cx="103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1709640"/>
              <a:ext cx="1016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2298600"/>
              <a:ext cx="62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566120"/>
              <a:ext cx="6266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15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08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18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220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18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1709640"/>
              <a:ext cx="20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0880" y="1709640"/>
              <a:ext cx="4210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7192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5694840" y="2851200"/>
            <a:ext cx="663120" cy="252360"/>
            <a:chOff x="5694840" y="2851200"/>
            <a:chExt cx="663120" cy="252360"/>
          </a:xfrm>
        </p:grpSpPr>
        <p:sp>
          <p:nvSpPr>
            <p:cNvPr id="107" name=""/>
            <p:cNvSpPr/>
            <p:nvPr/>
          </p:nvSpPr>
          <p:spPr>
            <a:xfrm>
              <a:off x="5748480" y="2851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94840" y="291816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31760" y="2941560"/>
            <a:ext cx="662400" cy="252360"/>
            <a:chOff x="4631760" y="2941560"/>
            <a:chExt cx="662400" cy="252360"/>
          </a:xfrm>
        </p:grpSpPr>
        <p:sp>
          <p:nvSpPr>
            <p:cNvPr id="110" name=""/>
            <p:cNvSpPr/>
            <p:nvPr/>
          </p:nvSpPr>
          <p:spPr>
            <a:xfrm>
              <a:off x="4684680" y="29415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31760" y="30085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23600" y="2973240"/>
            <a:ext cx="662400" cy="252360"/>
            <a:chOff x="2523600" y="2973240"/>
            <a:chExt cx="662400" cy="252360"/>
          </a:xfrm>
        </p:grpSpPr>
        <p:sp>
          <p:nvSpPr>
            <p:cNvPr id="113" name=""/>
            <p:cNvSpPr/>
            <p:nvPr/>
          </p:nvSpPr>
          <p:spPr>
            <a:xfrm>
              <a:off x="2576520" y="2973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23600" y="3040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5440" y="3014640"/>
            <a:ext cx="662400" cy="252360"/>
            <a:chOff x="415440" y="3014640"/>
            <a:chExt cx="662400" cy="252360"/>
          </a:xfrm>
        </p:grpSpPr>
        <p:sp>
          <p:nvSpPr>
            <p:cNvPr id="116" name=""/>
            <p:cNvSpPr/>
            <p:nvPr/>
          </p:nvSpPr>
          <p:spPr>
            <a:xfrm>
              <a:off x="468360" y="3014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5440" y="30816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58400" y="4959360"/>
            <a:ext cx="661320" cy="252360"/>
            <a:chOff x="4658400" y="4959360"/>
            <a:chExt cx="661320" cy="252360"/>
          </a:xfrm>
        </p:grpSpPr>
        <p:sp>
          <p:nvSpPr>
            <p:cNvPr id="119" name=""/>
            <p:cNvSpPr/>
            <p:nvPr/>
          </p:nvSpPr>
          <p:spPr>
            <a:xfrm>
              <a:off x="4710240" y="4959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58400" y="502632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638600" y="4826160"/>
            <a:ext cx="662040" cy="252000"/>
            <a:chOff x="4638600" y="4826160"/>
            <a:chExt cx="662040" cy="252000"/>
          </a:xfrm>
        </p:grpSpPr>
        <p:sp>
          <p:nvSpPr>
            <p:cNvPr id="122" name=""/>
            <p:cNvSpPr/>
            <p:nvPr/>
          </p:nvSpPr>
          <p:spPr>
            <a:xfrm>
              <a:off x="4691160" y="4826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38600" y="4892760"/>
              <a:ext cx="560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90960" y="2874960"/>
            <a:ext cx="661320" cy="252360"/>
            <a:chOff x="390960" y="2874960"/>
            <a:chExt cx="661320" cy="252360"/>
          </a:xfrm>
        </p:grpSpPr>
        <p:sp>
          <p:nvSpPr>
            <p:cNvPr id="125" name=""/>
            <p:cNvSpPr/>
            <p:nvPr/>
          </p:nvSpPr>
          <p:spPr>
            <a:xfrm>
              <a:off x="442800" y="2874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0960" y="29419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8280" y="23367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84160" y="2482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</p:cNvCxnSpPr>
          <p:nvPr/>
        </p:nvCxnSpPr>
        <p:spPr>
          <a:xfrm flipH="1">
            <a:off x="697680" y="248904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2" name=""/>
          <p:cNvSpPr/>
          <p:nvPr/>
        </p:nvSpPr>
        <p:spPr>
          <a:xfrm>
            <a:off x="403200" y="26478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GPOP 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3800" y="2428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17" idx="2"/>
            <a:endCxn id="135" idx="0"/>
          </p:cNvCxnSpPr>
          <p:nvPr/>
        </p:nvCxnSpPr>
        <p:spPr>
          <a:xfrm flipH="1" flipV="1" rot="5400000">
            <a:off x="901440" y="2471400"/>
            <a:ext cx="635760" cy="953280"/>
          </a:xfrm>
          <a:prstGeom prst="bentConnector5">
            <a:avLst>
              <a:gd name="adj1" fmla="val -15694"/>
              <a:gd name="adj2" fmla="val 51303"/>
              <a:gd name="adj3" fmla="val 13597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6" name=""/>
          <p:cNvGrpSpPr/>
          <p:nvPr/>
        </p:nvGrpSpPr>
        <p:grpSpPr>
          <a:xfrm>
            <a:off x="2496240" y="2835360"/>
            <a:ext cx="661320" cy="252360"/>
            <a:chOff x="2496240" y="2835360"/>
            <a:chExt cx="661320" cy="252360"/>
          </a:xfrm>
        </p:grpSpPr>
        <p:sp>
          <p:nvSpPr>
            <p:cNvPr id="137" name=""/>
            <p:cNvSpPr/>
            <p:nvPr/>
          </p:nvSpPr>
          <p:spPr>
            <a:xfrm>
              <a:off x="2548080" y="2835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96240" y="29023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17840" y="2608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. de forma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3680" y="2408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11600" y="2800440"/>
            <a:ext cx="663480" cy="252000"/>
            <a:chOff x="4611600" y="2800440"/>
            <a:chExt cx="663480" cy="252000"/>
          </a:xfrm>
        </p:grpSpPr>
        <p:sp>
          <p:nvSpPr>
            <p:cNvPr id="142" name=""/>
            <p:cNvSpPr/>
            <p:nvPr/>
          </p:nvSpPr>
          <p:spPr>
            <a:xfrm>
              <a:off x="4665600" y="28004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11600" y="2867040"/>
              <a:ext cx="659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 req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567320" y="25732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de formatos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3520" y="2462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75400" y="261792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orma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32520" y="3414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10" idx="2"/>
            <a:endCxn id="146" idx="0"/>
          </p:cNvCxnSpPr>
          <p:nvPr/>
        </p:nvCxnSpPr>
        <p:spPr>
          <a:xfrm flipH="1" flipV="1" rot="5400000">
            <a:off x="5217840" y="2388960"/>
            <a:ext cx="560880" cy="1018080"/>
          </a:xfrm>
          <a:prstGeom prst="bentConnector5">
            <a:avLst>
              <a:gd name="adj1" fmla="val -24341"/>
              <a:gd name="adj2" fmla="val 48673"/>
              <a:gd name="adj3" fmla="val 14078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4667400" y="399096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endCxn id="149" idx="0"/>
          </p:cNvCxnSpPr>
          <p:nvPr/>
        </p:nvCxnSpPr>
        <p:spPr>
          <a:xfrm>
            <a:off x="4944960" y="3868560"/>
            <a:ext cx="5760" cy="123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719960" y="41371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4240" y="416880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9" idx="3"/>
            <a:endCxn id="152" idx="2"/>
          </p:cNvCxnSpPr>
          <p:nvPr/>
        </p:nvCxnSpPr>
        <p:spPr>
          <a:xfrm>
            <a:off x="5230800" y="4235040"/>
            <a:ext cx="16416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4" name=""/>
          <p:cNvSpPr/>
          <p:nvPr/>
        </p:nvSpPr>
        <p:spPr>
          <a:xfrm>
            <a:off x="5164560" y="40798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18080" y="46306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y 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9" idx="2"/>
            <a:endCxn id="155" idx="0"/>
          </p:cNvCxnSpPr>
          <p:nvPr/>
        </p:nvCxnSpPr>
        <p:spPr>
          <a:xfrm>
            <a:off x="4949640" y="4479480"/>
            <a:ext cx="1080" cy="151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7" name=""/>
          <p:cNvSpPr/>
          <p:nvPr/>
        </p:nvSpPr>
        <p:spPr>
          <a:xfrm>
            <a:off x="4732200" y="44737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9920" y="355140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cep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, inte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gra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y prepar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07" idx="2"/>
            <a:endCxn id="158" idx="0"/>
          </p:cNvCxnSpPr>
          <p:nvPr/>
        </p:nvCxnSpPr>
        <p:spPr>
          <a:xfrm rot="5400000">
            <a:off x="5249880" y="2748960"/>
            <a:ext cx="464400" cy="1141920"/>
          </a:xfrm>
          <a:prstGeom prst="bentConnector3">
            <a:avLst>
              <a:gd name="adj1" fmla="val 7083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0" name=""/>
          <p:cNvSpPr/>
          <p:nvPr/>
        </p:nvSpPr>
        <p:spPr>
          <a:xfrm>
            <a:off x="4094280" y="4297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96440" y="2982960"/>
            <a:ext cx="662400" cy="252360"/>
            <a:chOff x="1396440" y="2982960"/>
            <a:chExt cx="662400" cy="252360"/>
          </a:xfrm>
        </p:grpSpPr>
        <p:sp>
          <p:nvSpPr>
            <p:cNvPr id="162" name=""/>
            <p:cNvSpPr/>
            <p:nvPr/>
          </p:nvSpPr>
          <p:spPr>
            <a:xfrm>
              <a:off x="1449360" y="2982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96440" y="30499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78440" y="2819520"/>
            <a:ext cx="661320" cy="252000"/>
            <a:chOff x="1378440" y="2819520"/>
            <a:chExt cx="661320" cy="252000"/>
          </a:xfrm>
        </p:grpSpPr>
        <p:sp>
          <p:nvSpPr>
            <p:cNvPr id="165" name=""/>
            <p:cNvSpPr/>
            <p:nvPr/>
          </p:nvSpPr>
          <p:spPr>
            <a:xfrm>
              <a:off x="1430280" y="28195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8440" y="28861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390680" y="26305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7160" y="2462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3" idx="2"/>
            <a:endCxn id="139" idx="0"/>
          </p:cNvCxnSpPr>
          <p:nvPr/>
        </p:nvCxnSpPr>
        <p:spPr>
          <a:xfrm flipH="1" flipV="1" rot="5400000">
            <a:off x="1959480" y="2371680"/>
            <a:ext cx="626040" cy="1099080"/>
          </a:xfrm>
          <a:prstGeom prst="bentConnector5">
            <a:avLst>
              <a:gd name="adj1" fmla="val -16973"/>
              <a:gd name="adj2" fmla="val 51146"/>
              <a:gd name="adj3" fmla="val 13659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9" name=""/>
          <p:cNvGrpSpPr/>
          <p:nvPr/>
        </p:nvGrpSpPr>
        <p:grpSpPr>
          <a:xfrm>
            <a:off x="3523680" y="2938320"/>
            <a:ext cx="662400" cy="252360"/>
            <a:chOff x="3523680" y="2938320"/>
            <a:chExt cx="662400" cy="252360"/>
          </a:xfrm>
        </p:grpSpPr>
        <p:sp>
          <p:nvSpPr>
            <p:cNvPr id="170" name=""/>
            <p:cNvSpPr/>
            <p:nvPr/>
          </p:nvSpPr>
          <p:spPr>
            <a:xfrm>
              <a:off x="3576600" y="2938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3680" y="3005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96320" y="2800440"/>
            <a:ext cx="661320" cy="252000"/>
            <a:chOff x="3496320" y="2800440"/>
            <a:chExt cx="661320" cy="252000"/>
          </a:xfrm>
        </p:grpSpPr>
        <p:sp>
          <p:nvSpPr>
            <p:cNvPr id="173" name=""/>
            <p:cNvSpPr/>
            <p:nvPr/>
          </p:nvSpPr>
          <p:spPr>
            <a:xfrm>
              <a:off x="3548160" y="28004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6320" y="286704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517920" y="25732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. de forma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5440" y="2411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14" idx="2"/>
            <a:endCxn id="175" idx="0"/>
          </p:cNvCxnSpPr>
          <p:nvPr/>
        </p:nvCxnSpPr>
        <p:spPr>
          <a:xfrm flipH="1" flipV="1" rot="5400000">
            <a:off x="3010320" y="2412360"/>
            <a:ext cx="651600" cy="972360"/>
          </a:xfrm>
          <a:prstGeom prst="bentConnector5">
            <a:avLst>
              <a:gd name="adj1" fmla="val -15367"/>
              <a:gd name="adj2" fmla="val 51296"/>
              <a:gd name="adj3" fmla="val 12631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70" idx="2"/>
            <a:endCxn id="144" idx="0"/>
          </p:cNvCxnSpPr>
          <p:nvPr/>
        </p:nvCxnSpPr>
        <p:spPr>
          <a:xfrm flipH="1" flipV="1" rot="5400000">
            <a:off x="4089240" y="2364840"/>
            <a:ext cx="602280" cy="1018080"/>
          </a:xfrm>
          <a:prstGeom prst="bentConnector5">
            <a:avLst>
              <a:gd name="adj1" fmla="val -20813"/>
              <a:gd name="adj2" fmla="val 48673"/>
              <a:gd name="adj3" fmla="val 13032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9" name=""/>
          <p:cNvGrpSpPr/>
          <p:nvPr/>
        </p:nvGrpSpPr>
        <p:grpSpPr>
          <a:xfrm>
            <a:off x="3645000" y="4797360"/>
            <a:ext cx="661680" cy="252360"/>
            <a:chOff x="3645000" y="4797360"/>
            <a:chExt cx="661680" cy="252360"/>
          </a:xfrm>
        </p:grpSpPr>
        <p:sp>
          <p:nvSpPr>
            <p:cNvPr id="180" name=""/>
            <p:cNvSpPr/>
            <p:nvPr/>
          </p:nvSpPr>
          <p:spPr>
            <a:xfrm>
              <a:off x="3697200" y="4797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45000" y="48643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25560" y="4664160"/>
            <a:ext cx="662040" cy="252360"/>
            <a:chOff x="3625560" y="4664160"/>
            <a:chExt cx="662040" cy="252360"/>
          </a:xfrm>
        </p:grpSpPr>
        <p:sp>
          <p:nvSpPr>
            <p:cNvPr id="183" name=""/>
            <p:cNvSpPr/>
            <p:nvPr/>
          </p:nvSpPr>
          <p:spPr>
            <a:xfrm>
              <a:off x="3678120" y="4664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25560" y="47311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605040" y="444960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 del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8800" y="4267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19" idx="2"/>
            <a:endCxn id="185" idx="0"/>
          </p:cNvCxnSpPr>
          <p:nvPr/>
        </p:nvCxnSpPr>
        <p:spPr>
          <a:xfrm flipV="1" rot="16200000">
            <a:off x="4102560" y="4283280"/>
            <a:ext cx="747000" cy="1078200"/>
          </a:xfrm>
          <a:prstGeom prst="bentConnector5">
            <a:avLst>
              <a:gd name="adj1" fmla="val -9546"/>
              <a:gd name="adj2" fmla="val 41683"/>
              <a:gd name="adj3" fmla="val 130617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88" name=""/>
          <p:cNvGrpSpPr/>
          <p:nvPr/>
        </p:nvGrpSpPr>
        <p:grpSpPr>
          <a:xfrm>
            <a:off x="1397160" y="4737240"/>
            <a:ext cx="661680" cy="252000"/>
            <a:chOff x="1397160" y="4737240"/>
            <a:chExt cx="661680" cy="252000"/>
          </a:xfrm>
        </p:grpSpPr>
        <p:sp>
          <p:nvSpPr>
            <p:cNvPr id="189" name=""/>
            <p:cNvSpPr/>
            <p:nvPr/>
          </p:nvSpPr>
          <p:spPr>
            <a:xfrm>
              <a:off x="1449360" y="47372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97160" y="48038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377720" y="4603680"/>
            <a:ext cx="662040" cy="252360"/>
            <a:chOff x="1377720" y="4603680"/>
            <a:chExt cx="662040" cy="252360"/>
          </a:xfrm>
        </p:grpSpPr>
        <p:sp>
          <p:nvSpPr>
            <p:cNvPr id="192" name=""/>
            <p:cNvSpPr/>
            <p:nvPr/>
          </p:nvSpPr>
          <p:spPr>
            <a:xfrm>
              <a:off x="1430280" y="4603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7720" y="46706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57200" y="438948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ón de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oc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irma de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 envío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02360" y="5383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V="1" rot="16200000">
            <a:off x="3060000" y="4182480"/>
            <a:ext cx="640800" cy="1104120"/>
          </a:xfrm>
          <a:prstGeom prst="bentConnector5">
            <a:avLst>
              <a:gd name="adj1" fmla="val -20067"/>
              <a:gd name="adj2" fmla="val 36236"/>
              <a:gd name="adj3" fmla="val 13569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7" name=""/>
          <p:cNvCxnSpPr>
            <a:stCxn id="198" idx="2"/>
            <a:endCxn id="194" idx="0"/>
          </p:cNvCxnSpPr>
          <p:nvPr/>
        </p:nvCxnSpPr>
        <p:spPr>
          <a:xfrm flipV="1" rot="16200000">
            <a:off x="1989360" y="4088520"/>
            <a:ext cx="603720" cy="1205640"/>
          </a:xfrm>
          <a:prstGeom prst="bentConnector5">
            <a:avLst>
              <a:gd name="adj1" fmla="val -18377"/>
              <a:gd name="adj2" fmla="val 36618"/>
              <a:gd name="adj3" fmla="val 13794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99" name=""/>
          <p:cNvGrpSpPr/>
          <p:nvPr/>
        </p:nvGrpSpPr>
        <p:grpSpPr>
          <a:xfrm>
            <a:off x="2536920" y="4756320"/>
            <a:ext cx="661680" cy="252000"/>
            <a:chOff x="2536920" y="4756320"/>
            <a:chExt cx="661680" cy="252000"/>
          </a:xfrm>
        </p:grpSpPr>
        <p:sp>
          <p:nvSpPr>
            <p:cNvPr id="198" name=""/>
            <p:cNvSpPr/>
            <p:nvPr/>
          </p:nvSpPr>
          <p:spPr>
            <a:xfrm>
              <a:off x="2589120" y="47563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36920" y="48229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17480" y="4622760"/>
            <a:ext cx="662040" cy="252360"/>
            <a:chOff x="2517480" y="4622760"/>
            <a:chExt cx="662040" cy="252360"/>
          </a:xfrm>
        </p:grpSpPr>
        <p:sp>
          <p:nvSpPr>
            <p:cNvPr id="202" name=""/>
            <p:cNvSpPr/>
            <p:nvPr/>
          </p:nvSpPr>
          <p:spPr>
            <a:xfrm>
              <a:off x="2570040" y="4622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7480" y="46897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496960" y="440856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 del of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72000" y="42530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689720" y="5886360"/>
            <a:ext cx="661680" cy="252360"/>
            <a:chOff x="4689720" y="5886360"/>
            <a:chExt cx="661680" cy="252360"/>
          </a:xfrm>
        </p:grpSpPr>
        <p:sp>
          <p:nvSpPr>
            <p:cNvPr id="207" name=""/>
            <p:cNvSpPr/>
            <p:nvPr/>
          </p:nvSpPr>
          <p:spPr>
            <a:xfrm>
              <a:off x="4741920" y="5886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9720" y="59533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670280" y="5753160"/>
            <a:ext cx="662040" cy="252360"/>
            <a:chOff x="4670280" y="5753160"/>
            <a:chExt cx="662040" cy="252360"/>
          </a:xfrm>
        </p:grpSpPr>
        <p:sp>
          <p:nvSpPr>
            <p:cNvPr id="210" name=""/>
            <p:cNvSpPr/>
            <p:nvPr/>
          </p:nvSpPr>
          <p:spPr>
            <a:xfrm>
              <a:off x="4722840" y="5753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70280" y="58201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649760" y="55389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92600" y="62676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8" idx="2"/>
            <a:endCxn id="213" idx="0"/>
          </p:cNvCxnSpPr>
          <p:nvPr/>
        </p:nvCxnSpPr>
        <p:spPr>
          <a:xfrm flipH="1">
            <a:off x="4974840" y="6137280"/>
            <a:ext cx="2160" cy="131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5" name=""/>
          <p:cNvSpPr/>
          <p:nvPr/>
        </p:nvSpPr>
        <p:spPr>
          <a:xfrm>
            <a:off x="4745520" y="64134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53200" y="643572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3" idx="3"/>
            <a:endCxn id="216" idx="2"/>
          </p:cNvCxnSpPr>
          <p:nvPr/>
        </p:nvCxnSpPr>
        <p:spPr>
          <a:xfrm flipV="1">
            <a:off x="5256000" y="6505200"/>
            <a:ext cx="97560" cy="7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8" name=""/>
          <p:cNvSpPr/>
          <p:nvPr/>
        </p:nvSpPr>
        <p:spPr>
          <a:xfrm>
            <a:off x="5171040" y="63468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3280" y="689436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GPOP  otorg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3" idx="2"/>
            <a:endCxn id="219" idx="0"/>
          </p:cNvCxnSpPr>
          <p:nvPr/>
        </p:nvCxnSpPr>
        <p:spPr>
          <a:xfrm>
            <a:off x="4974840" y="6756120"/>
            <a:ext cx="1080" cy="138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4757760" y="67500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733752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9" idx="2"/>
            <a:endCxn id="222" idx="0"/>
          </p:cNvCxnSpPr>
          <p:nvPr/>
        </p:nvCxnSpPr>
        <p:spPr>
          <a:xfrm>
            <a:off x="4975200" y="7199280"/>
            <a:ext cx="2160" cy="138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24" name=""/>
          <p:cNvCxnSpPr>
            <a:stCxn id="189" idx="2"/>
            <a:endCxn id="212" idx="0"/>
          </p:cNvCxnSpPr>
          <p:nvPr/>
        </p:nvCxnSpPr>
        <p:spPr>
          <a:xfrm flipH="1" rot="16200000">
            <a:off x="3084480" y="3642480"/>
            <a:ext cx="565920" cy="3228120"/>
          </a:xfrm>
          <a:prstGeom prst="bentConnector3">
            <a:avLst>
              <a:gd name="adj1" fmla="val 62635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Gabriela Barrón Salmerón</cp:lastModifiedBy>
  <dcterms:modified xsi:type="dcterms:W3CDTF">2005-08-05T19:09:49Z</dcterms:modified>
  <cp:revision>4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2244728</vt:r8>
  </property>
  <property fmtid="{D5CDD505-2E9C-101B-9397-08002B2CF9AE}" pid="3" name="_AuthorEmail">
    <vt:lpwstr>GABRIELAB@DGPEC-S01.SSA.com</vt:lpwstr>
  </property>
  <property fmtid="{D5CDD505-2E9C-101B-9397-08002B2CF9AE}" pid="4" name="_AuthorEmailDisplayName">
    <vt:lpwstr>GABRIELA BARRON SALMERON</vt:lpwstr>
  </property>
  <property fmtid="{D5CDD505-2E9C-101B-9397-08002B2CF9AE}" pid="5" name="_EmailSubject">
    <vt:lpwstr>te mando tu procedimiento</vt:lpwstr>
  </property>
</Properties>
</file>