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0760" y="1749600"/>
            <a:ext cx="6327360" cy="5568840"/>
            <a:chOff x="320760" y="1749600"/>
            <a:chExt cx="6327360" cy="5568840"/>
          </a:xfrm>
        </p:grpSpPr>
        <p:sp>
          <p:nvSpPr>
            <p:cNvPr id="1" name=""/>
            <p:cNvSpPr/>
            <p:nvPr/>
          </p:nvSpPr>
          <p:spPr>
            <a:xfrm>
              <a:off x="4537080" y="2274120"/>
              <a:ext cx="2111040" cy="50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31800" y="2274120"/>
              <a:ext cx="2105280" cy="50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0760" y="2274120"/>
              <a:ext cx="2111040" cy="50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37080" y="1749600"/>
              <a:ext cx="211104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partamento de Pruebas Estratég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31800" y="1749600"/>
              <a:ext cx="210528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Extensión Logís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0760" y="1749600"/>
              <a:ext cx="211104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20760" y="2274120"/>
              <a:ext cx="63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20760" y="7318440"/>
              <a:ext cx="6327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0760" y="1749600"/>
              <a:ext cx="0" cy="5568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31800" y="1749600"/>
              <a:ext cx="0" cy="556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37080" y="1749600"/>
              <a:ext cx="0" cy="556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48120" y="1749600"/>
              <a:ext cx="0" cy="5568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0760" y="1749600"/>
              <a:ext cx="211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31800" y="1749600"/>
              <a:ext cx="4216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304920" y="228600"/>
            <a:ext cx="6324480" cy="1022400"/>
            <a:chOff x="304920" y="228600"/>
            <a:chExt cx="6324480" cy="1022400"/>
          </a:xfrm>
        </p:grpSpPr>
        <p:sp>
          <p:nvSpPr>
            <p:cNvPr id="16" name=""/>
            <p:cNvSpPr/>
            <p:nvPr/>
          </p:nvSpPr>
          <p:spPr>
            <a:xfrm>
              <a:off x="5638680" y="824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 86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28840" y="824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laborar Informe Presidenci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38680" y="563400"/>
              <a:ext cx="99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28840" y="563400"/>
              <a:ext cx="4209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38680" y="228600"/>
              <a:ext cx="990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228600"/>
              <a:ext cx="4209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920" y="228600"/>
              <a:ext cx="11239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04920" y="1251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2940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5634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824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Eduardo T. Delint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Verónica M. Mancilla Sánch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993600" y="5734080"/>
            <a:ext cx="763560" cy="361800"/>
            <a:chOff x="993600" y="5734080"/>
            <a:chExt cx="763560" cy="361800"/>
          </a:xfrm>
        </p:grpSpPr>
        <p:sp>
          <p:nvSpPr>
            <p:cNvPr id="98" name=""/>
            <p:cNvSpPr/>
            <p:nvPr/>
          </p:nvSpPr>
          <p:spPr>
            <a:xfrm>
              <a:off x="1033560" y="573408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93600" y="591048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021120" y="4633920"/>
            <a:ext cx="763560" cy="361800"/>
            <a:chOff x="3021120" y="4633920"/>
            <a:chExt cx="763560" cy="361800"/>
          </a:xfrm>
        </p:grpSpPr>
        <p:sp>
          <p:nvSpPr>
            <p:cNvPr id="101" name=""/>
            <p:cNvSpPr/>
            <p:nvPr/>
          </p:nvSpPr>
          <p:spPr>
            <a:xfrm>
              <a:off x="3061080" y="463392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1120" y="481032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Gráf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16080" y="399744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ratamiento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05280" y="45291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13200" y="306072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rific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0840" y="43974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5760" y="47610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54720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7" idx="2"/>
            <a:endCxn id="105" idx="0"/>
          </p:cNvCxnSpPr>
          <p:nvPr/>
        </p:nvCxnSpPr>
        <p:spPr>
          <a:xfrm flipH="1" rot="16200000">
            <a:off x="3069000" y="3684240"/>
            <a:ext cx="6231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H="1">
            <a:off x="3355200" y="4311720"/>
            <a:ext cx="11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963720" y="562140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2"/>
            <a:endCxn id="113" idx="0"/>
          </p:cNvCxnSpPr>
          <p:nvPr/>
        </p:nvCxnSpPr>
        <p:spPr>
          <a:xfrm rot="5400000">
            <a:off x="1121400" y="5411520"/>
            <a:ext cx="418320" cy="2520"/>
          </a:xfrm>
          <a:prstGeom prst="bentConnector3">
            <a:avLst>
              <a:gd name="adj1" fmla="val 497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525680" y="28749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 flipH="1">
            <a:off x="1292040" y="2706480"/>
            <a:ext cx="2160" cy="26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668760" y="29480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2320" y="29829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70200" y="38750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2"/>
            <a:endCxn id="107" idx="0"/>
          </p:cNvCxnSpPr>
          <p:nvPr/>
        </p:nvCxnSpPr>
        <p:spPr>
          <a:xfrm flipH="1" flipV="1" rot="5400000">
            <a:off x="2215080" y="2133000"/>
            <a:ext cx="237240" cy="2091240"/>
          </a:xfrm>
          <a:prstGeom prst="bentConnector5">
            <a:avLst>
              <a:gd name="adj1" fmla="val -96504"/>
              <a:gd name="adj2" fmla="val 50034"/>
              <a:gd name="adj3" fmla="val 1965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2"/>
            <a:endCxn id="115" idx="0"/>
          </p:cNvCxnSpPr>
          <p:nvPr/>
        </p:nvCxnSpPr>
        <p:spPr>
          <a:xfrm flipV="1" rot="16200000">
            <a:off x="2275560" y="3945240"/>
            <a:ext cx="105480" cy="1992600"/>
          </a:xfrm>
          <a:prstGeom prst="bentConnector5">
            <a:avLst>
              <a:gd name="adj1" fmla="val -218150"/>
              <a:gd name="adj2" fmla="val 48373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99" idx="2"/>
          </p:cNvCxnSpPr>
          <p:nvPr/>
        </p:nvCxnSpPr>
        <p:spPr>
          <a:xfrm>
            <a:off x="1297080" y="6094440"/>
            <a:ext cx="21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955800" y="2490840"/>
            <a:ext cx="684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2519280"/>
            <a:ext cx="41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54000" y="6367320"/>
            <a:ext cx="684360" cy="21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20240" y="639756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82800" y="4992840"/>
            <a:ext cx="763560" cy="361800"/>
            <a:chOff x="982800" y="4992840"/>
            <a:chExt cx="763560" cy="361800"/>
          </a:xfrm>
        </p:grpSpPr>
        <p:sp>
          <p:nvSpPr>
            <p:cNvPr id="129" name=""/>
            <p:cNvSpPr/>
            <p:nvPr/>
          </p:nvSpPr>
          <p:spPr>
            <a:xfrm>
              <a:off x="1022760" y="499284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82800" y="516924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65160" y="488952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erónica Mancilla Sánchez</cp:lastModifiedBy>
  <dcterms:modified xsi:type="dcterms:W3CDTF">2005-08-05T18:03:05Z</dcterms:modified>
  <cp:revision>7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46304739</vt:r8>
  </property>
  <property fmtid="{D5CDD505-2E9C-101B-9397-08002B2CF9AE}" pid="3" name="_AuthorEmail">
    <vt:lpwstr>VERONICAM@DGPEC-S01.SSA.com</vt:lpwstr>
  </property>
  <property fmtid="{D5CDD505-2E9C-101B-9397-08002B2CF9AE}" pid="4" name="_AuthorEmailDisplayName">
    <vt:lpwstr>VERONICA MANCILLA SANCHEZ</vt:lpwstr>
  </property>
  <property fmtid="{D5CDD505-2E9C-101B-9397-08002B2CF9AE}" pid="5" name="_EmailSubject">
    <vt:lpwstr>Procedimientos numerados </vt:lpwstr>
  </property>
</Properties>
</file>