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7520" y="1792440"/>
            <a:ext cx="6299280" cy="5814720"/>
            <a:chOff x="317520" y="1792440"/>
            <a:chExt cx="6299280" cy="5814720"/>
          </a:xfrm>
        </p:grpSpPr>
        <p:sp>
          <p:nvSpPr>
            <p:cNvPr id="1" name=""/>
            <p:cNvSpPr/>
            <p:nvPr/>
          </p:nvSpPr>
          <p:spPr>
            <a:xfrm>
              <a:off x="5219640" y="2340000"/>
              <a:ext cx="139716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594240" y="2340000"/>
              <a:ext cx="16254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911240" y="2340000"/>
              <a:ext cx="16830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17520" y="2340000"/>
              <a:ext cx="15937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19640" y="1792440"/>
              <a:ext cx="13971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Sistemas Complementario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94240" y="1792440"/>
              <a:ext cx="162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911240" y="1792440"/>
              <a:ext cx="1683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520" y="1792440"/>
              <a:ext cx="15937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7520" y="2340000"/>
              <a:ext cx="629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17520" y="7607160"/>
              <a:ext cx="6299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7520" y="1792440"/>
              <a:ext cx="0" cy="581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11240" y="1792440"/>
              <a:ext cx="0" cy="58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94240" y="1792440"/>
              <a:ext cx="0" cy="58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19640" y="1792440"/>
              <a:ext cx="0" cy="58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16800" y="1792440"/>
              <a:ext cx="0" cy="581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11240" y="1792440"/>
              <a:ext cx="330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17520" y="1792440"/>
              <a:ext cx="1593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19640" y="1792440"/>
              <a:ext cx="1397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35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la implantación de Lineamientos de Interrelación de los Servicios de Salud con la Medicina Tradic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37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RNÁN JOSÉ GARCÍA RAMÍR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210200" y="5987880"/>
            <a:ext cx="651960" cy="333360"/>
            <a:chOff x="4210200" y="5987880"/>
            <a:chExt cx="651960" cy="333360"/>
          </a:xfrm>
        </p:grpSpPr>
        <p:sp>
          <p:nvSpPr>
            <p:cNvPr id="102" name=""/>
            <p:cNvSpPr/>
            <p:nvPr/>
          </p:nvSpPr>
          <p:spPr>
            <a:xfrm>
              <a:off x="4227120" y="5987880"/>
              <a:ext cx="583560" cy="33336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10200" y="6121080"/>
              <a:ext cx="6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235400" y="5937120"/>
            <a:ext cx="576360" cy="21924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5720" y="5979960"/>
            <a:ext cx="644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37200" y="4197240"/>
            <a:ext cx="651960" cy="333360"/>
            <a:chOff x="4237200" y="4197240"/>
            <a:chExt cx="651960" cy="333360"/>
          </a:xfrm>
        </p:grpSpPr>
        <p:sp>
          <p:nvSpPr>
            <p:cNvPr id="107" name=""/>
            <p:cNvSpPr/>
            <p:nvPr/>
          </p:nvSpPr>
          <p:spPr>
            <a:xfrm>
              <a:off x="4254120" y="4197240"/>
              <a:ext cx="583560" cy="33336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37200" y="4330440"/>
              <a:ext cx="6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37200" y="4035600"/>
            <a:ext cx="651960" cy="333360"/>
            <a:chOff x="4237200" y="4035600"/>
            <a:chExt cx="651960" cy="333360"/>
          </a:xfrm>
        </p:grpSpPr>
        <p:sp>
          <p:nvSpPr>
            <p:cNvPr id="110" name=""/>
            <p:cNvSpPr/>
            <p:nvPr/>
          </p:nvSpPr>
          <p:spPr>
            <a:xfrm>
              <a:off x="4254120" y="4035600"/>
              <a:ext cx="583560" cy="33336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37200" y="4168800"/>
              <a:ext cx="6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31920" y="2600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36880" y="2660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60880" y="3059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68760" y="2558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7360" y="566100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05360" y="280044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los proces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 emisión 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. de lineam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5240" y="289728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iagnóstico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a relac.de los serv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alud c/la MT.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46200" y="276552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Solicitud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Lineamient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4" idx="2"/>
          </p:cNvCxnSpPr>
          <p:nvPr/>
        </p:nvCxnSpPr>
        <p:spPr>
          <a:xfrm>
            <a:off x="979560" y="2590560"/>
            <a:ext cx="2160" cy="15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sm" type="triangle" w="med"/>
          </a:ln>
        </p:spPr>
      </p:cxnSp>
      <p:cxnSp>
        <p:nvCxnSpPr>
          <p:cNvPr id="124" name=""/>
          <p:cNvCxnSpPr>
            <a:stCxn id="125" idx="2"/>
            <a:endCxn id="122" idx="0"/>
          </p:cNvCxnSpPr>
          <p:nvPr/>
        </p:nvCxnSpPr>
        <p:spPr>
          <a:xfrm flipH="1" flipV="1" rot="5400000">
            <a:off x="1729080" y="2094480"/>
            <a:ext cx="380160" cy="1721520"/>
          </a:xfrm>
          <a:prstGeom prst="bentConnector5">
            <a:avLst>
              <a:gd name="adj1" fmla="val -60189"/>
              <a:gd name="adj2" fmla="val 35327"/>
              <a:gd name="adj3" fmla="val 16018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 flipH="1" flipV="1" rot="5400000">
            <a:off x="3379320" y="2198880"/>
            <a:ext cx="357840" cy="1559880"/>
          </a:xfrm>
          <a:prstGeom prst="bentConnector5">
            <a:avLst>
              <a:gd name="adj1" fmla="val -63947"/>
              <a:gd name="adj2" fmla="val 41851"/>
              <a:gd name="adj3" fmla="val 163947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0" idx="2"/>
            <a:endCxn id="121" idx="0"/>
          </p:cNvCxnSpPr>
          <p:nvPr/>
        </p:nvCxnSpPr>
        <p:spPr>
          <a:xfrm flipH="1" flipV="1" rot="5400000">
            <a:off x="5060160" y="2174760"/>
            <a:ext cx="295560" cy="1740600"/>
          </a:xfrm>
          <a:prstGeom prst="bentConnector5">
            <a:avLst>
              <a:gd name="adj1" fmla="val -77439"/>
              <a:gd name="adj2" fmla="val 38394"/>
              <a:gd name="adj3" fmla="val 17756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29" idx="0"/>
          </p:cNvCxnSpPr>
          <p:nvPr/>
        </p:nvCxnSpPr>
        <p:spPr>
          <a:xfrm>
            <a:off x="6078240" y="3288960"/>
            <a:ext cx="3960" cy="330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5838840" y="3889440"/>
            <a:ext cx="620280" cy="299880"/>
            <a:chOff x="5838840" y="3889440"/>
            <a:chExt cx="620280" cy="299880"/>
          </a:xfrm>
        </p:grpSpPr>
        <p:sp>
          <p:nvSpPr>
            <p:cNvPr id="131" name=""/>
            <p:cNvSpPr/>
            <p:nvPr/>
          </p:nvSpPr>
          <p:spPr>
            <a:xfrm>
              <a:off x="5855040" y="3889440"/>
              <a:ext cx="555120" cy="29988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8840" y="4008960"/>
              <a:ext cx="6202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748480" y="361944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misión de Lineam.P/l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terrelación la MT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os SS de la Secretarí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543200" y="7105320"/>
            <a:ext cx="1080" cy="227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725400" y="2752560"/>
            <a:ext cx="666720" cy="39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strucción para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Lineamient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6720" y="380520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 de l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ineamient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estado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3080" y="2611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93080" y="3376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V="1" rot="16200000">
            <a:off x="5136480" y="3177360"/>
            <a:ext cx="369000" cy="1623240"/>
          </a:xfrm>
          <a:prstGeom prst="bentConnector5">
            <a:avLst>
              <a:gd name="adj1" fmla="val -66308"/>
              <a:gd name="adj2" fmla="val 48225"/>
              <a:gd name="adj3" fmla="val 1620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8" name=""/>
          <p:cNvGrpSpPr/>
          <p:nvPr/>
        </p:nvGrpSpPr>
        <p:grpSpPr>
          <a:xfrm>
            <a:off x="4221000" y="7343640"/>
            <a:ext cx="663480" cy="181080"/>
            <a:chOff x="4221000" y="7343640"/>
            <a:chExt cx="663480" cy="181080"/>
          </a:xfrm>
        </p:grpSpPr>
        <p:sp>
          <p:nvSpPr>
            <p:cNvPr id="139" name=""/>
            <p:cNvSpPr/>
            <p:nvPr/>
          </p:nvSpPr>
          <p:spPr>
            <a:xfrm>
              <a:off x="4221000" y="7343640"/>
              <a:ext cx="663480" cy="152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280" y="7354800"/>
              <a:ext cx="536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TERMIN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605480" y="5356080"/>
            <a:ext cx="0" cy="243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6600" y="4533840"/>
            <a:ext cx="0" cy="250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1560" y="3564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135320" y="4575240"/>
            <a:ext cx="735840" cy="814320"/>
            <a:chOff x="4135320" y="4575240"/>
            <a:chExt cx="735840" cy="814320"/>
          </a:xfrm>
        </p:grpSpPr>
        <p:grpSp>
          <p:nvGrpSpPr>
            <p:cNvPr id="145" name=""/>
            <p:cNvGrpSpPr/>
            <p:nvPr/>
          </p:nvGrpSpPr>
          <p:grpSpPr>
            <a:xfrm>
              <a:off x="4219200" y="5056200"/>
              <a:ext cx="651960" cy="333360"/>
              <a:chOff x="4219200" y="5056200"/>
              <a:chExt cx="651960" cy="3333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36120" y="5056200"/>
                <a:ext cx="583560" cy="33336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19200" y="5189400"/>
                <a:ext cx="65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Lineamiento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147920" y="4807080"/>
              <a:ext cx="666360" cy="392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ación del eq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replicación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DAMI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5320" y="45752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635720" y="5386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87720" y="6272280"/>
            <a:ext cx="901440" cy="853920"/>
            <a:chOff x="3987720" y="6272280"/>
            <a:chExt cx="901440" cy="853920"/>
          </a:xfrm>
        </p:grpSpPr>
        <p:sp>
          <p:nvSpPr>
            <p:cNvPr id="152" name=""/>
            <p:cNvSpPr/>
            <p:nvPr/>
          </p:nvSpPr>
          <p:spPr>
            <a:xfrm>
              <a:off x="4668840" y="6272280"/>
              <a:ext cx="6480" cy="16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230720" y="6792840"/>
              <a:ext cx="651960" cy="333360"/>
              <a:chOff x="4230720" y="6792840"/>
              <a:chExt cx="651960" cy="333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247640" y="6792840"/>
                <a:ext cx="583560" cy="33336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30720" y="6926040"/>
                <a:ext cx="65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237200" y="6648480"/>
              <a:ext cx="651960" cy="333360"/>
              <a:chOff x="4237200" y="6648480"/>
              <a:chExt cx="651960" cy="333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254120" y="6648480"/>
                <a:ext cx="583560" cy="33336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37200" y="6781680"/>
                <a:ext cx="65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170240" y="6442200"/>
              <a:ext cx="666720" cy="392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aboración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Informe final.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87720" y="62913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145040" y="560700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ción con los S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 / implemen. del mod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interrel. C/ PT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50:49Z</dcterms:modified>
  <cp:revision>5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030348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Manuales de procedimientos de Medicina Tradicional y Sistmas Complementarios</vt:lpwstr>
  </property>
</Properties>
</file>