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15080"/>
            <a:chOff x="304920" y="1709640"/>
            <a:chExt cx="6324480" cy="5815080"/>
          </a:xfrm>
        </p:grpSpPr>
        <p:sp>
          <p:nvSpPr>
            <p:cNvPr id="1" name=""/>
            <p:cNvSpPr/>
            <p:nvPr/>
          </p:nvSpPr>
          <p:spPr>
            <a:xfrm>
              <a:off x="557676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partamento  de Planeación en el Estad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laneación en el Estad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ubdirección de Desarrollo de la Cultura Organizacion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575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24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asesorar la ejecución  de planes de acción para  el cambio de la Cultura Organizacional en las unidades de salu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Desarrollo de Sustentabilidad de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ucero Rodríguez Cabr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Julián Mendoza Fl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María Sol Aguilar Núñ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5852160" y="4245120"/>
            <a:ext cx="662760" cy="252000"/>
            <a:chOff x="5852160" y="4245120"/>
            <a:chExt cx="662760" cy="252000"/>
          </a:xfrm>
        </p:grpSpPr>
        <p:sp>
          <p:nvSpPr>
            <p:cNvPr id="110" name=""/>
            <p:cNvSpPr/>
            <p:nvPr/>
          </p:nvSpPr>
          <p:spPr>
            <a:xfrm>
              <a:off x="5905440" y="42451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52160" y="431172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746960" y="6176880"/>
            <a:ext cx="669240" cy="259920"/>
            <a:chOff x="4746960" y="6176880"/>
            <a:chExt cx="669240" cy="259920"/>
          </a:xfrm>
        </p:grpSpPr>
        <p:sp>
          <p:nvSpPr>
            <p:cNvPr id="113" name=""/>
            <p:cNvSpPr/>
            <p:nvPr/>
          </p:nvSpPr>
          <p:spPr>
            <a:xfrm>
              <a:off x="4800960" y="6176880"/>
              <a:ext cx="615240" cy="25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46960" y="624600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699080" y="5214960"/>
            <a:ext cx="585720" cy="469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681360" y="3743280"/>
            <a:ext cx="745920" cy="401400"/>
            <a:chOff x="3681360" y="3743280"/>
            <a:chExt cx="745920" cy="401400"/>
          </a:xfrm>
        </p:grpSpPr>
        <p:sp>
          <p:nvSpPr>
            <p:cNvPr id="117" name=""/>
            <p:cNvSpPr/>
            <p:nvPr/>
          </p:nvSpPr>
          <p:spPr>
            <a:xfrm>
              <a:off x="3735720" y="3743280"/>
              <a:ext cx="614520" cy="4014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81360" y="3850200"/>
              <a:ext cx="745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municado ví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lectrón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4200" y="235116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23840" y="2441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23" idx="0"/>
          </p:cNvCxnSpPr>
          <p:nvPr/>
        </p:nvCxnSpPr>
        <p:spPr>
          <a:xfrm flipH="1">
            <a:off x="804240" y="2503440"/>
            <a:ext cx="12240" cy="192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4" name=""/>
          <p:cNvSpPr/>
          <p:nvPr/>
        </p:nvSpPr>
        <p:spPr>
          <a:xfrm>
            <a:off x="1982880" y="2478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6" idx="2"/>
          </p:cNvCxnSpPr>
          <p:nvPr/>
        </p:nvCxnSpPr>
        <p:spPr>
          <a:xfrm flipH="1" flipV="1" rot="5400000">
            <a:off x="1167120" y="2528280"/>
            <a:ext cx="373320" cy="980640"/>
          </a:xfrm>
          <a:prstGeom prst="bentConnector3">
            <a:avLst>
              <a:gd name="adj1" fmla="val -6611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7" name=""/>
          <p:cNvSpPr/>
          <p:nvPr/>
        </p:nvSpPr>
        <p:spPr>
          <a:xfrm>
            <a:off x="4075200" y="3025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40120" y="5335560"/>
            <a:ext cx="50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60840" y="535932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V="1">
            <a:off x="5292720" y="5441400"/>
            <a:ext cx="164160" cy="6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1" name=""/>
          <p:cNvSpPr/>
          <p:nvPr/>
        </p:nvSpPr>
        <p:spPr>
          <a:xfrm>
            <a:off x="5128200" y="512928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/>
          <p:nvPr/>
        </p:nvCxnSpPr>
        <p:spPr>
          <a:xfrm flipH="1">
            <a:off x="4987440" y="5678280"/>
            <a:ext cx="5760" cy="121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3" name=""/>
          <p:cNvSpPr/>
          <p:nvPr/>
        </p:nvSpPr>
        <p:spPr>
          <a:xfrm>
            <a:off x="4606920" y="556272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2920" y="6824520"/>
            <a:ext cx="666720" cy="330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 Infor.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mplant. de suger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/planes de acción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76560" y="2863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27560" y="31226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2"/>
            <a:endCxn id="138" idx="0"/>
          </p:cNvCxnSpPr>
          <p:nvPr/>
        </p:nvCxnSpPr>
        <p:spPr>
          <a:xfrm flipH="1">
            <a:off x="3981600" y="7155000"/>
            <a:ext cx="5040" cy="1940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 flipH="1" flipV="1" rot="5400000">
            <a:off x="3328560" y="3035880"/>
            <a:ext cx="276120" cy="957240"/>
          </a:xfrm>
          <a:prstGeom prst="bentConnector5">
            <a:avLst>
              <a:gd name="adj1" fmla="val -112663"/>
              <a:gd name="adj2" fmla="val 155906"/>
              <a:gd name="adj3" fmla="val 18407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2" name=""/>
          <p:cNvCxnSpPr/>
          <p:nvPr/>
        </p:nvCxnSpPr>
        <p:spPr>
          <a:xfrm flipH="1" flipV="1" rot="5400000">
            <a:off x="5470920" y="3464280"/>
            <a:ext cx="226080" cy="1008720"/>
          </a:xfrm>
          <a:prstGeom prst="bentConnector5">
            <a:avLst>
              <a:gd name="adj1" fmla="val -60446"/>
              <a:gd name="adj2" fmla="val 39985"/>
              <a:gd name="adj3" fmla="val 15342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3" name=""/>
          <p:cNvCxnSpPr>
            <a:stCxn id="111" idx="2"/>
            <a:endCxn id="144" idx="0"/>
          </p:cNvCxnSpPr>
          <p:nvPr/>
        </p:nvCxnSpPr>
        <p:spPr>
          <a:xfrm rot="5400000">
            <a:off x="5416920" y="4095360"/>
            <a:ext cx="254520" cy="1058040"/>
          </a:xfrm>
          <a:prstGeom prst="bentConnector5">
            <a:avLst>
              <a:gd name="adj1" fmla="val 89235"/>
              <a:gd name="adj2" fmla="val 44520"/>
              <a:gd name="adj3" fmla="val 878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3905280" y="7348680"/>
            <a:ext cx="152280" cy="14580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3" idx="2"/>
            <a:endCxn id="134" idx="0"/>
          </p:cNvCxnSpPr>
          <p:nvPr/>
        </p:nvCxnSpPr>
        <p:spPr>
          <a:xfrm rot="5400000">
            <a:off x="4345920" y="6061680"/>
            <a:ext cx="403200" cy="1122840"/>
          </a:xfrm>
          <a:prstGeom prst="bentConnector5">
            <a:avLst>
              <a:gd name="adj1" fmla="val 61394"/>
              <a:gd name="adj2" fmla="val 48845"/>
              <a:gd name="adj3" fmla="val 4253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6" name=""/>
          <p:cNvCxnSpPr>
            <a:stCxn id="117" idx="2"/>
          </p:cNvCxnSpPr>
          <p:nvPr/>
        </p:nvCxnSpPr>
        <p:spPr>
          <a:xfrm flipH="1" flipV="1" rot="5400000">
            <a:off x="4332960" y="3408480"/>
            <a:ext cx="423000" cy="1002600"/>
          </a:xfrm>
          <a:prstGeom prst="bentConnector3">
            <a:avLst>
              <a:gd name="adj1" fmla="val -6047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7" name=""/>
          <p:cNvSpPr/>
          <p:nvPr/>
        </p:nvSpPr>
        <p:spPr>
          <a:xfrm>
            <a:off x="6213600" y="3262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68960" y="43988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67360" y="6319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5800" y="2968560"/>
            <a:ext cx="662400" cy="252360"/>
            <a:chOff x="505800" y="2968560"/>
            <a:chExt cx="662400" cy="252360"/>
          </a:xfrm>
        </p:grpSpPr>
        <p:sp>
          <p:nvSpPr>
            <p:cNvPr id="126" name=""/>
            <p:cNvSpPr/>
            <p:nvPr/>
          </p:nvSpPr>
          <p:spPr>
            <a:xfrm>
              <a:off x="558720" y="29685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5800" y="30355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98600" y="2695680"/>
            <a:ext cx="610920" cy="349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str. se aseso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jecuc. de  Pla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stat. de ac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559880" y="3057480"/>
            <a:ext cx="662400" cy="252360"/>
            <a:chOff x="1559880" y="3057480"/>
            <a:chExt cx="662400" cy="252360"/>
          </a:xfrm>
        </p:grpSpPr>
        <p:sp>
          <p:nvSpPr>
            <p:cNvPr id="153" name=""/>
            <p:cNvSpPr/>
            <p:nvPr/>
          </p:nvSpPr>
          <p:spPr>
            <a:xfrm>
              <a:off x="1612800" y="3057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59880" y="31244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533600" y="2838600"/>
            <a:ext cx="6206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d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tu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3" idx="2"/>
          </p:cNvCxnSpPr>
          <p:nvPr/>
        </p:nvCxnSpPr>
        <p:spPr>
          <a:xfrm flipH="1" flipV="1" rot="5400000">
            <a:off x="2349000" y="2721240"/>
            <a:ext cx="141480" cy="1004400"/>
          </a:xfrm>
          <a:prstGeom prst="bentConnector3">
            <a:avLst>
              <a:gd name="adj1" fmla="val -17474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57" name=""/>
          <p:cNvGrpSpPr/>
          <p:nvPr/>
        </p:nvGrpSpPr>
        <p:grpSpPr>
          <a:xfrm>
            <a:off x="2630160" y="3416400"/>
            <a:ext cx="662400" cy="252000"/>
            <a:chOff x="2630160" y="3416400"/>
            <a:chExt cx="662400" cy="252000"/>
          </a:xfrm>
        </p:grpSpPr>
        <p:sp>
          <p:nvSpPr>
            <p:cNvPr id="140" name=""/>
            <p:cNvSpPr/>
            <p:nvPr/>
          </p:nvSpPr>
          <p:spPr>
            <a:xfrm>
              <a:off x="2683080" y="34164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30160" y="34830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638520" y="3645000"/>
            <a:ext cx="662040" cy="252000"/>
            <a:chOff x="3638520" y="3645000"/>
            <a:chExt cx="662040" cy="252000"/>
          </a:xfrm>
        </p:grpSpPr>
        <p:sp>
          <p:nvSpPr>
            <p:cNvPr id="160" name=""/>
            <p:cNvSpPr/>
            <p:nvPr/>
          </p:nvSpPr>
          <p:spPr>
            <a:xfrm>
              <a:off x="3691080" y="36450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38520" y="371160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616120" y="3144960"/>
            <a:ext cx="608040" cy="3157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d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41760" y="3376440"/>
            <a:ext cx="606240" cy="352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nal. Plane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cción  y emi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gererc. pa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 mejor eje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722840" y="3916440"/>
            <a:ext cx="662040" cy="252360"/>
            <a:chOff x="4722840" y="3916440"/>
            <a:chExt cx="662040" cy="252360"/>
          </a:xfrm>
        </p:grpSpPr>
        <p:sp>
          <p:nvSpPr>
            <p:cNvPr id="164" name=""/>
            <p:cNvSpPr/>
            <p:nvPr/>
          </p:nvSpPr>
          <p:spPr>
            <a:xfrm>
              <a:off x="4775400" y="39164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22840" y="398340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795640" y="4092480"/>
            <a:ext cx="662040" cy="252360"/>
            <a:chOff x="5795640" y="4092480"/>
            <a:chExt cx="662040" cy="252360"/>
          </a:xfrm>
        </p:grpSpPr>
        <p:sp>
          <p:nvSpPr>
            <p:cNvPr id="167" name=""/>
            <p:cNvSpPr/>
            <p:nvPr/>
          </p:nvSpPr>
          <p:spPr>
            <a:xfrm>
              <a:off x="5848200" y="4092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5640" y="415944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734000" y="3662280"/>
            <a:ext cx="615960" cy="320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d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80160" y="3871800"/>
            <a:ext cx="615960" cy="322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jecución de l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gerenci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240" y="475128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verific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4987440" y="5047920"/>
            <a:ext cx="3960" cy="192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2" name=""/>
          <p:cNvGrpSpPr/>
          <p:nvPr/>
        </p:nvGrpSpPr>
        <p:grpSpPr>
          <a:xfrm>
            <a:off x="4697280" y="6103800"/>
            <a:ext cx="669600" cy="237960"/>
            <a:chOff x="4697280" y="6103800"/>
            <a:chExt cx="669600" cy="237960"/>
          </a:xfrm>
        </p:grpSpPr>
        <p:sp>
          <p:nvSpPr>
            <p:cNvPr id="173" name=""/>
            <p:cNvSpPr/>
            <p:nvPr/>
          </p:nvSpPr>
          <p:spPr>
            <a:xfrm>
              <a:off x="4751640" y="6103800"/>
              <a:ext cx="615240" cy="204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97280" y="6158160"/>
              <a:ext cx="1839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641840" y="5813280"/>
            <a:ext cx="671400" cy="3175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a ofic. o info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a elec. o telef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 la SD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ja:35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1657080" y="5468760"/>
            <a:ext cx="711000" cy="368640"/>
            <a:chOff x="1657080" y="5468760"/>
            <a:chExt cx="711000" cy="368640"/>
          </a:xfrm>
        </p:grpSpPr>
        <p:sp>
          <p:nvSpPr>
            <p:cNvPr id="178" name=""/>
            <p:cNvSpPr/>
            <p:nvPr/>
          </p:nvSpPr>
          <p:spPr>
            <a:xfrm>
              <a:off x="1715040" y="5468760"/>
              <a:ext cx="653040" cy="3441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57080" y="5560560"/>
              <a:ext cx="6760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 sobr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662280" y="2593800"/>
            <a:ext cx="585720" cy="4701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75040" y="229068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1" idx="2"/>
          </p:cNvCxnSpPr>
          <p:nvPr/>
        </p:nvCxnSpPr>
        <p:spPr>
          <a:xfrm>
            <a:off x="3951360" y="2436840"/>
            <a:ext cx="2160" cy="164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3" name=""/>
          <p:cNvSpPr/>
          <p:nvPr/>
        </p:nvSpPr>
        <p:spPr>
          <a:xfrm>
            <a:off x="3710160" y="274464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/>
          <p:nvPr/>
        </p:nvCxnSpPr>
        <p:spPr>
          <a:xfrm>
            <a:off x="3952440" y="3062160"/>
            <a:ext cx="2520" cy="162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5" name=""/>
          <p:cNvCxnSpPr/>
          <p:nvPr/>
        </p:nvCxnSpPr>
        <p:spPr>
          <a:xfrm>
            <a:off x="4238280" y="2828520"/>
            <a:ext cx="15948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6" name=""/>
          <p:cNvSpPr/>
          <p:nvPr/>
        </p:nvSpPr>
        <p:spPr>
          <a:xfrm>
            <a:off x="4397400" y="2752560"/>
            <a:ext cx="114120" cy="1400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8440" y="291780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7880" y="252576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731760" y="3600360"/>
            <a:ext cx="711360" cy="368280"/>
            <a:chOff x="3731760" y="3600360"/>
            <a:chExt cx="711360" cy="368280"/>
          </a:xfrm>
        </p:grpSpPr>
        <p:sp>
          <p:nvSpPr>
            <p:cNvPr id="190" name=""/>
            <p:cNvSpPr/>
            <p:nvPr/>
          </p:nvSpPr>
          <p:spPr>
            <a:xfrm>
              <a:off x="3789720" y="3600360"/>
              <a:ext cx="653400" cy="3438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31760" y="3691800"/>
              <a:ext cx="6760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 sobr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09760" y="652464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360" y="37591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17880" y="46594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51120" y="56307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1" idx="2"/>
            <a:endCxn id="197" idx="0"/>
          </p:cNvCxnSpPr>
          <p:nvPr/>
        </p:nvCxnSpPr>
        <p:spPr>
          <a:xfrm rot="5400000">
            <a:off x="3335040" y="3533760"/>
            <a:ext cx="300600" cy="1170720"/>
          </a:xfrm>
          <a:prstGeom prst="bentConnector3">
            <a:avLst>
              <a:gd name="adj1" fmla="val 4976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8" name=""/>
          <p:cNvCxnSpPr/>
          <p:nvPr/>
        </p:nvCxnSpPr>
        <p:spPr>
          <a:xfrm rot="5400000">
            <a:off x="1305000" y="5379120"/>
            <a:ext cx="204120" cy="1116720"/>
          </a:xfrm>
          <a:prstGeom prst="bentConnector3">
            <a:avLst>
              <a:gd name="adj1" fmla="val 5000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9" name=""/>
          <p:cNvCxnSpPr/>
          <p:nvPr/>
        </p:nvCxnSpPr>
        <p:spPr>
          <a:xfrm>
            <a:off x="837720" y="6362640"/>
            <a:ext cx="2520" cy="162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0" name=""/>
          <p:cNvCxnSpPr/>
          <p:nvPr/>
        </p:nvCxnSpPr>
        <p:spPr>
          <a:xfrm rot="5400000">
            <a:off x="2403720" y="4588560"/>
            <a:ext cx="283320" cy="983520"/>
          </a:xfrm>
          <a:prstGeom prst="bentConnector3">
            <a:avLst>
              <a:gd name="adj1" fmla="val 2798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01" name=""/>
          <p:cNvGrpSpPr/>
          <p:nvPr/>
        </p:nvGrpSpPr>
        <p:grpSpPr>
          <a:xfrm>
            <a:off x="3674880" y="3503520"/>
            <a:ext cx="714240" cy="259920"/>
            <a:chOff x="3674880" y="3503520"/>
            <a:chExt cx="714240" cy="259920"/>
          </a:xfrm>
        </p:grpSpPr>
        <p:sp>
          <p:nvSpPr>
            <p:cNvPr id="202" name=""/>
            <p:cNvSpPr/>
            <p:nvPr/>
          </p:nvSpPr>
          <p:spPr>
            <a:xfrm>
              <a:off x="3731400" y="3503520"/>
              <a:ext cx="657720" cy="25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74880" y="35726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692520" y="3222720"/>
            <a:ext cx="666720" cy="352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teg resu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mp. de Sug. p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 de acc.  Edos,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 informa DDS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636640" y="4608360"/>
            <a:ext cx="711000" cy="368280"/>
            <a:chOff x="2636640" y="4608360"/>
            <a:chExt cx="711000" cy="368280"/>
          </a:xfrm>
        </p:grpSpPr>
        <p:sp>
          <p:nvSpPr>
            <p:cNvPr id="206" name=""/>
            <p:cNvSpPr/>
            <p:nvPr/>
          </p:nvSpPr>
          <p:spPr>
            <a:xfrm>
              <a:off x="2694600" y="4608360"/>
              <a:ext cx="653040" cy="3438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36640" y="4699800"/>
              <a:ext cx="6760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 sobr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577960" y="4495680"/>
            <a:ext cx="714240" cy="260280"/>
            <a:chOff x="2577960" y="4495680"/>
            <a:chExt cx="714240" cy="260280"/>
          </a:xfrm>
        </p:grpSpPr>
        <p:sp>
          <p:nvSpPr>
            <p:cNvPr id="209" name=""/>
            <p:cNvSpPr/>
            <p:nvPr/>
          </p:nvSpPr>
          <p:spPr>
            <a:xfrm>
              <a:off x="2634480" y="4495680"/>
              <a:ext cx="657720" cy="2602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77960" y="45651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568600" y="4268880"/>
            <a:ext cx="663480" cy="322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conoc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04880" y="5349960"/>
            <a:ext cx="714240" cy="259920"/>
            <a:chOff x="1604880" y="5349960"/>
            <a:chExt cx="714240" cy="259920"/>
          </a:xfrm>
        </p:grpSpPr>
        <p:sp>
          <p:nvSpPr>
            <p:cNvPr id="212" name=""/>
            <p:cNvSpPr/>
            <p:nvPr/>
          </p:nvSpPr>
          <p:spPr>
            <a:xfrm>
              <a:off x="1661400" y="5349960"/>
              <a:ext cx="657720" cy="25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04880" y="54190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595520" y="5116680"/>
            <a:ext cx="663480" cy="322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conoc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3800" y="6041880"/>
            <a:ext cx="663480" cy="322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conoc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ja:36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aquel Almazán</cp:lastModifiedBy>
  <dcterms:modified xsi:type="dcterms:W3CDTF">2005-08-05T18:58:46Z</dcterms:modified>
  <cp:revision>62</cp:revision>
  <dc:subject/>
  <dc:title>Presentación de PowerPoint</dc:title>
</cp:coreProperties>
</file>