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2880" y="1663560"/>
            <a:ext cx="6324840" cy="5815080"/>
            <a:chOff x="272880" y="1663560"/>
            <a:chExt cx="6324840" cy="5815080"/>
          </a:xfrm>
        </p:grpSpPr>
        <p:sp>
          <p:nvSpPr>
            <p:cNvPr id="1" name=""/>
            <p:cNvSpPr/>
            <p:nvPr/>
          </p:nvSpPr>
          <p:spPr>
            <a:xfrm>
              <a:off x="554508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956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692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81400" y="221148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8760" y="221148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2211480"/>
              <a:ext cx="1055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508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8956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3692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1400" y="166356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da institución del sector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28760" y="166356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dirección de Innovación Logística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2880" y="1663560"/>
              <a:ext cx="1055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2880" y="2211480"/>
              <a:ext cx="63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72880" y="7478640"/>
              <a:ext cx="632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288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140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3692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8956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45080" y="16635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97720" y="16635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166356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2880" y="1663560"/>
              <a:ext cx="105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36920" y="166356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524560" y="716040"/>
              <a:ext cx="110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Hoja: 4  de 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095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</a:t>
              </a: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 promover la integración de grupos institucionales para la mejora del abasto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24560" y="455760"/>
              <a:ext cx="1104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095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irección de Procesos Logístic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524560" y="228600"/>
              <a:ext cx="11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095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52456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2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2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2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gosto 4,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2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201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201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201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201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Medina Lamadr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Blanca Chávez Buenrost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Osorio Marí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2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411200" y="3259080"/>
            <a:ext cx="662040" cy="252360"/>
            <a:chOff x="1411200" y="3259080"/>
            <a:chExt cx="662040" cy="252360"/>
          </a:xfrm>
        </p:grpSpPr>
        <p:sp>
          <p:nvSpPr>
            <p:cNvPr id="72" name=""/>
            <p:cNvSpPr/>
            <p:nvPr/>
          </p:nvSpPr>
          <p:spPr>
            <a:xfrm>
              <a:off x="1463760" y="3259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11200" y="33260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23960" y="33670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 de abas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02040" y="3227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9760" y="42559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centr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 actual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list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5520" y="4100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13000" y="49068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situ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cuerd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78120" y="4762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1880" y="53895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2880" y="2762280"/>
            <a:ext cx="609480" cy="297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defini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canism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9760" y="3056040"/>
            <a:ext cx="6094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mo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canism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vinculación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 flipH="1" flipV="1" rot="5400000">
            <a:off x="1279440" y="2623680"/>
            <a:ext cx="3960" cy="867600"/>
          </a:xfrm>
          <a:prstGeom prst="bentConnector5">
            <a:avLst>
              <a:gd name="adj1" fmla="val -7200000"/>
              <a:gd name="adj2" fmla="val 49979"/>
              <a:gd name="adj3" fmla="val 7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1855800" y="2922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6320" y="2614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>
            <a:off x="839880" y="2590920"/>
            <a:ext cx="864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1339920" y="2914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62420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2880" y="55324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cuer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H="1" flipV="1" rot="5400000">
            <a:off x="2234160" y="2900520"/>
            <a:ext cx="129240" cy="1061280"/>
          </a:xfrm>
          <a:prstGeom prst="bentConnector5">
            <a:avLst>
              <a:gd name="adj1" fmla="val -188826"/>
              <a:gd name="adj2" fmla="val 49983"/>
              <a:gd name="adj3" fmla="val 2776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rot="16200000">
            <a:off x="1542960" y="4731840"/>
            <a:ext cx="3466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rot="5400000">
            <a:off x="1121760" y="4937040"/>
            <a:ext cx="321480" cy="870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847800" y="5837400"/>
            <a:ext cx="2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rot="5400000">
            <a:off x="1978920" y="3406680"/>
            <a:ext cx="584640" cy="11149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992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MARISOLO</cp:lastModifiedBy>
  <dcterms:modified xsi:type="dcterms:W3CDTF">2005-08-05T18:37:37Z</dcterms:modified>
  <cp:revision>58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9855480</vt:r8>
  </property>
  <property fmtid="{D5CDD505-2E9C-101B-9397-08002B2CF9AE}" pid="3" name="_AuthorEmail">
    <vt:lpwstr>MARISOLO@DGPEC-S01.SSA.com</vt:lpwstr>
  </property>
  <property fmtid="{D5CDD505-2E9C-101B-9397-08002B2CF9AE}" pid="4" name="_AuthorEmailDisplayName">
    <vt:lpwstr>MARISOL OSORIO MARIN</vt:lpwstr>
  </property>
  <property fmtid="{D5CDD505-2E9C-101B-9397-08002B2CF9AE}" pid="5" name="_EmailSubject">
    <vt:lpwstr>ISO 9001-2000</vt:lpwstr>
  </property>
  <property fmtid="{D5CDD505-2E9C-101B-9397-08002B2CF9AE}" pid="6" name="_PreviousAdHocReviewCycleID">
    <vt:r8>704802380</vt:r8>
  </property>
</Properties>
</file>