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685880"/>
            <a:ext cx="6311520" cy="5838480"/>
            <a:chOff x="304920" y="1685880"/>
            <a:chExt cx="6311520" cy="5838480"/>
          </a:xfrm>
        </p:grpSpPr>
        <p:sp>
          <p:nvSpPr>
            <p:cNvPr id="1" name=""/>
            <p:cNvSpPr/>
            <p:nvPr/>
          </p:nvSpPr>
          <p:spPr>
            <a:xfrm>
              <a:off x="4510440" y="2235960"/>
              <a:ext cx="2105640" cy="528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410560" y="2235960"/>
              <a:ext cx="2099880" cy="528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2235960"/>
              <a:ext cx="2105640" cy="528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10440" y="1685880"/>
              <a:ext cx="2105640" cy="5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partamento de Pruebas Estratégic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0560" y="1685880"/>
              <a:ext cx="2099880" cy="5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Extensión Logíst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1685880"/>
              <a:ext cx="2105640" cy="5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Procesos Logístic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2235960"/>
              <a:ext cx="631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04920" y="7524360"/>
              <a:ext cx="6311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920" y="1685880"/>
              <a:ext cx="0" cy="5838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10560" y="1685880"/>
              <a:ext cx="0" cy="583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510440" y="1685880"/>
              <a:ext cx="0" cy="583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616440" y="1685880"/>
              <a:ext cx="0" cy="5838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1685880"/>
              <a:ext cx="210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410560" y="1685880"/>
              <a:ext cx="420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304920" y="228600"/>
            <a:ext cx="6324480" cy="1022400"/>
            <a:chOff x="304920" y="228600"/>
            <a:chExt cx="6324480" cy="1022400"/>
          </a:xfrm>
        </p:grpSpPr>
        <p:sp>
          <p:nvSpPr>
            <p:cNvPr id="16" name=""/>
            <p:cNvSpPr/>
            <p:nvPr/>
          </p:nvSpPr>
          <p:spPr>
            <a:xfrm>
              <a:off x="5638680" y="824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Hoja:  91  de 1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28840" y="824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Iniciar la elaboración de análisis comparativo de Medicamentos con proveedores y preci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38680" y="563400"/>
              <a:ext cx="9907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28840" y="563400"/>
              <a:ext cx="42098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rección de Procesos Logístic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38680" y="228600"/>
              <a:ext cx="9907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28840" y="228600"/>
              <a:ext cx="42098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04920" y="228600"/>
              <a:ext cx="112392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04920" y="1251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04920" y="228600"/>
              <a:ext cx="0" cy="1022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28840" y="228600"/>
              <a:ext cx="0" cy="10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638680" y="228600"/>
              <a:ext cx="0" cy="10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629400" y="228600"/>
              <a:ext cx="0" cy="1022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56340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428840" y="824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32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33" name=""/>
            <p:cNvSpPr/>
            <p:nvPr/>
          </p:nvSpPr>
          <p:spPr>
            <a:xfrm>
              <a:off x="4800600" y="807696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895480" y="807696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914400" y="807696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04920" y="807696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4800600" y="87310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895480" y="87310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914400" y="87310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04920" y="87310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800600" y="851832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895480" y="851832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14400" y="851832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851832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00600" y="8289720"/>
              <a:ext cx="1828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Ing. Jorge Medina Lamadr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95480" y="8289720"/>
              <a:ext cx="1905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Eduardo T. Delint Ramír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14400" y="8289720"/>
              <a:ext cx="1981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Verónica M. Mancilla Sánch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920" y="8289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7848720"/>
              <a:ext cx="6324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82897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920" y="8518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80769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144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006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5389560" y="5626080"/>
            <a:ext cx="763560" cy="361800"/>
            <a:chOff x="5389560" y="5626080"/>
            <a:chExt cx="763560" cy="361800"/>
          </a:xfrm>
        </p:grpSpPr>
        <p:sp>
          <p:nvSpPr>
            <p:cNvPr id="98" name=""/>
            <p:cNvSpPr/>
            <p:nvPr/>
          </p:nvSpPr>
          <p:spPr>
            <a:xfrm>
              <a:off x="5429520" y="562608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89560" y="580248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Listad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954000" y="2995560"/>
            <a:ext cx="763560" cy="361800"/>
            <a:chOff x="954000" y="2995560"/>
            <a:chExt cx="763560" cy="361800"/>
          </a:xfrm>
        </p:grpSpPr>
        <p:sp>
          <p:nvSpPr>
            <p:cNvPr id="101" name=""/>
            <p:cNvSpPr/>
            <p:nvPr/>
          </p:nvSpPr>
          <p:spPr>
            <a:xfrm>
              <a:off x="993960" y="299556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54000" y="317196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2960" y="288144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olicitud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/>
          <p:nvPr/>
        </p:nvCxnSpPr>
        <p:spPr>
          <a:xfrm>
            <a:off x="1279080" y="2603520"/>
            <a:ext cx="1080" cy="27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5367240" y="5519880"/>
            <a:ext cx="7336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y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ratamiento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0600" y="274464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20960" y="2781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9560" y="351792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25720" y="45417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62760" y="542592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38680" y="582300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96960" y="6453360"/>
            <a:ext cx="88920" cy="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6" idx="2"/>
            <a:endCxn id="117" idx="0"/>
          </p:cNvCxnSpPr>
          <p:nvPr/>
        </p:nvCxnSpPr>
        <p:spPr>
          <a:xfrm flipH="1" rot="16200000">
            <a:off x="2215080" y="3357000"/>
            <a:ext cx="383400" cy="2250360"/>
          </a:xfrm>
          <a:prstGeom prst="bentConnector3">
            <a:avLst>
              <a:gd name="adj1" fmla="val 497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9" idx="2"/>
            <a:endCxn id="120" idx="0"/>
          </p:cNvCxnSpPr>
          <p:nvPr/>
        </p:nvCxnSpPr>
        <p:spPr>
          <a:xfrm rot="5400000">
            <a:off x="2259360" y="5265000"/>
            <a:ext cx="330840" cy="2250000"/>
          </a:xfrm>
          <a:prstGeom prst="bentConnector3">
            <a:avLst>
              <a:gd name="adj1" fmla="val 672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20" idx="2"/>
          </p:cNvCxnSpPr>
          <p:nvPr/>
        </p:nvCxnSpPr>
        <p:spPr>
          <a:xfrm flipH="1">
            <a:off x="1297800" y="686916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99" idx="2"/>
            <a:endCxn id="119" idx="0"/>
          </p:cNvCxnSpPr>
          <p:nvPr/>
        </p:nvCxnSpPr>
        <p:spPr>
          <a:xfrm flipV="1" rot="16200000">
            <a:off x="4582440" y="4876560"/>
            <a:ext cx="76680" cy="2143800"/>
          </a:xfrm>
          <a:prstGeom prst="bentConnector5">
            <a:avLst>
              <a:gd name="adj1" fmla="val -301415"/>
              <a:gd name="adj2" fmla="val 48505"/>
              <a:gd name="adj3" fmla="val 401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947880" y="2387520"/>
            <a:ext cx="684000" cy="21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92240" y="2408400"/>
            <a:ext cx="41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3600" y="7157880"/>
            <a:ext cx="684360" cy="21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58400" y="7172280"/>
            <a:ext cx="532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098880" y="2995560"/>
            <a:ext cx="763560" cy="361800"/>
            <a:chOff x="3098880" y="2995560"/>
            <a:chExt cx="763560" cy="361800"/>
          </a:xfrm>
        </p:grpSpPr>
        <p:sp>
          <p:nvSpPr>
            <p:cNvPr id="128" name=""/>
            <p:cNvSpPr/>
            <p:nvPr/>
          </p:nvSpPr>
          <p:spPr>
            <a:xfrm>
              <a:off x="3138840" y="299556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98880" y="317196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068640" y="288756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fici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55800" y="6637320"/>
            <a:ext cx="763560" cy="361800"/>
            <a:chOff x="955800" y="6637320"/>
            <a:chExt cx="763560" cy="361800"/>
          </a:xfrm>
        </p:grpSpPr>
        <p:sp>
          <p:nvSpPr>
            <p:cNvPr id="132" name=""/>
            <p:cNvSpPr/>
            <p:nvPr/>
          </p:nvSpPr>
          <p:spPr>
            <a:xfrm>
              <a:off x="995760" y="663732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55800" y="681372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Infor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33480" y="655488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stado de precios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y proveedo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930240" y="4068720"/>
            <a:ext cx="763560" cy="361800"/>
            <a:chOff x="930240" y="4068720"/>
            <a:chExt cx="763560" cy="361800"/>
          </a:xfrm>
        </p:grpSpPr>
        <p:sp>
          <p:nvSpPr>
            <p:cNvPr id="135" name=""/>
            <p:cNvSpPr/>
            <p:nvPr/>
          </p:nvSpPr>
          <p:spPr>
            <a:xfrm>
              <a:off x="970200" y="406872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30240" y="424512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915840" y="3976560"/>
            <a:ext cx="7336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nvío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181320" y="4786200"/>
            <a:ext cx="763560" cy="361800"/>
            <a:chOff x="3181320" y="4786200"/>
            <a:chExt cx="763560" cy="361800"/>
          </a:xfrm>
        </p:grpSpPr>
        <p:sp>
          <p:nvSpPr>
            <p:cNvPr id="138" name=""/>
            <p:cNvSpPr/>
            <p:nvPr/>
          </p:nvSpPr>
          <p:spPr>
            <a:xfrm>
              <a:off x="3221280" y="478620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81320" y="496260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Listad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165480" y="467352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y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alización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13000" y="5996160"/>
            <a:ext cx="763560" cy="361800"/>
            <a:chOff x="3213000" y="5996160"/>
            <a:chExt cx="763560" cy="361800"/>
          </a:xfrm>
        </p:grpSpPr>
        <p:sp>
          <p:nvSpPr>
            <p:cNvPr id="141" name=""/>
            <p:cNvSpPr/>
            <p:nvPr/>
          </p:nvSpPr>
          <p:spPr>
            <a:xfrm>
              <a:off x="3252960" y="599616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13000" y="617256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Listad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182760" y="5910120"/>
            <a:ext cx="733680" cy="314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stado para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isto bue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02" idx="2"/>
            <a:endCxn id="130" idx="0"/>
          </p:cNvCxnSpPr>
          <p:nvPr/>
        </p:nvCxnSpPr>
        <p:spPr>
          <a:xfrm flipH="1" flipV="1" rot="5400000">
            <a:off x="2112120" y="2032200"/>
            <a:ext cx="469080" cy="2178720"/>
          </a:xfrm>
          <a:prstGeom prst="bentConnector5">
            <a:avLst>
              <a:gd name="adj1" fmla="val -15898"/>
              <a:gd name="adj2" fmla="val 45909"/>
              <a:gd name="adj3" fmla="val 1487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29" idx="2"/>
            <a:endCxn id="116" idx="0"/>
          </p:cNvCxnSpPr>
          <p:nvPr/>
        </p:nvCxnSpPr>
        <p:spPr>
          <a:xfrm rot="5400000">
            <a:off x="2031480" y="2606400"/>
            <a:ext cx="621000" cy="212004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/>
          <p:nvPr/>
        </p:nvCxnSpPr>
        <p:spPr>
          <a:xfrm flipH="1" rot="16200000">
            <a:off x="4435200" y="4201560"/>
            <a:ext cx="383400" cy="2250000"/>
          </a:xfrm>
          <a:prstGeom prst="bentConnector3">
            <a:avLst>
              <a:gd name="adj1" fmla="val 497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Verónica Mancilla Sánchez</cp:lastModifiedBy>
  <dcterms:modified xsi:type="dcterms:W3CDTF">2005-08-05T18:04:54Z</dcterms:modified>
  <cp:revision>74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60818150</vt:r8>
  </property>
  <property fmtid="{D5CDD505-2E9C-101B-9397-08002B2CF9AE}" pid="3" name="_AuthorEmail">
    <vt:lpwstr>VERONICAM@DGPEC-S01.SSA.com</vt:lpwstr>
  </property>
  <property fmtid="{D5CDD505-2E9C-101B-9397-08002B2CF9AE}" pid="4" name="_AuthorEmailDisplayName">
    <vt:lpwstr>VERONICA MANCILLA SANCHEZ</vt:lpwstr>
  </property>
  <property fmtid="{D5CDD505-2E9C-101B-9397-08002B2CF9AE}" pid="5" name="_EmailSubject">
    <vt:lpwstr>Procedimientos numerados </vt:lpwstr>
  </property>
</Properties>
</file>