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884160"/>
            <a:chOff x="304920" y="228600"/>
            <a:chExt cx="6324480" cy="884160"/>
          </a:xfrm>
        </p:grpSpPr>
        <p:sp>
          <p:nvSpPr>
            <p:cNvPr id="1" name=""/>
            <p:cNvSpPr/>
            <p:nvPr/>
          </p:nvSpPr>
          <p:spPr>
            <a:xfrm>
              <a:off x="5638680" y="68580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68580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mbre del Procedimiento:Procedimeinto para la elaboración del Programa de promoción y realización de encuentros nacionales y estatales para el análisis y discusión en materia de gerencia estrtégica de la atención a la salu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2552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2552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127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2552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6858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162080"/>
            <a:chOff x="304920" y="7848720"/>
            <a:chExt cx="6324480" cy="1162080"/>
          </a:xfrm>
        </p:grpSpPr>
        <p:sp>
          <p:nvSpPr>
            <p:cNvPr id="18" name=""/>
            <p:cNvSpPr/>
            <p:nvPr/>
          </p:nvSpPr>
          <p:spPr>
            <a:xfrm>
              <a:off x="4800600" y="805824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Autoriz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5824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vis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5824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abor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5824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651880"/>
              <a:ext cx="1828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651880"/>
              <a:ext cx="1905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651880"/>
              <a:ext cx="19810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651880"/>
              <a:ext cx="609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ech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46936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46936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46936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46936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93240" indent="-9324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irm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4076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imes New Roman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4076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imes New Roman"/>
                </a:rPr>
                <a:t>ING. JUAN CARLOS TRUJILLO H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4076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TOMÁS GABINO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407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CONTROL DE EMIS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407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4693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651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90108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162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162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582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5824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5824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5824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24000" y="1454040"/>
            <a:ext cx="5397480" cy="6332760"/>
            <a:chOff x="324000" y="1454040"/>
            <a:chExt cx="5397480" cy="6332760"/>
          </a:xfrm>
        </p:grpSpPr>
        <p:sp>
          <p:nvSpPr>
            <p:cNvPr id="47" name=""/>
            <p:cNvSpPr/>
            <p:nvPr/>
          </p:nvSpPr>
          <p:spPr>
            <a:xfrm>
              <a:off x="4886280" y="2004840"/>
              <a:ext cx="83520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86280" y="1454040"/>
              <a:ext cx="83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62520" y="2004840"/>
              <a:ext cx="92376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2520" y="1454040"/>
              <a:ext cx="923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67200" y="2004840"/>
              <a:ext cx="89532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67200" y="1454040"/>
              <a:ext cx="89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ntidades Federativ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24000" y="2004840"/>
              <a:ext cx="94320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24000" y="1454040"/>
              <a:ext cx="94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Gerencia Estratég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3640" y="2004840"/>
              <a:ext cx="99036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3640" y="1454040"/>
              <a:ext cx="99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c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" y="2004840"/>
              <a:ext cx="80964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00" y="1454040"/>
              <a:ext cx="80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1454040"/>
              <a:ext cx="5397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7786800"/>
              <a:ext cx="5397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" y="1454040"/>
              <a:ext cx="0" cy="633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21480" y="1454040"/>
              <a:ext cx="0" cy="633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2004840"/>
              <a:ext cx="539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364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2400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6720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8628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400" y="114156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96360" y="2727360"/>
            <a:ext cx="662400" cy="252360"/>
            <a:chOff x="396360" y="2727360"/>
            <a:chExt cx="662400" cy="252360"/>
          </a:xfrm>
        </p:grpSpPr>
        <p:sp>
          <p:nvSpPr>
            <p:cNvPr id="107" name=""/>
            <p:cNvSpPr/>
            <p:nvPr/>
          </p:nvSpPr>
          <p:spPr>
            <a:xfrm>
              <a:off x="449280" y="2727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360" y="27943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47400" y="2819520"/>
            <a:ext cx="662400" cy="252000"/>
            <a:chOff x="1247400" y="2819520"/>
            <a:chExt cx="662400" cy="252000"/>
          </a:xfrm>
        </p:grpSpPr>
        <p:sp>
          <p:nvSpPr>
            <p:cNvPr id="110" name=""/>
            <p:cNvSpPr/>
            <p:nvPr/>
          </p:nvSpPr>
          <p:spPr>
            <a:xfrm>
              <a:off x="1300320" y="28195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47400" y="28861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22560" y="2679840"/>
            <a:ext cx="661680" cy="252000"/>
            <a:chOff x="1222560" y="2679840"/>
            <a:chExt cx="661680" cy="252000"/>
          </a:xfrm>
        </p:grpSpPr>
        <p:sp>
          <p:nvSpPr>
            <p:cNvPr id="113" name=""/>
            <p:cNvSpPr/>
            <p:nvPr/>
          </p:nvSpPr>
          <p:spPr>
            <a:xfrm>
              <a:off x="1274760" y="26798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22560" y="27464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63960" y="2583000"/>
            <a:ext cx="661320" cy="252000"/>
            <a:chOff x="363960" y="2583000"/>
            <a:chExt cx="661320" cy="252000"/>
          </a:xfrm>
        </p:grpSpPr>
        <p:sp>
          <p:nvSpPr>
            <p:cNvPr id="116" name=""/>
            <p:cNvSpPr/>
            <p:nvPr/>
          </p:nvSpPr>
          <p:spPr>
            <a:xfrm>
              <a:off x="415800" y="2583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960" y="264960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205596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5520" y="23605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6200" y="2201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2"/>
            <a:endCxn id="120" idx="0"/>
          </p:cNvCxnSpPr>
          <p:nvPr/>
        </p:nvCxnSpPr>
        <p:spPr>
          <a:xfrm flipH="1">
            <a:off x="730440" y="2208240"/>
            <a:ext cx="180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3" name=""/>
          <p:cNvSpPr/>
          <p:nvPr/>
        </p:nvSpPr>
        <p:spPr>
          <a:xfrm>
            <a:off x="1235160" y="24526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47800" y="2303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08" idx="2"/>
            <a:endCxn id="123" idx="0"/>
          </p:cNvCxnSpPr>
          <p:nvPr/>
        </p:nvCxnSpPr>
        <p:spPr>
          <a:xfrm flipH="1" flipV="1" rot="5400000">
            <a:off x="868320" y="2307960"/>
            <a:ext cx="527400" cy="816840"/>
          </a:xfrm>
          <a:prstGeom prst="bentConnector5">
            <a:avLst>
              <a:gd name="adj1" fmla="val -43032"/>
              <a:gd name="adj2" fmla="val 165652"/>
              <a:gd name="adj3" fmla="val 14405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1190520" y="48481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morandu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Vo. 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1" idx="2"/>
            <a:endCxn id="128" idx="0"/>
          </p:cNvCxnSpPr>
          <p:nvPr/>
        </p:nvCxnSpPr>
        <p:spPr>
          <a:xfrm flipH="1" flipV="1" rot="5400000">
            <a:off x="1767600" y="2296080"/>
            <a:ext cx="582840" cy="969120"/>
          </a:xfrm>
          <a:prstGeom prst="bentConnector5">
            <a:avLst>
              <a:gd name="adj1" fmla="val -38936"/>
              <a:gd name="adj2" fmla="val 155332"/>
              <a:gd name="adj3" fmla="val 13980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9" name=""/>
          <p:cNvCxnSpPr>
            <a:stCxn id="130" idx="2"/>
            <a:endCxn id="131" idx="0"/>
          </p:cNvCxnSpPr>
          <p:nvPr/>
        </p:nvCxnSpPr>
        <p:spPr>
          <a:xfrm flipV="1" rot="16200000">
            <a:off x="1057320" y="5746320"/>
            <a:ext cx="204840" cy="1018080"/>
          </a:xfrm>
          <a:prstGeom prst="bentConnector5">
            <a:avLst>
              <a:gd name="adj1" fmla="val -120598"/>
              <a:gd name="adj2" fmla="val -52670"/>
              <a:gd name="adj3" fmla="val 22887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2" name=""/>
          <p:cNvGrpSpPr/>
          <p:nvPr/>
        </p:nvGrpSpPr>
        <p:grpSpPr>
          <a:xfrm>
            <a:off x="2244240" y="2854440"/>
            <a:ext cx="662400" cy="252000"/>
            <a:chOff x="2244240" y="2854440"/>
            <a:chExt cx="662400" cy="252000"/>
          </a:xfrm>
        </p:grpSpPr>
        <p:sp>
          <p:nvSpPr>
            <p:cNvPr id="133" name=""/>
            <p:cNvSpPr/>
            <p:nvPr/>
          </p:nvSpPr>
          <p:spPr>
            <a:xfrm>
              <a:off x="2297160" y="28544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44240" y="29210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25880" y="2716200"/>
            <a:ext cx="661680" cy="252360"/>
            <a:chOff x="2225880" y="2716200"/>
            <a:chExt cx="661680" cy="252360"/>
          </a:xfrm>
        </p:grpSpPr>
        <p:sp>
          <p:nvSpPr>
            <p:cNvPr id="136" name=""/>
            <p:cNvSpPr/>
            <p:nvPr/>
          </p:nvSpPr>
          <p:spPr>
            <a:xfrm>
              <a:off x="2278080" y="2716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5880" y="27831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238480" y="24890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grama y sol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Vo.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5440" y="2308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3" idx="2"/>
            <a:endCxn id="140" idx="0"/>
          </p:cNvCxnSpPr>
          <p:nvPr/>
        </p:nvCxnSpPr>
        <p:spPr>
          <a:xfrm rot="5400000">
            <a:off x="1836360" y="2717280"/>
            <a:ext cx="393120" cy="1138680"/>
          </a:xfrm>
          <a:prstGeom prst="bentConnector5">
            <a:avLst>
              <a:gd name="adj1" fmla="val 62786"/>
              <a:gd name="adj2" fmla="val 50031"/>
              <a:gd name="adj3" fmla="val 4087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1" name=""/>
          <p:cNvGrpSpPr/>
          <p:nvPr/>
        </p:nvGrpSpPr>
        <p:grpSpPr>
          <a:xfrm>
            <a:off x="1164600" y="3848040"/>
            <a:ext cx="662400" cy="252360"/>
            <a:chOff x="1164600" y="3848040"/>
            <a:chExt cx="662400" cy="252360"/>
          </a:xfrm>
        </p:grpSpPr>
        <p:sp>
          <p:nvSpPr>
            <p:cNvPr id="142" name=""/>
            <p:cNvSpPr/>
            <p:nvPr/>
          </p:nvSpPr>
          <p:spPr>
            <a:xfrm>
              <a:off x="1217520" y="3848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64600" y="3915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136880" y="3710160"/>
            <a:ext cx="661680" cy="252000"/>
            <a:chOff x="1136880" y="3710160"/>
            <a:chExt cx="661680" cy="252000"/>
          </a:xfrm>
        </p:grpSpPr>
        <p:sp>
          <p:nvSpPr>
            <p:cNvPr id="145" name=""/>
            <p:cNvSpPr/>
            <p:nvPr/>
          </p:nvSpPr>
          <p:spPr>
            <a:xfrm>
              <a:off x="1189080" y="3710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6880" y="37767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58840" y="34830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y verif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9600" y="423072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0" y="440856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3"/>
          </p:cNvCxnSpPr>
          <p:nvPr/>
        </p:nvCxnSpPr>
        <p:spPr>
          <a:xfrm>
            <a:off x="1773360" y="4475160"/>
            <a:ext cx="1706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0" name=""/>
          <p:cNvSpPr/>
          <p:nvPr/>
        </p:nvSpPr>
        <p:spPr>
          <a:xfrm>
            <a:off x="1681560" y="42624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3040" y="45799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3" idx="2"/>
            <a:endCxn id="147" idx="0"/>
          </p:cNvCxnSpPr>
          <p:nvPr/>
        </p:nvCxnSpPr>
        <p:spPr>
          <a:xfrm flipH="1">
            <a:off x="1491480" y="4100400"/>
            <a:ext cx="720" cy="130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1652760" y="3313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44600" y="5378400"/>
            <a:ext cx="662040" cy="252360"/>
            <a:chOff x="2244600" y="5378400"/>
            <a:chExt cx="662040" cy="252360"/>
          </a:xfrm>
        </p:grpSpPr>
        <p:sp>
          <p:nvSpPr>
            <p:cNvPr id="155" name=""/>
            <p:cNvSpPr/>
            <p:nvPr/>
          </p:nvSpPr>
          <p:spPr>
            <a:xfrm>
              <a:off x="2297160" y="5378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44600" y="54453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16520" y="5240160"/>
            <a:ext cx="661680" cy="252360"/>
            <a:chOff x="2216520" y="5240160"/>
            <a:chExt cx="661680" cy="252360"/>
          </a:xfrm>
        </p:grpSpPr>
        <p:sp>
          <p:nvSpPr>
            <p:cNvPr id="158" name=""/>
            <p:cNvSpPr/>
            <p:nvPr/>
          </p:nvSpPr>
          <p:spPr>
            <a:xfrm>
              <a:off x="2268720" y="5240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6520" y="53071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38480" y="50133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voBo,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6" idx="2"/>
            <a:endCxn id="160" idx="0"/>
          </p:cNvCxnSpPr>
          <p:nvPr/>
        </p:nvCxnSpPr>
        <p:spPr>
          <a:xfrm flipH="1" flipV="1" rot="5400000">
            <a:off x="1949400" y="4559400"/>
            <a:ext cx="140040" cy="1048320"/>
          </a:xfrm>
          <a:prstGeom prst="bentConnector5">
            <a:avLst>
              <a:gd name="adj1" fmla="val -284020"/>
              <a:gd name="adj2" fmla="val 151150"/>
              <a:gd name="adj3" fmla="val 26623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2649600" y="4867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11480" y="6121440"/>
            <a:ext cx="661680" cy="252360"/>
            <a:chOff x="1311480" y="6121440"/>
            <a:chExt cx="661680" cy="252360"/>
          </a:xfrm>
        </p:grpSpPr>
        <p:sp>
          <p:nvSpPr>
            <p:cNvPr id="130" name=""/>
            <p:cNvSpPr/>
            <p:nvPr/>
          </p:nvSpPr>
          <p:spPr>
            <a:xfrm>
              <a:off x="1363680" y="6121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11480" y="61884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82680" y="5983200"/>
            <a:ext cx="662040" cy="252360"/>
            <a:chOff x="1282680" y="5983200"/>
            <a:chExt cx="662040" cy="252360"/>
          </a:xfrm>
        </p:grpSpPr>
        <p:sp>
          <p:nvSpPr>
            <p:cNvPr id="166" name=""/>
            <p:cNvSpPr/>
            <p:nvPr/>
          </p:nvSpPr>
          <p:spPr>
            <a:xfrm>
              <a:off x="1335240" y="5983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82680" y="60501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305000" y="57564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6120" y="5610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56" idx="2"/>
            <a:endCxn id="168" idx="0"/>
          </p:cNvCxnSpPr>
          <p:nvPr/>
        </p:nvCxnSpPr>
        <p:spPr>
          <a:xfrm rot="5400000">
            <a:off x="1958040" y="5282280"/>
            <a:ext cx="126000" cy="822960"/>
          </a:xfrm>
          <a:prstGeom prst="bentConnector5">
            <a:avLst>
              <a:gd name="adj1" fmla="val 180515"/>
              <a:gd name="adj2" fmla="val -50459"/>
              <a:gd name="adj3" fmla="val -3283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1" name=""/>
          <p:cNvCxnSpPr/>
          <p:nvPr/>
        </p:nvCxnSpPr>
        <p:spPr>
          <a:xfrm>
            <a:off x="1491840" y="4708440"/>
            <a:ext cx="1080" cy="13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2" name=""/>
          <p:cNvGrpSpPr/>
          <p:nvPr/>
        </p:nvGrpSpPr>
        <p:grpSpPr>
          <a:xfrm>
            <a:off x="326520" y="6488280"/>
            <a:ext cx="662400" cy="252000"/>
            <a:chOff x="326520" y="6488280"/>
            <a:chExt cx="662400" cy="252000"/>
          </a:xfrm>
        </p:grpSpPr>
        <p:sp>
          <p:nvSpPr>
            <p:cNvPr id="173" name=""/>
            <p:cNvSpPr/>
            <p:nvPr/>
          </p:nvSpPr>
          <p:spPr>
            <a:xfrm>
              <a:off x="379440" y="6488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6520" y="655488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1320" y="6354720"/>
            <a:ext cx="662040" cy="252360"/>
            <a:chOff x="301320" y="6354720"/>
            <a:chExt cx="662040" cy="252360"/>
          </a:xfrm>
        </p:grpSpPr>
        <p:sp>
          <p:nvSpPr>
            <p:cNvPr id="176" name=""/>
            <p:cNvSpPr/>
            <p:nvPr/>
          </p:nvSpPr>
          <p:spPr>
            <a:xfrm>
              <a:off x="353880" y="63547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1320" y="64216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79400" y="6004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61531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77720" y="7237440"/>
            <a:ext cx="662400" cy="252360"/>
            <a:chOff x="3177720" y="7237440"/>
            <a:chExt cx="662400" cy="252360"/>
          </a:xfrm>
        </p:grpSpPr>
        <p:sp>
          <p:nvSpPr>
            <p:cNvPr id="180" name=""/>
            <p:cNvSpPr/>
            <p:nvPr/>
          </p:nvSpPr>
          <p:spPr>
            <a:xfrm>
              <a:off x="3230640" y="7237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7720" y="730440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152520" y="7104240"/>
            <a:ext cx="662040" cy="252000"/>
            <a:chOff x="3152520" y="7104240"/>
            <a:chExt cx="662040" cy="252000"/>
          </a:xfrm>
        </p:grpSpPr>
        <p:sp>
          <p:nvSpPr>
            <p:cNvPr id="183" name=""/>
            <p:cNvSpPr/>
            <p:nvPr/>
          </p:nvSpPr>
          <p:spPr>
            <a:xfrm>
              <a:off x="3205080" y="71042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52520" y="7170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630600" y="6753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97160" y="69022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do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 inicia la impla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ción y envia inf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4" idx="2"/>
            <a:endCxn id="186" idx="0"/>
          </p:cNvCxnSpPr>
          <p:nvPr/>
        </p:nvCxnSpPr>
        <p:spPr>
          <a:xfrm flipH="1" rot="16200000">
            <a:off x="1986840" y="5387040"/>
            <a:ext cx="162360" cy="2868480"/>
          </a:xfrm>
          <a:prstGeom prst="bentConnector5">
            <a:avLst>
              <a:gd name="adj1" fmla="val 140000"/>
              <a:gd name="adj2" fmla="val 49968"/>
              <a:gd name="adj3" fmla="val -4333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8" name=""/>
          <p:cNvSpPr/>
          <p:nvPr/>
        </p:nvSpPr>
        <p:spPr>
          <a:xfrm>
            <a:off x="3460680" y="752148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</p:cNvCxnSpPr>
          <p:nvPr/>
        </p:nvCxnSpPr>
        <p:spPr>
          <a:xfrm>
            <a:off x="3537000" y="7667640"/>
            <a:ext cx="720" cy="128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0" name=""/>
          <p:cNvSpPr/>
          <p:nvPr/>
        </p:nvSpPr>
        <p:spPr>
          <a:xfrm>
            <a:off x="5840280" y="6969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55     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425520" y="4454640"/>
            <a:ext cx="661680" cy="252000"/>
            <a:chOff x="425520" y="4454640"/>
            <a:chExt cx="661680" cy="252000"/>
          </a:xfrm>
        </p:grpSpPr>
        <p:sp>
          <p:nvSpPr>
            <p:cNvPr id="192" name=""/>
            <p:cNvSpPr/>
            <p:nvPr/>
          </p:nvSpPr>
          <p:spPr>
            <a:xfrm>
              <a:off x="477720" y="44546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5520" y="452124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2200" y="4334040"/>
            <a:ext cx="662400" cy="252000"/>
            <a:chOff x="412200" y="4334040"/>
            <a:chExt cx="662400" cy="252000"/>
          </a:xfrm>
        </p:grpSpPr>
        <p:sp>
          <p:nvSpPr>
            <p:cNvPr id="195" name=""/>
            <p:cNvSpPr/>
            <p:nvPr/>
          </p:nvSpPr>
          <p:spPr>
            <a:xfrm>
              <a:off x="465120" y="43340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200" y="44006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352880" y="3514680"/>
            <a:ext cx="661680" cy="252360"/>
            <a:chOff x="1352880" y="3514680"/>
            <a:chExt cx="661680" cy="252360"/>
          </a:xfrm>
        </p:grpSpPr>
        <p:sp>
          <p:nvSpPr>
            <p:cNvPr id="198" name=""/>
            <p:cNvSpPr/>
            <p:nvPr/>
          </p:nvSpPr>
          <p:spPr>
            <a:xfrm>
              <a:off x="1405080" y="3514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52880" y="358164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339200" y="3394080"/>
            <a:ext cx="662400" cy="252360"/>
            <a:chOff x="1339200" y="3394080"/>
            <a:chExt cx="662400" cy="252360"/>
          </a:xfrm>
        </p:grpSpPr>
        <p:sp>
          <p:nvSpPr>
            <p:cNvPr id="201" name=""/>
            <p:cNvSpPr/>
            <p:nvPr/>
          </p:nvSpPr>
          <p:spPr>
            <a:xfrm>
              <a:off x="1392120" y="3394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9200" y="34610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425680" y="20224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16520" y="2644920"/>
            <a:ext cx="661680" cy="252000"/>
            <a:chOff x="2216520" y="2644920"/>
            <a:chExt cx="661680" cy="252000"/>
          </a:xfrm>
        </p:grpSpPr>
        <p:sp>
          <p:nvSpPr>
            <p:cNvPr id="205" name=""/>
            <p:cNvSpPr/>
            <p:nvPr/>
          </p:nvSpPr>
          <p:spPr>
            <a:xfrm>
              <a:off x="2268720" y="26449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16520" y="271152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71160" y="2523960"/>
            <a:ext cx="662400" cy="252360"/>
            <a:chOff x="2171160" y="2523960"/>
            <a:chExt cx="662400" cy="252360"/>
          </a:xfrm>
        </p:grpSpPr>
        <p:sp>
          <p:nvSpPr>
            <p:cNvPr id="208" name=""/>
            <p:cNvSpPr/>
            <p:nvPr/>
          </p:nvSpPr>
          <p:spPr>
            <a:xfrm>
              <a:off x="2224080" y="2523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1160" y="25909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144880" y="22971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inf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mpanta programa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repor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79760" y="2160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3960" y="317988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porte y 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92440" y="30052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60" y="41133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ción de repor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2"/>
            <a:endCxn id="214" idx="0"/>
          </p:cNvCxnSpPr>
          <p:nvPr/>
        </p:nvCxnSpPr>
        <p:spPr>
          <a:xfrm rot="5400000">
            <a:off x="1052640" y="3456720"/>
            <a:ext cx="362520" cy="951480"/>
          </a:xfrm>
          <a:prstGeom prst="bentConnector3">
            <a:avLst>
              <a:gd name="adj1" fmla="val 5178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6" name=""/>
          <p:cNvCxnSpPr/>
          <p:nvPr/>
        </p:nvCxnSpPr>
        <p:spPr>
          <a:xfrm flipH="1" rot="16200000">
            <a:off x="2404080" y="2236320"/>
            <a:ext cx="160920" cy="2520"/>
          </a:xfrm>
          <a:prstGeom prst="bentConnector3">
            <a:avLst>
              <a:gd name="adj1" fmla="val 5426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7" name=""/>
          <p:cNvCxnSpPr>
            <a:stCxn id="206" idx="2"/>
            <a:endCxn id="212" idx="0"/>
          </p:cNvCxnSpPr>
          <p:nvPr/>
        </p:nvCxnSpPr>
        <p:spPr>
          <a:xfrm rot="5400000">
            <a:off x="1921680" y="2658960"/>
            <a:ext cx="285120" cy="758160"/>
          </a:xfrm>
          <a:prstGeom prst="bentConnector3">
            <a:avLst>
              <a:gd name="adj1" fmla="val 49683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8" name=""/>
          <p:cNvCxnSpPr>
            <a:endCxn id="219" idx="0"/>
          </p:cNvCxnSpPr>
          <p:nvPr/>
        </p:nvCxnSpPr>
        <p:spPr>
          <a:xfrm>
            <a:off x="711360" y="4703760"/>
            <a:ext cx="2160" cy="170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9" name=""/>
          <p:cNvSpPr/>
          <p:nvPr/>
        </p:nvSpPr>
        <p:spPr>
          <a:xfrm>
            <a:off x="380880" y="487368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78040" y="39513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22640" y="68724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56   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20:36:20Z</dcterms:modified>
  <cp:revision>72</cp:revision>
  <dc:subject/>
  <dc:title>Presentación de PowerPoint</dc:title>
</cp:coreProperties>
</file>