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228600"/>
            <a:ext cx="6324480" cy="884160"/>
            <a:chOff x="304920" y="228600"/>
            <a:chExt cx="6324480" cy="884160"/>
          </a:xfrm>
        </p:grpSpPr>
        <p:sp>
          <p:nvSpPr>
            <p:cNvPr id="1" name=""/>
            <p:cNvSpPr/>
            <p:nvPr/>
          </p:nvSpPr>
          <p:spPr>
            <a:xfrm>
              <a:off x="5638680" y="68580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Hoja:    de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428840" y="68580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Nombre del Procedimiento: para elaborar la “Guía metodológica para elaborar, diseñar, incorporar e instrumentar los conatenidos de la página Web de la Dirección de Sistemas Gerecniales”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638680" y="42552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428840" y="42552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Dirección de Sistemas Gerencia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638680" y="228600"/>
              <a:ext cx="99072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32640" indent="-33264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428840" y="228600"/>
              <a:ext cx="4209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04920" y="228600"/>
              <a:ext cx="1123920" cy="88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4920" y="111276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28600"/>
              <a:ext cx="0" cy="8841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428840" y="228600"/>
              <a:ext cx="0" cy="88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638680" y="228600"/>
              <a:ext cx="0" cy="88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629400" y="228600"/>
              <a:ext cx="0" cy="8841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428840" y="42552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428840" y="68580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17" name=""/>
          <p:cNvGrpSpPr/>
          <p:nvPr/>
        </p:nvGrpSpPr>
        <p:grpSpPr>
          <a:xfrm>
            <a:off x="304920" y="7848720"/>
            <a:ext cx="6324480" cy="1015920"/>
            <a:chOff x="304920" y="7848720"/>
            <a:chExt cx="6324480" cy="1015920"/>
          </a:xfrm>
        </p:grpSpPr>
        <p:sp>
          <p:nvSpPr>
            <p:cNvPr id="18" name=""/>
            <p:cNvSpPr/>
            <p:nvPr/>
          </p:nvSpPr>
          <p:spPr>
            <a:xfrm>
              <a:off x="4800600" y="8058240"/>
              <a:ext cx="18288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35880" indent="-33588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Autorizó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895480" y="8058240"/>
              <a:ext cx="19051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35880" indent="-33588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visó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14400" y="8058240"/>
              <a:ext cx="19810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35880" indent="-33588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Elaboró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920" y="8058240"/>
              <a:ext cx="6094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800600" y="865188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32640" indent="-33264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895480" y="865188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32640" indent="-33264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14400" y="865188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32640" indent="-33264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04920" y="865188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95400" indent="-9540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Fecha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800600" y="8469360"/>
              <a:ext cx="18288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895480" y="8469360"/>
              <a:ext cx="19051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4400" y="8469360"/>
              <a:ext cx="19810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04920" y="8469360"/>
              <a:ext cx="6094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93240" indent="-9324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Firma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800600" y="8240760"/>
              <a:ext cx="182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DR. HÉCTOR ROBLEDO GALVÁ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895480" y="8240760"/>
              <a:ext cx="190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ING. JUAN CARLOS TRUJILLO  H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914400" y="8240760"/>
              <a:ext cx="1981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DR. TOMÁS GABINO ROME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04920" y="8240760"/>
              <a:ext cx="60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95400" indent="-9540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Nombr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04920" y="7848720"/>
              <a:ext cx="63244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CONTROL DE EMISIÓN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04920" y="82407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304920" y="84693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304920" y="86518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304920" y="88646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304920" y="7848720"/>
              <a:ext cx="0" cy="1015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629400" y="7848720"/>
              <a:ext cx="0" cy="1015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04920" y="805824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14400" y="8058240"/>
              <a:ext cx="0" cy="80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95480" y="8058240"/>
              <a:ext cx="0" cy="80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00600" y="8058240"/>
              <a:ext cx="0" cy="80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24000" y="1454040"/>
            <a:ext cx="6296040" cy="6257880"/>
            <a:chOff x="324000" y="1454040"/>
            <a:chExt cx="6296040" cy="6257880"/>
          </a:xfrm>
        </p:grpSpPr>
        <p:sp>
          <p:nvSpPr>
            <p:cNvPr id="47" name=""/>
            <p:cNvSpPr/>
            <p:nvPr/>
          </p:nvSpPr>
          <p:spPr>
            <a:xfrm>
              <a:off x="5626080" y="1930320"/>
              <a:ext cx="993960" cy="57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26080" y="1454040"/>
              <a:ext cx="9939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Procesos logístic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60840" y="1930320"/>
              <a:ext cx="1065240" cy="57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60840" y="1454040"/>
              <a:ext cx="10652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Áreas que integran la Dirección de Sistemas Gerenci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40160" y="1930320"/>
              <a:ext cx="1120680" cy="57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40160" y="1454040"/>
              <a:ext cx="11206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Gerencia Estratégic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60440" y="1930320"/>
              <a:ext cx="1179720" cy="57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60440" y="1454040"/>
              <a:ext cx="11797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Sistemas Gerecnci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98520" y="1930320"/>
              <a:ext cx="961920" cy="57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98520" y="1454040"/>
              <a:ext cx="9619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Adjunta de Diseño de Sistema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24000" y="1930320"/>
              <a:ext cx="974520" cy="57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4000" y="1454040"/>
              <a:ext cx="9745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de Planeación y Desarrollo en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4000" y="1454040"/>
              <a:ext cx="62960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4000" y="7711920"/>
              <a:ext cx="62960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4000" y="1454040"/>
              <a:ext cx="0" cy="6257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20040" y="1454040"/>
              <a:ext cx="0" cy="6257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24000" y="1930320"/>
              <a:ext cx="629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98520" y="1454040"/>
              <a:ext cx="0" cy="625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60440" y="1454040"/>
              <a:ext cx="0" cy="625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440160" y="1454040"/>
              <a:ext cx="0" cy="625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60840" y="1454040"/>
              <a:ext cx="0" cy="625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626080" y="1454040"/>
              <a:ext cx="0" cy="625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02400" y="114156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70800" y="2865600"/>
            <a:ext cx="662400" cy="252000"/>
            <a:chOff x="370800" y="2865600"/>
            <a:chExt cx="662400" cy="252000"/>
          </a:xfrm>
        </p:grpSpPr>
        <p:sp>
          <p:nvSpPr>
            <p:cNvPr id="107" name=""/>
            <p:cNvSpPr/>
            <p:nvPr/>
          </p:nvSpPr>
          <p:spPr>
            <a:xfrm>
              <a:off x="423720" y="286560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0800" y="293220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660120" y="3821040"/>
            <a:ext cx="662400" cy="252360"/>
            <a:chOff x="3660120" y="3821040"/>
            <a:chExt cx="662400" cy="252360"/>
          </a:xfrm>
        </p:grpSpPr>
        <p:sp>
          <p:nvSpPr>
            <p:cNvPr id="110" name=""/>
            <p:cNvSpPr/>
            <p:nvPr/>
          </p:nvSpPr>
          <p:spPr>
            <a:xfrm>
              <a:off x="3713040" y="38210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60120" y="388800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463040" y="3198960"/>
            <a:ext cx="662400" cy="252000"/>
            <a:chOff x="1463040" y="3198960"/>
            <a:chExt cx="662400" cy="252000"/>
          </a:xfrm>
        </p:grpSpPr>
        <p:sp>
          <p:nvSpPr>
            <p:cNvPr id="113" name=""/>
            <p:cNvSpPr/>
            <p:nvPr/>
          </p:nvSpPr>
          <p:spPr>
            <a:xfrm>
              <a:off x="1515960" y="319896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63040" y="326556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438920" y="3059280"/>
            <a:ext cx="661320" cy="252000"/>
            <a:chOff x="1438920" y="3059280"/>
            <a:chExt cx="661320" cy="252000"/>
          </a:xfrm>
        </p:grpSpPr>
        <p:sp>
          <p:nvSpPr>
            <p:cNvPr id="116" name=""/>
            <p:cNvSpPr/>
            <p:nvPr/>
          </p:nvSpPr>
          <p:spPr>
            <a:xfrm>
              <a:off x="1490760" y="305928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38920" y="3125880"/>
              <a:ext cx="63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Lineamien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38760" y="2720880"/>
            <a:ext cx="661320" cy="252360"/>
            <a:chOff x="338760" y="2720880"/>
            <a:chExt cx="661320" cy="252360"/>
          </a:xfrm>
        </p:grpSpPr>
        <p:sp>
          <p:nvSpPr>
            <p:cNvPr id="119" name=""/>
            <p:cNvSpPr/>
            <p:nvPr/>
          </p:nvSpPr>
          <p:spPr>
            <a:xfrm>
              <a:off x="390600" y="27208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8760" y="2787840"/>
              <a:ext cx="63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Lineamien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4760" y="2193840"/>
            <a:ext cx="66348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9960" y="249876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mis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ineam y tur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90640" y="23400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2" idx="2"/>
            <a:endCxn id="123" idx="0"/>
          </p:cNvCxnSpPr>
          <p:nvPr/>
        </p:nvCxnSpPr>
        <p:spPr>
          <a:xfrm flipH="1">
            <a:off x="704880" y="2346480"/>
            <a:ext cx="2160" cy="1526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6" name=""/>
          <p:cNvSpPr/>
          <p:nvPr/>
        </p:nvSpPr>
        <p:spPr>
          <a:xfrm>
            <a:off x="1450800" y="283212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ineamientos  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ur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63800" y="26827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08" idx="2"/>
            <a:endCxn id="126" idx="0"/>
          </p:cNvCxnSpPr>
          <p:nvPr/>
        </p:nvCxnSpPr>
        <p:spPr>
          <a:xfrm flipH="1" flipV="1" rot="5400000">
            <a:off x="1083960" y="2445840"/>
            <a:ext cx="285840" cy="1058040"/>
          </a:xfrm>
          <a:prstGeom prst="bentConnector5">
            <a:avLst>
              <a:gd name="adj1" fmla="val -87894"/>
              <a:gd name="adj2" fmla="val 150748"/>
              <a:gd name="adj3" fmla="val 181210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29" name=""/>
          <p:cNvGrpSpPr/>
          <p:nvPr/>
        </p:nvGrpSpPr>
        <p:grpSpPr>
          <a:xfrm>
            <a:off x="3633480" y="3683160"/>
            <a:ext cx="660600" cy="252000"/>
            <a:chOff x="3633480" y="3683160"/>
            <a:chExt cx="660600" cy="252000"/>
          </a:xfrm>
        </p:grpSpPr>
        <p:sp>
          <p:nvSpPr>
            <p:cNvPr id="130" name=""/>
            <p:cNvSpPr/>
            <p:nvPr/>
          </p:nvSpPr>
          <p:spPr>
            <a:xfrm>
              <a:off x="3684600" y="368316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33480" y="3749760"/>
              <a:ext cx="579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agnostic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654360" y="345600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 de linea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lab. Cont Pag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Web, solc. voB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13360" y="33066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14" idx="2"/>
            <a:endCxn id="135" idx="0"/>
          </p:cNvCxnSpPr>
          <p:nvPr/>
        </p:nvCxnSpPr>
        <p:spPr>
          <a:xfrm flipH="1" flipV="1" rot="5400000">
            <a:off x="2183400" y="2741760"/>
            <a:ext cx="316080" cy="1102680"/>
          </a:xfrm>
          <a:prstGeom prst="bentConnector5">
            <a:avLst>
              <a:gd name="adj1" fmla="val -71835"/>
              <a:gd name="adj2" fmla="val 50816"/>
              <a:gd name="adj3" fmla="val 173432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36" name=""/>
          <p:cNvCxnSpPr>
            <a:stCxn id="110" idx="2"/>
            <a:endCxn id="137" idx="0"/>
          </p:cNvCxnSpPr>
          <p:nvPr/>
        </p:nvCxnSpPr>
        <p:spPr>
          <a:xfrm rot="5400000">
            <a:off x="3130200" y="3609720"/>
            <a:ext cx="440640" cy="1335240"/>
          </a:xfrm>
          <a:prstGeom prst="bentConnector5">
            <a:avLst>
              <a:gd name="adj1" fmla="val 56009"/>
              <a:gd name="adj2" fmla="val 50026"/>
              <a:gd name="adj3" fmla="val 47342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38" name=""/>
          <p:cNvGrpSpPr/>
          <p:nvPr/>
        </p:nvGrpSpPr>
        <p:grpSpPr>
          <a:xfrm>
            <a:off x="2593440" y="3500280"/>
            <a:ext cx="662400" cy="252360"/>
            <a:chOff x="2593440" y="3500280"/>
            <a:chExt cx="662400" cy="252360"/>
          </a:xfrm>
        </p:grpSpPr>
        <p:sp>
          <p:nvSpPr>
            <p:cNvPr id="139" name=""/>
            <p:cNvSpPr/>
            <p:nvPr/>
          </p:nvSpPr>
          <p:spPr>
            <a:xfrm>
              <a:off x="2646360" y="35002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93440" y="356724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575440" y="3362400"/>
            <a:ext cx="661320" cy="252360"/>
            <a:chOff x="2575440" y="3362400"/>
            <a:chExt cx="661320" cy="252360"/>
          </a:xfrm>
        </p:grpSpPr>
        <p:sp>
          <p:nvSpPr>
            <p:cNvPr id="142" name=""/>
            <p:cNvSpPr/>
            <p:nvPr/>
          </p:nvSpPr>
          <p:spPr>
            <a:xfrm>
              <a:off x="2627280" y="33624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75440" y="3429360"/>
              <a:ext cx="63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Lineamien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587680" y="313524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ineamientos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ur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14640" y="29541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40" idx="2"/>
            <a:endCxn id="132" idx="0"/>
          </p:cNvCxnSpPr>
          <p:nvPr/>
        </p:nvCxnSpPr>
        <p:spPr>
          <a:xfrm flipH="1" flipV="1" rot="5400000">
            <a:off x="3291480" y="3085200"/>
            <a:ext cx="297000" cy="1038960"/>
          </a:xfrm>
          <a:prstGeom prst="bentConnector5">
            <a:avLst>
              <a:gd name="adj1" fmla="val -80825"/>
              <a:gd name="adj2" fmla="val 151681"/>
              <a:gd name="adj3" fmla="val 178276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46" name=""/>
          <p:cNvGrpSpPr/>
          <p:nvPr/>
        </p:nvGrpSpPr>
        <p:grpSpPr>
          <a:xfrm>
            <a:off x="2383920" y="4862520"/>
            <a:ext cx="662400" cy="252360"/>
            <a:chOff x="2383920" y="4862520"/>
            <a:chExt cx="662400" cy="252360"/>
          </a:xfrm>
        </p:grpSpPr>
        <p:sp>
          <p:nvSpPr>
            <p:cNvPr id="147" name=""/>
            <p:cNvSpPr/>
            <p:nvPr/>
          </p:nvSpPr>
          <p:spPr>
            <a:xfrm>
              <a:off x="2436840" y="486252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83920" y="492948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356200" y="4724280"/>
            <a:ext cx="661680" cy="252360"/>
            <a:chOff x="2356200" y="4724280"/>
            <a:chExt cx="661680" cy="252360"/>
          </a:xfrm>
        </p:grpSpPr>
        <p:sp>
          <p:nvSpPr>
            <p:cNvPr id="150" name=""/>
            <p:cNvSpPr/>
            <p:nvPr/>
          </p:nvSpPr>
          <p:spPr>
            <a:xfrm>
              <a:off x="2408400" y="47242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56200" y="479124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378160" y="449748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 y verif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la 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28920" y="5245200"/>
            <a:ext cx="563400" cy="4888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56120" y="5423040"/>
            <a:ext cx="11412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" name=""/>
          <p:cNvCxnSpPr>
            <a:stCxn id="152" idx="3"/>
          </p:cNvCxnSpPr>
          <p:nvPr/>
        </p:nvCxnSpPr>
        <p:spPr>
          <a:xfrm>
            <a:off x="2992320" y="5489640"/>
            <a:ext cx="170640" cy="3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5" name=""/>
          <p:cNvSpPr/>
          <p:nvPr/>
        </p:nvSpPr>
        <p:spPr>
          <a:xfrm>
            <a:off x="2900880" y="532764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87600" y="5651640"/>
            <a:ext cx="25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48" idx="2"/>
            <a:endCxn id="152" idx="0"/>
          </p:cNvCxnSpPr>
          <p:nvPr/>
        </p:nvCxnSpPr>
        <p:spPr>
          <a:xfrm flipH="1">
            <a:off x="2710800" y="5114880"/>
            <a:ext cx="720" cy="1306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8" name=""/>
          <p:cNvSpPr/>
          <p:nvPr/>
        </p:nvSpPr>
        <p:spPr>
          <a:xfrm>
            <a:off x="2871720" y="43275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628440" y="6342120"/>
            <a:ext cx="662400" cy="252360"/>
            <a:chOff x="3628440" y="6342120"/>
            <a:chExt cx="662400" cy="252360"/>
          </a:xfrm>
        </p:grpSpPr>
        <p:sp>
          <p:nvSpPr>
            <p:cNvPr id="160" name=""/>
            <p:cNvSpPr/>
            <p:nvPr/>
          </p:nvSpPr>
          <p:spPr>
            <a:xfrm>
              <a:off x="3681360" y="634212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28440" y="640908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600720" y="6203880"/>
            <a:ext cx="661680" cy="252360"/>
            <a:chOff x="3600720" y="6203880"/>
            <a:chExt cx="661680" cy="252360"/>
          </a:xfrm>
        </p:grpSpPr>
        <p:sp>
          <p:nvSpPr>
            <p:cNvPr id="163" name=""/>
            <p:cNvSpPr/>
            <p:nvPr/>
          </p:nvSpPr>
          <p:spPr>
            <a:xfrm>
              <a:off x="3652920" y="62038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00720" y="627084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622680" y="597708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 voBo, d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ocumen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67" idx="2"/>
            <a:endCxn id="165" idx="0"/>
          </p:cNvCxnSpPr>
          <p:nvPr/>
        </p:nvCxnSpPr>
        <p:spPr>
          <a:xfrm flipH="1" flipV="1" rot="5400000">
            <a:off x="3232080" y="5510160"/>
            <a:ext cx="228960" cy="1162440"/>
          </a:xfrm>
          <a:prstGeom prst="bentConnector5">
            <a:avLst>
              <a:gd name="adj1" fmla="val -101259"/>
              <a:gd name="adj2" fmla="val 49969"/>
              <a:gd name="adj3" fmla="val 201259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8" name=""/>
          <p:cNvSpPr/>
          <p:nvPr/>
        </p:nvSpPr>
        <p:spPr>
          <a:xfrm>
            <a:off x="4033800" y="58309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498760" y="7157880"/>
            <a:ext cx="661680" cy="252360"/>
            <a:chOff x="2498760" y="7157880"/>
            <a:chExt cx="661680" cy="252360"/>
          </a:xfrm>
        </p:grpSpPr>
        <p:sp>
          <p:nvSpPr>
            <p:cNvPr id="170" name=""/>
            <p:cNvSpPr/>
            <p:nvPr/>
          </p:nvSpPr>
          <p:spPr>
            <a:xfrm>
              <a:off x="2550960" y="71578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98760" y="722484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469600" y="7020000"/>
            <a:ext cx="662400" cy="252360"/>
            <a:chOff x="2469600" y="7020000"/>
            <a:chExt cx="662400" cy="252360"/>
          </a:xfrm>
        </p:grpSpPr>
        <p:sp>
          <p:nvSpPr>
            <p:cNvPr id="173" name=""/>
            <p:cNvSpPr/>
            <p:nvPr/>
          </p:nvSpPr>
          <p:spPr>
            <a:xfrm>
              <a:off x="2522520" y="70200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69600" y="708696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492280" y="679284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ocumento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ubr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03760" y="66470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61" idx="2"/>
            <a:endCxn id="175" idx="0"/>
          </p:cNvCxnSpPr>
          <p:nvPr/>
        </p:nvCxnSpPr>
        <p:spPr>
          <a:xfrm rot="5400000">
            <a:off x="3277080" y="6114240"/>
            <a:ext cx="198720" cy="1158840"/>
          </a:xfrm>
          <a:prstGeom prst="bentConnector5">
            <a:avLst>
              <a:gd name="adj1" fmla="val 114337"/>
              <a:gd name="adj2" fmla="val 50745"/>
              <a:gd name="adj3" fmla="val -16878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78" name=""/>
          <p:cNvSpPr/>
          <p:nvPr/>
        </p:nvSpPr>
        <p:spPr>
          <a:xfrm>
            <a:off x="2717640" y="7489800"/>
            <a:ext cx="152640" cy="14616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1" idx="2"/>
            <a:endCxn id="178" idx="0"/>
          </p:cNvCxnSpPr>
          <p:nvPr/>
        </p:nvCxnSpPr>
        <p:spPr>
          <a:xfrm>
            <a:off x="2784960" y="7410240"/>
            <a:ext cx="9360" cy="799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7" name=""/>
          <p:cNvSpPr/>
          <p:nvPr/>
        </p:nvSpPr>
        <p:spPr>
          <a:xfrm>
            <a:off x="2460600" y="590076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nví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memorandu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05040" y="5721480"/>
            <a:ext cx="0" cy="18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709560"/>
            <a:ext cx="6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63      1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1463040" y="2619360"/>
            <a:ext cx="662400" cy="252360"/>
            <a:chOff x="1463040" y="2619360"/>
            <a:chExt cx="662400" cy="252360"/>
          </a:xfrm>
        </p:grpSpPr>
        <p:sp>
          <p:nvSpPr>
            <p:cNvPr id="183" name=""/>
            <p:cNvSpPr/>
            <p:nvPr/>
          </p:nvSpPr>
          <p:spPr>
            <a:xfrm>
              <a:off x="1515960" y="26193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63040" y="2686320"/>
              <a:ext cx="615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443960" y="2486160"/>
            <a:ext cx="662400" cy="252000"/>
            <a:chOff x="1443960" y="2486160"/>
            <a:chExt cx="662400" cy="252000"/>
          </a:xfrm>
        </p:grpSpPr>
        <p:sp>
          <p:nvSpPr>
            <p:cNvPr id="186" name=""/>
            <p:cNvSpPr/>
            <p:nvPr/>
          </p:nvSpPr>
          <p:spPr>
            <a:xfrm>
              <a:off x="1496880" y="248616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43960" y="255276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922400" y="21351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14680" y="2016000"/>
            <a:ext cx="152280" cy="14616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89" idx="2"/>
            <a:endCxn id="191" idx="0"/>
          </p:cNvCxnSpPr>
          <p:nvPr/>
        </p:nvCxnSpPr>
        <p:spPr>
          <a:xfrm>
            <a:off x="1790280" y="2162160"/>
            <a:ext cx="3960" cy="1231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92" name=""/>
          <p:cNvGrpSpPr/>
          <p:nvPr/>
        </p:nvGrpSpPr>
        <p:grpSpPr>
          <a:xfrm>
            <a:off x="3606840" y="2666880"/>
            <a:ext cx="661680" cy="252360"/>
            <a:chOff x="3606840" y="2666880"/>
            <a:chExt cx="661680" cy="252360"/>
          </a:xfrm>
        </p:grpSpPr>
        <p:sp>
          <p:nvSpPr>
            <p:cNvPr id="193" name=""/>
            <p:cNvSpPr/>
            <p:nvPr/>
          </p:nvSpPr>
          <p:spPr>
            <a:xfrm>
              <a:off x="3659040" y="26668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06840" y="273384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593520" y="2546280"/>
            <a:ext cx="662400" cy="252360"/>
            <a:chOff x="3593520" y="2546280"/>
            <a:chExt cx="662400" cy="252360"/>
          </a:xfrm>
        </p:grpSpPr>
        <p:sp>
          <p:nvSpPr>
            <p:cNvPr id="196" name=""/>
            <p:cNvSpPr/>
            <p:nvPr/>
          </p:nvSpPr>
          <p:spPr>
            <a:xfrm>
              <a:off x="3646440" y="25462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93520" y="261324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567240" y="2319480"/>
            <a:ext cx="663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 de memo 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ocumen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firmad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65480" y="21826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84" idx="2"/>
            <a:endCxn id="198" idx="0"/>
          </p:cNvCxnSpPr>
          <p:nvPr/>
        </p:nvCxnSpPr>
        <p:spPr>
          <a:xfrm flipH="1" flipV="1" rot="5400000">
            <a:off x="2558520" y="1530720"/>
            <a:ext cx="551520" cy="2127960"/>
          </a:xfrm>
          <a:prstGeom prst="bentConnector5">
            <a:avLst>
              <a:gd name="adj1" fmla="val -41476"/>
              <a:gd name="adj2" fmla="val 18426"/>
              <a:gd name="adj3" fmla="val 141476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201" name=""/>
          <p:cNvGrpSpPr/>
          <p:nvPr/>
        </p:nvGrpSpPr>
        <p:grpSpPr>
          <a:xfrm>
            <a:off x="4743360" y="2936880"/>
            <a:ext cx="662040" cy="252360"/>
            <a:chOff x="4743360" y="2936880"/>
            <a:chExt cx="662040" cy="252360"/>
          </a:xfrm>
        </p:grpSpPr>
        <p:sp>
          <p:nvSpPr>
            <p:cNvPr id="202" name=""/>
            <p:cNvSpPr/>
            <p:nvPr/>
          </p:nvSpPr>
          <p:spPr>
            <a:xfrm>
              <a:off x="4795920" y="29368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43360" y="3003840"/>
              <a:ext cx="560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723920" y="2803680"/>
            <a:ext cx="662400" cy="252000"/>
            <a:chOff x="4723920" y="2803680"/>
            <a:chExt cx="662400" cy="252000"/>
          </a:xfrm>
        </p:grpSpPr>
        <p:sp>
          <p:nvSpPr>
            <p:cNvPr id="205" name=""/>
            <p:cNvSpPr/>
            <p:nvPr/>
          </p:nvSpPr>
          <p:spPr>
            <a:xfrm>
              <a:off x="4776840" y="280368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23920" y="287028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4703760" y="258912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 memo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nvío de document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02360" y="248436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193" idx="2"/>
            <a:endCxn id="210" idx="0"/>
          </p:cNvCxnSpPr>
          <p:nvPr/>
        </p:nvCxnSpPr>
        <p:spPr>
          <a:xfrm flipH="1" rot="16200000">
            <a:off x="3900960" y="2965680"/>
            <a:ext cx="134280" cy="8640"/>
          </a:xfrm>
          <a:prstGeom prst="bentConnector3">
            <a:avLst>
              <a:gd name="adj1" fmla="val 54569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91" name=""/>
          <p:cNvSpPr/>
          <p:nvPr/>
        </p:nvSpPr>
        <p:spPr>
          <a:xfrm>
            <a:off x="1488960" y="2284560"/>
            <a:ext cx="60984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 de memo 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ocumen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firmad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609360" y="3263760"/>
            <a:ext cx="662400" cy="252360"/>
            <a:chOff x="3609360" y="3263760"/>
            <a:chExt cx="662400" cy="252360"/>
          </a:xfrm>
        </p:grpSpPr>
        <p:sp>
          <p:nvSpPr>
            <p:cNvPr id="212" name=""/>
            <p:cNvSpPr/>
            <p:nvPr/>
          </p:nvSpPr>
          <p:spPr>
            <a:xfrm>
              <a:off x="3662280" y="32637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09360" y="333072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639960" y="3036960"/>
            <a:ext cx="66384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Envía y da inici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a la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 implant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 metodologí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2" idx="2"/>
            <a:endCxn id="207" idx="0"/>
          </p:cNvCxnSpPr>
          <p:nvPr/>
        </p:nvCxnSpPr>
        <p:spPr>
          <a:xfrm flipH="1" flipV="1" rot="5400000">
            <a:off x="4045680" y="2509920"/>
            <a:ext cx="911880" cy="1069200"/>
          </a:xfrm>
          <a:prstGeom prst="bentConnector5">
            <a:avLst>
              <a:gd name="adj1" fmla="val -12717"/>
              <a:gd name="adj2" fmla="val 48703"/>
              <a:gd name="adj3" fmla="val 125078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215" name=""/>
          <p:cNvGrpSpPr/>
          <p:nvPr/>
        </p:nvGrpSpPr>
        <p:grpSpPr>
          <a:xfrm>
            <a:off x="3676680" y="4295880"/>
            <a:ext cx="662040" cy="252000"/>
            <a:chOff x="3676680" y="4295880"/>
            <a:chExt cx="662040" cy="252000"/>
          </a:xfrm>
        </p:grpSpPr>
        <p:sp>
          <p:nvSpPr>
            <p:cNvPr id="216" name=""/>
            <p:cNvSpPr/>
            <p:nvPr/>
          </p:nvSpPr>
          <p:spPr>
            <a:xfrm>
              <a:off x="3729240" y="429588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6680" y="4362480"/>
              <a:ext cx="5936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657240" y="4162320"/>
            <a:ext cx="662400" cy="252360"/>
            <a:chOff x="3657240" y="4162320"/>
            <a:chExt cx="662400" cy="252360"/>
          </a:xfrm>
        </p:grpSpPr>
        <p:sp>
          <p:nvSpPr>
            <p:cNvPr id="219" name=""/>
            <p:cNvSpPr/>
            <p:nvPr/>
          </p:nvSpPr>
          <p:spPr>
            <a:xfrm>
              <a:off x="3710160" y="416232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57240" y="422928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637080" y="394812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 e Integ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f, envío doc.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n inf. voB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35680" y="381168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03" idx="2"/>
            <a:endCxn id="221" idx="0"/>
          </p:cNvCxnSpPr>
          <p:nvPr/>
        </p:nvCxnSpPr>
        <p:spPr>
          <a:xfrm rot="5400000">
            <a:off x="4115520" y="3039840"/>
            <a:ext cx="761040" cy="1056600"/>
          </a:xfrm>
          <a:prstGeom prst="bentConnector3">
            <a:avLst>
              <a:gd name="adj1" fmla="val 74917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224" name=""/>
          <p:cNvGrpSpPr/>
          <p:nvPr/>
        </p:nvGrpSpPr>
        <p:grpSpPr>
          <a:xfrm>
            <a:off x="2469960" y="4321080"/>
            <a:ext cx="662040" cy="252360"/>
            <a:chOff x="2469960" y="4321080"/>
            <a:chExt cx="662040" cy="252360"/>
          </a:xfrm>
        </p:grpSpPr>
        <p:sp>
          <p:nvSpPr>
            <p:cNvPr id="225" name=""/>
            <p:cNvSpPr/>
            <p:nvPr/>
          </p:nvSpPr>
          <p:spPr>
            <a:xfrm>
              <a:off x="2522520" y="43210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69960" y="4388040"/>
              <a:ext cx="5936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450520" y="4187880"/>
            <a:ext cx="662400" cy="252360"/>
            <a:chOff x="2450520" y="4187880"/>
            <a:chExt cx="662400" cy="252360"/>
          </a:xfrm>
        </p:grpSpPr>
        <p:sp>
          <p:nvSpPr>
            <p:cNvPr id="228" name=""/>
            <p:cNvSpPr/>
            <p:nvPr/>
          </p:nvSpPr>
          <p:spPr>
            <a:xfrm>
              <a:off x="2503440" y="41878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450520" y="425484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2430360" y="3973680"/>
            <a:ext cx="66384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 doc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ubrica voB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29320" y="383688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17" idx="2"/>
            <a:endCxn id="230" idx="0"/>
          </p:cNvCxnSpPr>
          <p:nvPr/>
        </p:nvCxnSpPr>
        <p:spPr>
          <a:xfrm flipV="1" rot="16200000">
            <a:off x="3080880" y="3653640"/>
            <a:ext cx="573480" cy="1212120"/>
          </a:xfrm>
          <a:prstGeom prst="bentConnector5">
            <a:avLst>
              <a:gd name="adj1" fmla="val -39886"/>
              <a:gd name="adj2" fmla="val 36957"/>
              <a:gd name="adj3" fmla="val 139886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33" name=""/>
          <p:cNvSpPr/>
          <p:nvPr/>
        </p:nvSpPr>
        <p:spPr>
          <a:xfrm>
            <a:off x="4091040" y="289404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485360" y="4289400"/>
            <a:ext cx="662400" cy="252360"/>
            <a:chOff x="1485360" y="4289400"/>
            <a:chExt cx="662400" cy="252360"/>
          </a:xfrm>
        </p:grpSpPr>
        <p:sp>
          <p:nvSpPr>
            <p:cNvPr id="235" name=""/>
            <p:cNvSpPr/>
            <p:nvPr/>
          </p:nvSpPr>
          <p:spPr>
            <a:xfrm>
              <a:off x="1538280" y="42894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485360" y="4356360"/>
              <a:ext cx="615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466280" y="4156200"/>
            <a:ext cx="662400" cy="252000"/>
            <a:chOff x="1466280" y="4156200"/>
            <a:chExt cx="662400" cy="252000"/>
          </a:xfrm>
        </p:grpSpPr>
        <p:sp>
          <p:nvSpPr>
            <p:cNvPr id="238" name=""/>
            <p:cNvSpPr/>
            <p:nvPr/>
          </p:nvSpPr>
          <p:spPr>
            <a:xfrm>
              <a:off x="1519200" y="415620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66280" y="422280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945080" y="380520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11280" y="395460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 doc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Firma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memorandu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25" idx="2"/>
            <a:endCxn id="241" idx="0"/>
          </p:cNvCxnSpPr>
          <p:nvPr/>
        </p:nvCxnSpPr>
        <p:spPr>
          <a:xfrm flipV="1" rot="16200000">
            <a:off x="2019600" y="3749760"/>
            <a:ext cx="603720" cy="1011960"/>
          </a:xfrm>
          <a:prstGeom prst="bentConnector5">
            <a:avLst>
              <a:gd name="adj1" fmla="val -20525"/>
              <a:gd name="adj2" fmla="val 49893"/>
              <a:gd name="adj3" fmla="val 137887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" name=""/>
          <p:cNvCxnSpPr>
            <a:stCxn id="235" idx="2"/>
            <a:endCxn id="244" idx="0"/>
          </p:cNvCxnSpPr>
          <p:nvPr/>
        </p:nvCxnSpPr>
        <p:spPr>
          <a:xfrm flipV="1" rot="16200000">
            <a:off x="1059120" y="3741480"/>
            <a:ext cx="477000" cy="1091520"/>
          </a:xfrm>
          <a:prstGeom prst="bentConnector5">
            <a:avLst>
              <a:gd name="adj1" fmla="val -50981"/>
              <a:gd name="adj2" fmla="val 38832"/>
              <a:gd name="adj3" fmla="val 147960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245" name=""/>
          <p:cNvGrpSpPr/>
          <p:nvPr/>
        </p:nvGrpSpPr>
        <p:grpSpPr>
          <a:xfrm>
            <a:off x="460440" y="4397400"/>
            <a:ext cx="661680" cy="252360"/>
            <a:chOff x="460440" y="4397400"/>
            <a:chExt cx="661680" cy="252360"/>
          </a:xfrm>
        </p:grpSpPr>
        <p:sp>
          <p:nvSpPr>
            <p:cNvPr id="246" name=""/>
            <p:cNvSpPr/>
            <p:nvPr/>
          </p:nvSpPr>
          <p:spPr>
            <a:xfrm>
              <a:off x="512640" y="43974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0440" y="446436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440640" y="4264200"/>
            <a:ext cx="662400" cy="252000"/>
            <a:chOff x="440640" y="4264200"/>
            <a:chExt cx="662400" cy="252000"/>
          </a:xfrm>
        </p:grpSpPr>
        <p:sp>
          <p:nvSpPr>
            <p:cNvPr id="249" name=""/>
            <p:cNvSpPr/>
            <p:nvPr/>
          </p:nvSpPr>
          <p:spPr>
            <a:xfrm>
              <a:off x="493560" y="426420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0640" y="433080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420840" y="404964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Recepción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emorándum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firmado y doc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9440" y="391320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378080" y="5367240"/>
            <a:ext cx="661680" cy="252360"/>
            <a:chOff x="1378080" y="5367240"/>
            <a:chExt cx="661680" cy="252360"/>
          </a:xfrm>
        </p:grpSpPr>
        <p:sp>
          <p:nvSpPr>
            <p:cNvPr id="253" name=""/>
            <p:cNvSpPr/>
            <p:nvPr/>
          </p:nvSpPr>
          <p:spPr>
            <a:xfrm>
              <a:off x="1430280" y="53672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78080" y="543420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377360" y="5261040"/>
            <a:ext cx="662400" cy="252360"/>
            <a:chOff x="1377360" y="5261040"/>
            <a:chExt cx="662400" cy="252360"/>
          </a:xfrm>
        </p:grpSpPr>
        <p:sp>
          <p:nvSpPr>
            <p:cNvPr id="256" name=""/>
            <p:cNvSpPr/>
            <p:nvPr/>
          </p:nvSpPr>
          <p:spPr>
            <a:xfrm>
              <a:off x="1430280" y="52610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77360" y="532800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357200" y="5046840"/>
            <a:ext cx="66384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Recib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emorándum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ocumento y turn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56160" y="491004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47" idx="2"/>
            <a:endCxn id="258" idx="0"/>
          </p:cNvCxnSpPr>
          <p:nvPr/>
        </p:nvCxnSpPr>
        <p:spPr>
          <a:xfrm flipH="1" rot="16200000">
            <a:off x="1018080" y="4376520"/>
            <a:ext cx="399240" cy="942120"/>
          </a:xfrm>
          <a:prstGeom prst="bentConnector3">
            <a:avLst>
              <a:gd name="adj1" fmla="val 49729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61" name=""/>
          <p:cNvSpPr/>
          <p:nvPr/>
        </p:nvSpPr>
        <p:spPr>
          <a:xfrm>
            <a:off x="5813280" y="6762600"/>
            <a:ext cx="66384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788080" y="6326280"/>
            <a:ext cx="661680" cy="252000"/>
            <a:chOff x="5788080" y="6326280"/>
            <a:chExt cx="661680" cy="252000"/>
          </a:xfrm>
        </p:grpSpPr>
        <p:sp>
          <p:nvSpPr>
            <p:cNvPr id="263" name=""/>
            <p:cNvSpPr/>
            <p:nvPr/>
          </p:nvSpPr>
          <p:spPr>
            <a:xfrm>
              <a:off x="5840280" y="632628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788080" y="639288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787360" y="6219720"/>
            <a:ext cx="662400" cy="252360"/>
            <a:chOff x="5787360" y="6219720"/>
            <a:chExt cx="662400" cy="252360"/>
          </a:xfrm>
        </p:grpSpPr>
        <p:sp>
          <p:nvSpPr>
            <p:cNvPr id="266" name=""/>
            <p:cNvSpPr/>
            <p:nvPr/>
          </p:nvSpPr>
          <p:spPr>
            <a:xfrm>
              <a:off x="5840280" y="621972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87360" y="628668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5767560" y="600552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Recibe mem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firmado y doc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e inc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a pág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 Web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266160" y="586908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54" idx="2"/>
            <a:endCxn id="268" idx="0"/>
          </p:cNvCxnSpPr>
          <p:nvPr/>
        </p:nvCxnSpPr>
        <p:spPr>
          <a:xfrm flipH="1" rot="16200000">
            <a:off x="3688560" y="3594600"/>
            <a:ext cx="388080" cy="4434480"/>
          </a:xfrm>
          <a:prstGeom prst="bentConnector3">
            <a:avLst>
              <a:gd name="adj1" fmla="val 49953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71" name=""/>
          <p:cNvCxnSpPr>
            <a:stCxn id="264" idx="2"/>
          </p:cNvCxnSpPr>
          <p:nvPr/>
        </p:nvCxnSpPr>
        <p:spPr>
          <a:xfrm>
            <a:off x="6075360" y="6576480"/>
            <a:ext cx="2160" cy="1882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72" name=""/>
          <p:cNvSpPr/>
          <p:nvPr/>
        </p:nvSpPr>
        <p:spPr>
          <a:xfrm>
            <a:off x="5822640" y="687240"/>
            <a:ext cx="54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64   1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SECRETARIA DE SALUD</cp:lastModifiedBy>
  <dcterms:modified xsi:type="dcterms:W3CDTF">2005-08-05T20:40:18Z</dcterms:modified>
  <cp:revision>60</cp:revision>
  <dc:subject/>
  <dc:title>Presentación de PowerPoint</dc:title>
</cp:coreProperties>
</file>