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1709640"/>
            <a:ext cx="6324480" cy="5856480"/>
            <a:chOff x="304920" y="1709640"/>
            <a:chExt cx="6324480" cy="5856480"/>
          </a:xfrm>
        </p:grpSpPr>
        <p:sp>
          <p:nvSpPr>
            <p:cNvPr id="1" name=""/>
            <p:cNvSpPr/>
            <p:nvPr/>
          </p:nvSpPr>
          <p:spPr>
            <a:xfrm>
              <a:off x="557676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2124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6860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308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0440" y="2298600"/>
              <a:ext cx="105264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98600"/>
              <a:ext cx="1055520" cy="52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7676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partamento de Análisis y Manejo de Inform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2124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dirección de Inteligenc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6860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de Análisis de Innovación en la Aten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1308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Adjunta de Diseño de Sistemas de Sal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60440" y="1709640"/>
              <a:ext cx="1052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irección General de Planeación y Desarrollo en Salu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709640"/>
              <a:ext cx="1055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Áreas de la DGPla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229860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4920" y="75661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492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04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1308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46860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2124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76760" y="1709640"/>
              <a:ext cx="0" cy="585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1709640"/>
              <a:ext cx="0" cy="5856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0440" y="1709640"/>
              <a:ext cx="21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920" y="1709640"/>
              <a:ext cx="105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468600" y="1709640"/>
              <a:ext cx="316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304920" y="228600"/>
            <a:ext cx="6324480" cy="914400"/>
            <a:chOff x="304920" y="228600"/>
            <a:chExt cx="6324480" cy="914400"/>
          </a:xfrm>
        </p:grpSpPr>
        <p:sp>
          <p:nvSpPr>
            <p:cNvPr id="26" name=""/>
            <p:cNvSpPr/>
            <p:nvPr/>
          </p:nvSpPr>
          <p:spPr>
            <a:xfrm>
              <a:off x="5638680" y="7160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Hoja:   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28840" y="716040"/>
              <a:ext cx="4209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mbre del Procedimiento: para identificar y poner al alcance de la DGPlaDes información estratégica en materia de salud y de innovación en los servicios de salu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638680" y="455760"/>
              <a:ext cx="990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v.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28840" y="455760"/>
              <a:ext cx="4209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ción de Análisis de innovaciones en los Servicios de Salu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38680" y="228600"/>
              <a:ext cx="990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ódigo: No apl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28840" y="228600"/>
              <a:ext cx="4209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MANUAL DE PROCEDIMIENT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4920" y="228600"/>
              <a:ext cx="112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4920" y="2286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4920" y="114300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0492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2884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638680" y="228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629400" y="2286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28840" y="45576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28840" y="716040"/>
              <a:ext cx="52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90720" cy="530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4920" y="7848720"/>
            <a:ext cx="6324480" cy="1095120"/>
            <a:chOff x="304920" y="7848720"/>
            <a:chExt cx="6324480" cy="1095120"/>
          </a:xfrm>
        </p:grpSpPr>
        <p:sp>
          <p:nvSpPr>
            <p:cNvPr id="43" name=""/>
            <p:cNvSpPr/>
            <p:nvPr/>
          </p:nvSpPr>
          <p:spPr>
            <a:xfrm>
              <a:off x="4800600" y="807696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Autoriz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5480" y="807696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evis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807696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Elaboró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807696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0600" y="873108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95480" y="873108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873108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873108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8518320"/>
              <a:ext cx="1828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8518320"/>
              <a:ext cx="1905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8518320"/>
              <a:ext cx="1981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8518320"/>
              <a:ext cx="6094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Firm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8289720"/>
              <a:ext cx="1828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8289720"/>
              <a:ext cx="1905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8289720"/>
              <a:ext cx="1981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8289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848720"/>
              <a:ext cx="6324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CONTROL DE EMIS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784872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82897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851832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873108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943840"/>
              <a:ext cx="6324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7848720"/>
              <a:ext cx="0" cy="109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8076960"/>
              <a:ext cx="632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44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8076960"/>
              <a:ext cx="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841640" y="5538960"/>
            <a:ext cx="636480" cy="245520"/>
            <a:chOff x="4841640" y="5538960"/>
            <a:chExt cx="636480" cy="245520"/>
          </a:xfrm>
        </p:grpSpPr>
        <p:sp>
          <p:nvSpPr>
            <p:cNvPr id="108" name=""/>
            <p:cNvSpPr/>
            <p:nvPr/>
          </p:nvSpPr>
          <p:spPr>
            <a:xfrm>
              <a:off x="4892040" y="5538960"/>
              <a:ext cx="58608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41640" y="55990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701600" y="3084480"/>
            <a:ext cx="654840" cy="252360"/>
            <a:chOff x="4701600" y="3084480"/>
            <a:chExt cx="654840" cy="252360"/>
          </a:xfrm>
        </p:grpSpPr>
        <p:sp>
          <p:nvSpPr>
            <p:cNvPr id="111" name=""/>
            <p:cNvSpPr/>
            <p:nvPr/>
          </p:nvSpPr>
          <p:spPr>
            <a:xfrm>
              <a:off x="4752720" y="3084480"/>
              <a:ext cx="5925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01600" y="315144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V="1" rot="16200000">
            <a:off x="5429880" y="3453480"/>
            <a:ext cx="294120" cy="1095840"/>
          </a:xfrm>
          <a:prstGeom prst="bentConnector5">
            <a:avLst>
              <a:gd name="adj1" fmla="val -78799"/>
              <a:gd name="adj2" fmla="val 49983"/>
              <a:gd name="adj3" fmla="val 178799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16" name=""/>
          <p:cNvGrpSpPr/>
          <p:nvPr/>
        </p:nvGrpSpPr>
        <p:grpSpPr>
          <a:xfrm>
            <a:off x="518760" y="2946240"/>
            <a:ext cx="662400" cy="252360"/>
            <a:chOff x="518760" y="2946240"/>
            <a:chExt cx="662400" cy="252360"/>
          </a:xfrm>
        </p:grpSpPr>
        <p:sp>
          <p:nvSpPr>
            <p:cNvPr id="117" name=""/>
            <p:cNvSpPr/>
            <p:nvPr/>
          </p:nvSpPr>
          <p:spPr>
            <a:xfrm>
              <a:off x="571680" y="2946240"/>
              <a:ext cx="60948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760" y="30132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400" y="1325520"/>
            <a:ext cx="203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 Diagrama del 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6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2394000"/>
            <a:ext cx="66348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673360"/>
            <a:ext cx="609480" cy="387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neces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stratég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6960" y="25272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2"/>
          </p:cNvCxnSpPr>
          <p:nvPr/>
        </p:nvCxnSpPr>
        <p:spPr>
          <a:xfrm flipH="1">
            <a:off x="837360" y="2546280"/>
            <a:ext cx="2880" cy="127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4724280" y="3854520"/>
            <a:ext cx="609840" cy="387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elección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nálisi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clas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d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3571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7" idx="2"/>
            <a:endCxn id="127" idx="0"/>
          </p:cNvCxnSpPr>
          <p:nvPr/>
        </p:nvCxnSpPr>
        <p:spPr>
          <a:xfrm flipH="1" flipV="1" rot="5400000">
            <a:off x="2197080" y="1373040"/>
            <a:ext cx="488880" cy="3130560"/>
          </a:xfrm>
          <a:prstGeom prst="bentConnector5">
            <a:avLst>
              <a:gd name="adj1" fmla="val -50478"/>
              <a:gd name="adj2" fmla="val 49994"/>
              <a:gd name="adj3" fmla="val 147383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702320" y="2798640"/>
            <a:ext cx="609480" cy="406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necesidades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54840" y="2592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98280" y="2995560"/>
            <a:ext cx="654840" cy="252360"/>
            <a:chOff x="3698280" y="2995560"/>
            <a:chExt cx="654840" cy="252360"/>
          </a:xfrm>
        </p:grpSpPr>
        <p:sp>
          <p:nvSpPr>
            <p:cNvPr id="131" name=""/>
            <p:cNvSpPr/>
            <p:nvPr/>
          </p:nvSpPr>
          <p:spPr>
            <a:xfrm>
              <a:off x="3749400" y="2995560"/>
              <a:ext cx="5925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8280" y="306252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701880" y="2693880"/>
            <a:ext cx="609840" cy="400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84560" y="25192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2"/>
            <a:endCxn id="128" idx="0"/>
          </p:cNvCxnSpPr>
          <p:nvPr/>
        </p:nvCxnSpPr>
        <p:spPr>
          <a:xfrm flipH="1" flipV="1" rot="5400000">
            <a:off x="4291560" y="2532600"/>
            <a:ext cx="449640" cy="982080"/>
          </a:xfrm>
          <a:prstGeom prst="bentConnector5">
            <a:avLst>
              <a:gd name="adj1" fmla="val -50480"/>
              <a:gd name="adj2" fmla="val 154602"/>
              <a:gd name="adj3" fmla="val 151602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5132520" y="43099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803120" y="5411880"/>
            <a:ext cx="654840" cy="245520"/>
            <a:chOff x="4803120" y="5411880"/>
            <a:chExt cx="654840" cy="245520"/>
          </a:xfrm>
        </p:grpSpPr>
        <p:sp>
          <p:nvSpPr>
            <p:cNvPr id="137" name=""/>
            <p:cNvSpPr/>
            <p:nvPr/>
          </p:nvSpPr>
          <p:spPr>
            <a:xfrm>
              <a:off x="4853880" y="5411880"/>
              <a:ext cx="58680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3120" y="547200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221440" y="370188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 flipV="1" rot="16200000">
            <a:off x="4068720" y="3803400"/>
            <a:ext cx="822600" cy="1105200"/>
          </a:xfrm>
          <a:prstGeom prst="bentConnector5">
            <a:avLst>
              <a:gd name="adj1" fmla="val -28152"/>
              <a:gd name="adj2" fmla="val 49918"/>
              <a:gd name="adj3" fmla="val 128196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4714920" y="4449600"/>
            <a:ext cx="635040" cy="317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esent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iscución deaná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isis prelimin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8160" y="5122800"/>
            <a:ext cx="60948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Vo.Bo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 elab. de doc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19760" y="3735360"/>
            <a:ext cx="609480" cy="412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esent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cus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15" idx="2"/>
            <a:endCxn id="141" idx="0"/>
          </p:cNvCxnSpPr>
          <p:nvPr/>
        </p:nvCxnSpPr>
        <p:spPr>
          <a:xfrm>
            <a:off x="5029200" y="4241880"/>
            <a:ext cx="3600" cy="208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45" name=""/>
          <p:cNvGrpSpPr/>
          <p:nvPr/>
        </p:nvGrpSpPr>
        <p:grpSpPr>
          <a:xfrm>
            <a:off x="5793840" y="3173400"/>
            <a:ext cx="654840" cy="252360"/>
            <a:chOff x="5793840" y="3173400"/>
            <a:chExt cx="654840" cy="252360"/>
          </a:xfrm>
        </p:grpSpPr>
        <p:sp>
          <p:nvSpPr>
            <p:cNvPr id="146" name=""/>
            <p:cNvSpPr/>
            <p:nvPr/>
          </p:nvSpPr>
          <p:spPr>
            <a:xfrm>
              <a:off x="5844960" y="3173400"/>
              <a:ext cx="592560" cy="250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3840" y="32403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788080" y="2874960"/>
            <a:ext cx="609480" cy="406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ecesidades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busque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rec.de da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12" idx="2"/>
            <a:endCxn id="148" idx="0"/>
          </p:cNvCxnSpPr>
          <p:nvPr/>
        </p:nvCxnSpPr>
        <p:spPr>
          <a:xfrm flipH="1" flipV="1" rot="5400000">
            <a:off x="5329800" y="2573640"/>
            <a:ext cx="462240" cy="1064520"/>
          </a:xfrm>
          <a:prstGeom prst="bentConnector5">
            <a:avLst>
              <a:gd name="adj1" fmla="val -49103"/>
              <a:gd name="adj2" fmla="val 150372"/>
              <a:gd name="adj3" fmla="val 150194"/>
            </a:avLst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0" name=""/>
          <p:cNvCxnSpPr>
            <a:stCxn id="147" idx="2"/>
            <a:endCxn id="114" idx="0"/>
          </p:cNvCxnSpPr>
          <p:nvPr/>
        </p:nvCxnSpPr>
        <p:spPr>
          <a:xfrm>
            <a:off x="6121080" y="3425760"/>
            <a:ext cx="3960" cy="309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6186600" y="26971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3" idx="2"/>
            <a:endCxn id="143" idx="0"/>
          </p:cNvCxnSpPr>
          <p:nvPr/>
        </p:nvCxnSpPr>
        <p:spPr>
          <a:xfrm flipH="1" flipV="1" rot="5400000">
            <a:off x="4389120" y="4622760"/>
            <a:ext cx="133920" cy="1134000"/>
          </a:xfrm>
          <a:prstGeom prst="bentConnector5">
            <a:avLst>
              <a:gd name="adj1" fmla="val -173315"/>
              <a:gd name="adj2" fmla="val 51889"/>
              <a:gd name="adj3" fmla="val 273584"/>
            </a:avLst>
          </a:prstGeom>
          <a:ln w="0">
            <a:solidFill>
              <a:srgbClr val="000000"/>
            </a:solidFill>
            <a:tailEnd len="sm" type="triangle" w="sm"/>
          </a:ln>
        </p:spPr>
      </p:cxnSp>
      <p:sp>
        <p:nvSpPr>
          <p:cNvPr id="154" name=""/>
          <p:cNvSpPr/>
          <p:nvPr/>
        </p:nvSpPr>
        <p:spPr>
          <a:xfrm>
            <a:off x="5083200" y="496080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1880" y="4378320"/>
            <a:ext cx="443160" cy="441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2" idx="2"/>
            <a:endCxn id="155" idx="0"/>
          </p:cNvCxnSpPr>
          <p:nvPr/>
        </p:nvCxnSpPr>
        <p:spPr>
          <a:xfrm flipH="1">
            <a:off x="3923640" y="4195800"/>
            <a:ext cx="4320" cy="182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7" name=""/>
          <p:cNvSpPr/>
          <p:nvPr/>
        </p:nvSpPr>
        <p:spPr>
          <a:xfrm>
            <a:off x="3665880" y="450540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roce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1080" y="4543560"/>
            <a:ext cx="1144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6200" y="4403880"/>
            <a:ext cx="27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/>
          <p:nvPr/>
        </p:nvCxnSpPr>
        <p:spPr>
          <a:xfrm flipH="1">
            <a:off x="3903120" y="4809960"/>
            <a:ext cx="5400" cy="137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3551040" y="473400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1680" y="4944960"/>
            <a:ext cx="695520" cy="311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rdena realizar 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flipV="1">
            <a:off x="4134960" y="4601880"/>
            <a:ext cx="1580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2" name=""/>
          <p:cNvSpPr/>
          <p:nvPr/>
        </p:nvSpPr>
        <p:spPr>
          <a:xfrm>
            <a:off x="3608280" y="3944880"/>
            <a:ext cx="638280" cy="250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92760" y="378936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74960" y="6122880"/>
            <a:ext cx="636480" cy="245520"/>
            <a:chOff x="3774960" y="6122880"/>
            <a:chExt cx="636480" cy="245520"/>
          </a:xfrm>
        </p:grpSpPr>
        <p:sp>
          <p:nvSpPr>
            <p:cNvPr id="165" name=""/>
            <p:cNvSpPr/>
            <p:nvPr/>
          </p:nvSpPr>
          <p:spPr>
            <a:xfrm>
              <a:off x="3825360" y="6122880"/>
              <a:ext cx="58608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74960" y="618300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736440" y="5996160"/>
            <a:ext cx="654840" cy="245520"/>
            <a:chOff x="3736440" y="5996160"/>
            <a:chExt cx="654840" cy="245520"/>
          </a:xfrm>
        </p:grpSpPr>
        <p:sp>
          <p:nvSpPr>
            <p:cNvPr id="168" name=""/>
            <p:cNvSpPr/>
            <p:nvPr/>
          </p:nvSpPr>
          <p:spPr>
            <a:xfrm>
              <a:off x="3787200" y="5996160"/>
              <a:ext cx="58680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6440" y="605628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51120" y="5707080"/>
            <a:ext cx="6098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ia para 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16520" y="5545080"/>
            <a:ext cx="32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09" idx="2"/>
            <a:endCxn id="170" idx="0"/>
          </p:cNvCxnSpPr>
          <p:nvPr/>
        </p:nvCxnSpPr>
        <p:spPr>
          <a:xfrm flipV="1" rot="16200000">
            <a:off x="4503240" y="5159520"/>
            <a:ext cx="77760" cy="1172160"/>
          </a:xfrm>
          <a:prstGeom prst="bentConnector5">
            <a:avLst>
              <a:gd name="adj1" fmla="val -293023"/>
              <a:gd name="adj2" fmla="val 48970"/>
              <a:gd name="adj3" fmla="val 39906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3" name=""/>
          <p:cNvGrpSpPr/>
          <p:nvPr/>
        </p:nvGrpSpPr>
        <p:grpSpPr>
          <a:xfrm>
            <a:off x="2676240" y="6383160"/>
            <a:ext cx="636480" cy="245520"/>
            <a:chOff x="2676240" y="6383160"/>
            <a:chExt cx="636480" cy="245520"/>
          </a:xfrm>
        </p:grpSpPr>
        <p:sp>
          <p:nvSpPr>
            <p:cNvPr id="174" name=""/>
            <p:cNvSpPr/>
            <p:nvPr/>
          </p:nvSpPr>
          <p:spPr>
            <a:xfrm>
              <a:off x="2726640" y="6383160"/>
              <a:ext cx="586080" cy="226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76240" y="64432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38080" y="6256440"/>
            <a:ext cx="654840" cy="245520"/>
            <a:chOff x="2638080" y="6256440"/>
            <a:chExt cx="654840" cy="245520"/>
          </a:xfrm>
        </p:grpSpPr>
        <p:sp>
          <p:nvSpPr>
            <p:cNvPr id="177" name=""/>
            <p:cNvSpPr/>
            <p:nvPr/>
          </p:nvSpPr>
          <p:spPr>
            <a:xfrm>
              <a:off x="2688840" y="6256440"/>
              <a:ext cx="58644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8080" y="63165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552760" y="5967360"/>
            <a:ext cx="60948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. y env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para autoriz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36880" y="58309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96960" y="6491160"/>
            <a:ext cx="636120" cy="245520"/>
            <a:chOff x="1596960" y="6491160"/>
            <a:chExt cx="636120" cy="245520"/>
          </a:xfrm>
        </p:grpSpPr>
        <p:sp>
          <p:nvSpPr>
            <p:cNvPr id="182" name=""/>
            <p:cNvSpPr/>
            <p:nvPr/>
          </p:nvSpPr>
          <p:spPr>
            <a:xfrm>
              <a:off x="1647360" y="6491160"/>
              <a:ext cx="58572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96960" y="6551280"/>
              <a:ext cx="57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558440" y="6377040"/>
            <a:ext cx="654840" cy="245520"/>
            <a:chOff x="1558440" y="6377040"/>
            <a:chExt cx="654840" cy="245520"/>
          </a:xfrm>
        </p:grpSpPr>
        <p:sp>
          <p:nvSpPr>
            <p:cNvPr id="185" name=""/>
            <p:cNvSpPr/>
            <p:nvPr/>
          </p:nvSpPr>
          <p:spPr>
            <a:xfrm>
              <a:off x="1609200" y="6377040"/>
              <a:ext cx="586800" cy="2257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58440" y="6437160"/>
              <a:ext cx="65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Memorándu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473120" y="6107040"/>
            <a:ext cx="6098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.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ia para fi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38160" y="594504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6678720"/>
            <a:ext cx="60948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0400" y="65167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/>
          <p:nvPr/>
        </p:nvCxnSpPr>
        <p:spPr>
          <a:xfrm>
            <a:off x="793440" y="7051680"/>
            <a:ext cx="1080" cy="240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2" name=""/>
          <p:cNvSpPr/>
          <p:nvPr/>
        </p:nvSpPr>
        <p:spPr>
          <a:xfrm>
            <a:off x="466560" y="7296120"/>
            <a:ext cx="663840" cy="1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3" idx="2"/>
            <a:endCxn id="189" idx="0"/>
          </p:cNvCxnSpPr>
          <p:nvPr/>
        </p:nvCxnSpPr>
        <p:spPr>
          <a:xfrm flipV="1" rot="16200000">
            <a:off x="1312920" y="6166080"/>
            <a:ext cx="58320" cy="1083240"/>
          </a:xfrm>
          <a:prstGeom prst="bentConnector5">
            <a:avLst>
              <a:gd name="adj1" fmla="val -391304"/>
              <a:gd name="adj2" fmla="val 48936"/>
              <a:gd name="adj3" fmla="val 49937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4" name=""/>
          <p:cNvCxnSpPr>
            <a:stCxn id="175" idx="2"/>
            <a:endCxn id="187" idx="0"/>
          </p:cNvCxnSpPr>
          <p:nvPr/>
        </p:nvCxnSpPr>
        <p:spPr>
          <a:xfrm flipV="1" rot="16200000">
            <a:off x="2109600" y="5775480"/>
            <a:ext cx="522000" cy="1184760"/>
          </a:xfrm>
          <a:prstGeom prst="bentConnector5">
            <a:avLst>
              <a:gd name="adj1" fmla="val -43478"/>
              <a:gd name="adj2" fmla="val 48996"/>
              <a:gd name="adj3" fmla="val 144444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5" name=""/>
          <p:cNvCxnSpPr>
            <a:stCxn id="166" idx="2"/>
            <a:endCxn id="179" idx="0"/>
          </p:cNvCxnSpPr>
          <p:nvPr/>
        </p:nvCxnSpPr>
        <p:spPr>
          <a:xfrm flipV="1" rot="16200000">
            <a:off x="3258720" y="5565960"/>
            <a:ext cx="401400" cy="1203840"/>
          </a:xfrm>
          <a:prstGeom prst="bentConnector5">
            <a:avLst>
              <a:gd name="adj1" fmla="val -56552"/>
              <a:gd name="adj2" fmla="val 49027"/>
              <a:gd name="adj3" fmla="val 157719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6" name=""/>
          <p:cNvSpPr/>
          <p:nvPr/>
        </p:nvSpPr>
        <p:spPr>
          <a:xfrm>
            <a:off x="5923440" y="712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3320" y="712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00800" y="8331120"/>
            <a:ext cx="154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ic. Leticia Vázquez Gutiérr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81160" y="8331120"/>
            <a:ext cx="136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g. Sandra Gómez Fra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2720" y="8331120"/>
            <a:ext cx="172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ra. Carmen Rodríguez Dehaib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1628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21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81960" y="8728200"/>
            <a:ext cx="11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 de agosto de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8:20Z</dcterms:created>
  <dc:creator>SECRETARIA DE SALUD</dc:creator>
  <dc:description/>
  <dc:language>en-US</dc:language>
  <cp:lastModifiedBy>SECRETARIA DE SALUD</cp:lastModifiedBy>
  <dcterms:modified xsi:type="dcterms:W3CDTF">2005-08-05T16:57:21Z</dcterms:modified>
  <cp:revision>4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4483791</vt:r8>
  </property>
  <property fmtid="{D5CDD505-2E9C-101B-9397-08002B2CF9AE}" pid="3" name="_AuthorEmail">
    <vt:lpwstr>VIRGINIAB@DGPEC-S01.SSA.com</vt:lpwstr>
  </property>
  <property fmtid="{D5CDD505-2E9C-101B-9397-08002B2CF9AE}" pid="4" name="_AuthorEmailDisplayName">
    <vt:lpwstr>VIRGINIA BARRAGAN PEREZ</vt:lpwstr>
  </property>
  <property fmtid="{D5CDD505-2E9C-101B-9397-08002B2CF9AE}" pid="5" name="_EmailSubject">
    <vt:lpwstr>Procedimientos DAISS</vt:lpwstr>
  </property>
</Properties>
</file>