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E4F-C022-4DB8-8587-5FB8CC24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4C5-E64B-43B2-BE13-2DCE798B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31FF-BF03-40E7-80C2-A3207202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EA91-A1E6-4D78-AFF5-C9FF6D66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1A1-D3B1-401F-8DAB-062129BF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7F6-2152-461C-B998-1135D915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EA9-E306-4003-8C11-9738A199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B27-2B51-4274-87DA-41AA49BE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FC6-3DD1-4CD3-A6D9-E32358B5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650-DD9C-42B7-ADA0-D51994D8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2C4-D54A-493B-9D56-F67E1CDF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BF2-B8B9-47D2-8157-C2BD63CB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A734-DFBD-4260-B48C-9D527BAB3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85000" cy="9180360"/>
            <a:chOff x="0" y="0"/>
            <a:chExt cx="6885000" cy="9180360"/>
          </a:xfrm>
        </p:grpSpPr>
        <p:sp>
          <p:nvSpPr>
            <p:cNvPr id="42" name=""/>
            <p:cNvSpPr/>
            <p:nvPr/>
          </p:nvSpPr>
          <p:spPr>
            <a:xfrm>
              <a:off x="6480" y="4680"/>
              <a:ext cx="6873840" cy="46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80" y="468360"/>
              <a:ext cx="381924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24280" y="758880"/>
              <a:ext cx="3056040" cy="65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80" y="822240"/>
              <a:ext cx="6873840" cy="2230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480" y="3051000"/>
              <a:ext cx="6110280" cy="23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114960" y="3051000"/>
              <a:ext cx="765360" cy="23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480" y="3282840"/>
              <a:ext cx="6110280" cy="627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14960" y="3282840"/>
              <a:ext cx="765360" cy="627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480" y="3908520"/>
              <a:ext cx="6110280" cy="274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14960" y="3908520"/>
              <a:ext cx="765360" cy="27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80" y="4181400"/>
              <a:ext cx="6873840" cy="900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80" y="5079960"/>
              <a:ext cx="3819240" cy="65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24280" y="5079960"/>
              <a:ext cx="3056040" cy="651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80" y="5143680"/>
              <a:ext cx="6873840" cy="4033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2840" y="835200"/>
              <a:ext cx="175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.- IDENTIFICACION DEL PACI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8080" y="1062000"/>
              <a:ext cx="134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mbre del pacient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93040" y="1488960"/>
              <a:ext cx="50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Fem     Mas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280" y="1606680"/>
              <a:ext cx="52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da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35240" y="160668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x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6280" y="1879560"/>
              <a:ext cx="1305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úmero de afiliació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24160" y="1879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95920" y="1879560"/>
              <a:ext cx="419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UR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7600" y="2085840"/>
              <a:ext cx="4074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.- ESTABLECIMIENTO MEDICO DE LA RED ESTATAL QUE REFIERE AL PACI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1520" y="2584440"/>
              <a:ext cx="96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ave REN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4640" y="3063960"/>
              <a:ext cx="172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.- CONFIRMACION DIAGNOSTICA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05960" y="3289320"/>
              <a:ext cx="345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__________________________________________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05960" y="3562200"/>
              <a:ext cx="345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__________________________________________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08480" y="3778200"/>
              <a:ext cx="58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05960" y="3778200"/>
              <a:ext cx="345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__________________________________________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8520" y="3914640"/>
              <a:ext cx="162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ipo de atención requeri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69040" y="3930480"/>
              <a:ext cx="512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XCLUSIV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02000" y="4051440"/>
              <a:ext cx="40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rgen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14560" y="4051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39480" y="4051440"/>
              <a:ext cx="1289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 un tiempo máximo 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5480" y="4051440"/>
              <a:ext cx="19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___________________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6200" y="4067280"/>
              <a:ext cx="23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PS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00920" y="4267080"/>
              <a:ext cx="40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lecti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06640" y="4267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560" y="4267080"/>
              <a:ext cx="1289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 un tiempo máximo 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17560" y="4267080"/>
              <a:ext cx="19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___________________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1560" y="4540320"/>
              <a:ext cx="603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l médico especialista adscrito al Centro Regional de Alta Especialidad CERTIFICA que la presente Declaratori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7560" y="4676760"/>
              <a:ext cx="2961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rresponde a un Caso Nuevo de Gasto Catastrófic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9360" y="4676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28040" y="481320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94840" y="4813200"/>
              <a:ext cx="42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8800" y="5235480"/>
              <a:ext cx="141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.- VIGENCIA DE DERECH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7360" y="5460840"/>
              <a:ext cx="1396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igencia de derechos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5400" y="5740560"/>
              <a:ext cx="2904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.- CENTRO REGIONAL AL QUE SE REFIERE EL PACI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04560" y="6207120"/>
              <a:ext cx="64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75560" y="6362640"/>
              <a:ext cx="313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úmer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07680" y="6480000"/>
              <a:ext cx="64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71000" y="648000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42760" y="6635880"/>
              <a:ext cx="12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P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51920" y="663588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í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1520" y="6816600"/>
              <a:ext cx="96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ave REN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0840" y="7094520"/>
              <a:ext cx="2152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.- CITA O INTERNAMIENTO DEL PACI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1280" y="7289640"/>
              <a:ext cx="6265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mbre del servicio: __________________________________________________________________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2800" y="748980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ech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61280" y="7489800"/>
              <a:ext cx="50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o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20160" y="748836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05720" y="74851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6880" y="7645320"/>
              <a:ext cx="187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ía              mes             añ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3360" y="8031240"/>
              <a:ext cx="215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7.- RESPONSABLES DE LA CERTIFICAC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00160" y="8499600"/>
              <a:ext cx="1344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_________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90800" y="8655120"/>
              <a:ext cx="1149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ombre y Cédula Profesion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24640" y="8983800"/>
              <a:ext cx="179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riginal: Centro Region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3200" y="7826400"/>
              <a:ext cx="174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ugar y fecha de elaboració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4880" y="7826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44880" y="7826400"/>
              <a:ext cx="4481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__________________________________________________________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47560" y="6635880"/>
              <a:ext cx="390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éfon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30040" y="6480000"/>
              <a:ext cx="108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_____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26000" y="6985080"/>
              <a:ext cx="3282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EDO               JUR                       MPO                                   LOC                             VER       INST      T                 COM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3360" y="8226360"/>
              <a:ext cx="79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cción Clínic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97480" y="8226360"/>
              <a:ext cx="831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entro Reg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9880" y="8655120"/>
              <a:ext cx="1174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ombre y Cédula Profesional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3720" y="8791560"/>
              <a:ext cx="74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l Médico tratan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00560" y="8655120"/>
              <a:ext cx="1174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ombre y Cédula Profesional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28720" y="8791560"/>
              <a:ext cx="921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l Médico Especialist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23080" y="8791560"/>
              <a:ext cx="713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l Gestor Médic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0960" y="6480000"/>
              <a:ext cx="185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_________________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78520" y="6480000"/>
              <a:ext cx="1216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_______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4320" y="6635880"/>
              <a:ext cx="910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legación o Municip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82640" y="6635880"/>
              <a:ext cx="73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ntidad Federativ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3680" y="8499600"/>
              <a:ext cx="128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________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84360" y="8499600"/>
              <a:ext cx="128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________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8320" y="8226360"/>
              <a:ext cx="1164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cción Administrati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8400" y="1333440"/>
              <a:ext cx="832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pellido pater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65760" y="1333440"/>
              <a:ext cx="863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pellido mater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89280" y="1333440"/>
              <a:ext cx="573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mbre (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78400" y="1488960"/>
              <a:ext cx="1221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años    meses     di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8800" y="1197000"/>
              <a:ext cx="20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____________________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61400" y="1197000"/>
              <a:ext cx="192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__________________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43160" y="1197000"/>
              <a:ext cx="172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_______________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440" y="339840"/>
              <a:ext cx="55800" cy="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11480" y="82440"/>
              <a:ext cx="2535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MISION NACIONAL DE PROTECCION SOCIAL EN SALU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219240"/>
              <a:ext cx="2387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INEAMIENTOS PARA LA OPERACIÓN DEL FPGC y FPP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33200" y="355680"/>
              <a:ext cx="1136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ECLARATORIA DE CAS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FRP-AP-25.01 S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42800" y="797040"/>
              <a:ext cx="907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CION CLINI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82880" y="658800"/>
              <a:ext cx="129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                        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F            CR      NUMER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84680" y="500040"/>
              <a:ext cx="942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NPSS / D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1800" y="6207120"/>
              <a:ext cx="80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rección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16640" y="6207120"/>
              <a:ext cx="2721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_________________________________________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82320" y="6207120"/>
              <a:ext cx="185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_________________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81560" y="5343480"/>
              <a:ext cx="460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I      NO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52760" y="5460840"/>
              <a:ext cx="176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isten adeudos pendientes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9200" y="2311560"/>
              <a:ext cx="6424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mbre ______________________________________________________________________________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4880" y="2857680"/>
              <a:ext cx="6363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rvicio   ____________________________________________________________________________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4360" y="3287880"/>
              <a:ext cx="200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agnóstico de Gasto Catastrófic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54600" y="3287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5760" y="3560760"/>
              <a:ext cx="89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agnóstic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86760" y="35607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27800" y="3560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90080" y="35607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6920" y="3560760"/>
              <a:ext cx="59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cundari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85600" y="35607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26280" y="3560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93960" y="356076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62080" y="3560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28320" y="35607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75160" y="2921040"/>
              <a:ext cx="55800" cy="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23720" y="63626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l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27080" y="2752560"/>
              <a:ext cx="32958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EDO               JUR                       MPO                                   LOC                             VER       INST      T                 COM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12040" y="636264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loni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20680" y="5089680"/>
              <a:ext cx="1367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CION ADMINISTRATIV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52040" y="5605560"/>
              <a:ext cx="143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ía              mes             añ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5600" y="5934240"/>
              <a:ext cx="632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mbre _______________________________________________________________________________________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38720" y="3778200"/>
              <a:ext cx="55800" cy="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39320" y="3100320"/>
              <a:ext cx="19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I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7800" y="754200"/>
              <a:ext cx="180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17800" y="754200"/>
              <a:ext cx="12960" cy="7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0"/>
              <a:ext cx="1440" cy="918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0"/>
              <a:ext cx="11160" cy="918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73840" y="11160"/>
              <a:ext cx="1800" cy="916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73840" y="11160"/>
              <a:ext cx="11160" cy="916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17800" y="5075280"/>
              <a:ext cx="180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17800" y="5075280"/>
              <a:ext cx="12960" cy="7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160" y="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160" y="0"/>
              <a:ext cx="68738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30760" y="754200"/>
              <a:ext cx="305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30760" y="754200"/>
              <a:ext cx="305424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160" y="817560"/>
              <a:ext cx="381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160" y="817560"/>
              <a:ext cx="3819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30760" y="5075280"/>
              <a:ext cx="305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30760" y="5075280"/>
              <a:ext cx="3054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160" y="5138640"/>
              <a:ext cx="381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160" y="5138640"/>
              <a:ext cx="381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160" y="916956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160" y="9169560"/>
              <a:ext cx="687384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751200" y="1601640"/>
              <a:ext cx="344520" cy="128880"/>
              <a:chOff x="3751200" y="1601640"/>
              <a:chExt cx="344520" cy="128880"/>
            </a:xfrm>
          </p:grpSpPr>
          <p:sp>
            <p:nvSpPr>
              <p:cNvPr id="191" name=""/>
              <p:cNvSpPr/>
              <p:nvPr/>
            </p:nvSpPr>
            <p:spPr>
              <a:xfrm>
                <a:off x="3751200" y="1601640"/>
                <a:ext cx="344520" cy="12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751200" y="1601640"/>
                <a:ext cx="344520" cy="12888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3925440" y="16095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4141800" y="1601640"/>
              <a:ext cx="344520" cy="128880"/>
              <a:chOff x="4141800" y="1601640"/>
              <a:chExt cx="344520" cy="128880"/>
            </a:xfrm>
          </p:grpSpPr>
          <p:sp>
            <p:nvSpPr>
              <p:cNvPr id="195" name=""/>
              <p:cNvSpPr/>
              <p:nvPr/>
            </p:nvSpPr>
            <p:spPr>
              <a:xfrm>
                <a:off x="4141800" y="1601640"/>
                <a:ext cx="344520" cy="12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41800" y="1601640"/>
                <a:ext cx="344520" cy="12888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4316040" y="16095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1955880" y="1593720"/>
              <a:ext cx="344520" cy="128880"/>
              <a:chOff x="1955880" y="1593720"/>
              <a:chExt cx="344520" cy="128880"/>
            </a:xfrm>
          </p:grpSpPr>
          <p:sp>
            <p:nvSpPr>
              <p:cNvPr id="199" name=""/>
              <p:cNvSpPr/>
              <p:nvPr/>
            </p:nvSpPr>
            <p:spPr>
              <a:xfrm>
                <a:off x="1955880" y="1593720"/>
                <a:ext cx="344520" cy="12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955880" y="1593720"/>
                <a:ext cx="344520" cy="12888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131560" y="1601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154160" y="1593720"/>
              <a:ext cx="342720" cy="128880"/>
              <a:chOff x="1154160" y="1593720"/>
              <a:chExt cx="342720" cy="128880"/>
            </a:xfrm>
          </p:grpSpPr>
          <p:sp>
            <p:nvSpPr>
              <p:cNvPr id="203" name=""/>
              <p:cNvSpPr/>
              <p:nvPr/>
            </p:nvSpPr>
            <p:spPr>
              <a:xfrm>
                <a:off x="1154160" y="1593720"/>
                <a:ext cx="342720" cy="12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54160" y="1593720"/>
                <a:ext cx="342720" cy="12888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1328400" y="1601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1241280" y="4262400"/>
              <a:ext cx="238320" cy="120600"/>
              <a:chOff x="1241280" y="4262400"/>
              <a:chExt cx="238320" cy="120600"/>
            </a:xfrm>
          </p:grpSpPr>
          <p:sp>
            <p:nvSpPr>
              <p:cNvPr id="207" name=""/>
              <p:cNvSpPr/>
              <p:nvPr/>
            </p:nvSpPr>
            <p:spPr>
              <a:xfrm>
                <a:off x="1241280" y="4262400"/>
                <a:ext cx="23832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41280" y="4262400"/>
                <a:ext cx="238320" cy="12060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1363320" y="42703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432480" y="5448240"/>
              <a:ext cx="220680" cy="160560"/>
              <a:chOff x="6432480" y="5448240"/>
              <a:chExt cx="220680" cy="160560"/>
            </a:xfrm>
          </p:grpSpPr>
          <p:sp>
            <p:nvSpPr>
              <p:cNvPr id="211" name=""/>
              <p:cNvSpPr/>
              <p:nvPr/>
            </p:nvSpPr>
            <p:spPr>
              <a:xfrm>
                <a:off x="6432480" y="5448240"/>
                <a:ext cx="220680" cy="16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432480" y="5448240"/>
                <a:ext cx="220680" cy="16056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6546600" y="54561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98400" y="1636560"/>
              <a:ext cx="371520" cy="87480"/>
              <a:chOff x="698400" y="1636560"/>
              <a:chExt cx="371520" cy="87480"/>
            </a:xfrm>
          </p:grpSpPr>
          <p:sp>
            <p:nvSpPr>
              <p:cNvPr id="215" name=""/>
              <p:cNvSpPr/>
              <p:nvPr/>
            </p:nvSpPr>
            <p:spPr>
              <a:xfrm>
                <a:off x="698400" y="1636560"/>
                <a:ext cx="1800" cy="860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00200" y="1722600"/>
                <a:ext cx="18396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84160" y="1636560"/>
                <a:ext cx="1800" cy="860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4160" y="1722600"/>
                <a:ext cx="18432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068480" y="1636560"/>
                <a:ext cx="1440" cy="860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98400" y="1636560"/>
                <a:ext cx="1800" cy="860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00200" y="1722600"/>
                <a:ext cx="18396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84160" y="1636560"/>
                <a:ext cx="1800" cy="860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4160" y="1722600"/>
                <a:ext cx="18432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68480" y="1636560"/>
                <a:ext cx="1440" cy="860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755720" y="5511960"/>
              <a:ext cx="1800" cy="727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57520" y="5584680"/>
              <a:ext cx="2617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19240" y="5511960"/>
              <a:ext cx="1800" cy="727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19240" y="5584680"/>
              <a:ext cx="2602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79520" y="5511960"/>
              <a:ext cx="1800" cy="727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28840" y="5511960"/>
              <a:ext cx="1440" cy="727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28840" y="5584680"/>
              <a:ext cx="24300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71840" y="5511960"/>
              <a:ext cx="1440" cy="727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71840" y="5584680"/>
              <a:ext cx="2426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14480" y="5511960"/>
              <a:ext cx="1800" cy="727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62360" y="5511960"/>
              <a:ext cx="1440" cy="727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63800" y="5584680"/>
              <a:ext cx="2620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25880" y="5511960"/>
              <a:ext cx="1440" cy="727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25880" y="5584680"/>
              <a:ext cx="2617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87600" y="5511960"/>
              <a:ext cx="1800" cy="727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6146640" y="5448240"/>
              <a:ext cx="219240" cy="160560"/>
              <a:chOff x="6146640" y="5448240"/>
              <a:chExt cx="219240" cy="160560"/>
            </a:xfrm>
          </p:grpSpPr>
          <p:sp>
            <p:nvSpPr>
              <p:cNvPr id="241" name=""/>
              <p:cNvSpPr/>
              <p:nvPr/>
            </p:nvSpPr>
            <p:spPr>
              <a:xfrm>
                <a:off x="6146640" y="5448240"/>
                <a:ext cx="219240" cy="16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146640" y="5448240"/>
                <a:ext cx="219240" cy="16056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6258960" y="54561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3320" y="753264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5120" y="7605720"/>
              <a:ext cx="2617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96840" y="753264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96840" y="7605720"/>
              <a:ext cx="2620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58920" y="753264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68960" y="7540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70400" y="7613640"/>
              <a:ext cx="2602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30680" y="754056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30680" y="7613640"/>
              <a:ext cx="2635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94200" y="754056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35680" y="7540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37120" y="7613640"/>
              <a:ext cx="2430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80120" y="7540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80120" y="7613640"/>
              <a:ext cx="2444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24560" y="754056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1241280" y="4046400"/>
              <a:ext cx="238320" cy="120960"/>
              <a:chOff x="1241280" y="4046400"/>
              <a:chExt cx="238320" cy="120960"/>
            </a:xfrm>
          </p:grpSpPr>
          <p:sp>
            <p:nvSpPr>
              <p:cNvPr id="260" name=""/>
              <p:cNvSpPr/>
              <p:nvPr/>
            </p:nvSpPr>
            <p:spPr>
              <a:xfrm>
                <a:off x="1241280" y="4046400"/>
                <a:ext cx="238320" cy="12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241280" y="4046400"/>
                <a:ext cx="238320" cy="12096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1363320" y="40543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570120" y="4800600"/>
              <a:ext cx="238320" cy="120600"/>
              <a:chOff x="3570120" y="4800600"/>
              <a:chExt cx="238320" cy="120600"/>
            </a:xfrm>
          </p:grpSpPr>
          <p:sp>
            <p:nvSpPr>
              <p:cNvPr id="264" name=""/>
              <p:cNvSpPr/>
              <p:nvPr/>
            </p:nvSpPr>
            <p:spPr>
              <a:xfrm>
                <a:off x="3570120" y="4800600"/>
                <a:ext cx="23832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570120" y="4800600"/>
                <a:ext cx="238320" cy="12060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3692160" y="48085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1555920" y="1593720"/>
              <a:ext cx="342720" cy="128880"/>
              <a:chOff x="1555920" y="1593720"/>
              <a:chExt cx="342720" cy="128880"/>
            </a:xfrm>
          </p:grpSpPr>
          <p:sp>
            <p:nvSpPr>
              <p:cNvPr id="268" name=""/>
              <p:cNvSpPr/>
              <p:nvPr/>
            </p:nvSpPr>
            <p:spPr>
              <a:xfrm>
                <a:off x="1555920" y="1593720"/>
                <a:ext cx="342720" cy="12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555920" y="1593720"/>
                <a:ext cx="342720" cy="12888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1731600" y="1601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27280" y="1690560"/>
              <a:ext cx="3636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8196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554520" y="1981080"/>
              <a:ext cx="1270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88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424200" y="1981080"/>
              <a:ext cx="1285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2636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297480" y="1981080"/>
              <a:ext cx="1288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97480" y="190656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170760" y="1981080"/>
              <a:ext cx="1267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7076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040080" y="1981080"/>
              <a:ext cx="1285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044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910120" y="1981080"/>
              <a:ext cx="1288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1192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781600" y="1981080"/>
              <a:ext cx="13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8340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655960" y="1981080"/>
              <a:ext cx="1270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5632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527440" y="1981080"/>
              <a:ext cx="1285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2780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397120" y="1981080"/>
              <a:ext cx="1285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98920" y="190656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270040" y="1981080"/>
              <a:ext cx="1285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70400" y="190656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143680" y="1981080"/>
              <a:ext cx="1267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4368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014440" y="1981080"/>
              <a:ext cx="1270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14800" y="190656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4883040" y="1981080"/>
              <a:ext cx="13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8484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4755960" y="1981080"/>
              <a:ext cx="1285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5776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4628880" y="1981080"/>
              <a:ext cx="1285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2924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498560" y="1981080"/>
              <a:ext cx="1285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0072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371840" y="1981080"/>
              <a:ext cx="1288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71840" y="190656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65360" y="259560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332160" y="2676600"/>
              <a:ext cx="1224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40080" y="259560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206880" y="2676600"/>
              <a:ext cx="1332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06880" y="259560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073320" y="2676600"/>
              <a:ext cx="1238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83040" y="2595600"/>
              <a:ext cx="1440" cy="136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947680" y="2676600"/>
              <a:ext cx="1350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48040" y="2595600"/>
              <a:ext cx="1440" cy="1443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814120" y="2676600"/>
              <a:ext cx="1256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24200" y="2595600"/>
              <a:ext cx="1440" cy="1443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2690280" y="2676600"/>
              <a:ext cx="1335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90640" y="259560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557440" y="2676600"/>
              <a:ext cx="1238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67160" y="2595600"/>
              <a:ext cx="144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433240" y="2676600"/>
              <a:ext cx="1335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33600" y="259560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300400" y="2676600"/>
              <a:ext cx="1238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09760" y="259560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76560" y="2676600"/>
              <a:ext cx="1238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84480" y="259560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050560" y="2676600"/>
              <a:ext cx="1335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50920" y="2595600"/>
              <a:ext cx="1800" cy="1443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917720" y="2676600"/>
              <a:ext cx="1238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27080" y="259560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793880" y="2676600"/>
              <a:ext cx="1332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93880" y="259560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1660680" y="2676600"/>
              <a:ext cx="1238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70040" y="2595600"/>
              <a:ext cx="1440" cy="136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1536840" y="2676600"/>
              <a:ext cx="1332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36840" y="259560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401840" y="2676600"/>
              <a:ext cx="1252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11200" y="2595600"/>
              <a:ext cx="1800" cy="136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1278000" y="2676600"/>
              <a:ext cx="1332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78000" y="259560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144440" y="2676600"/>
              <a:ext cx="1238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54160" y="259560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14480" y="190656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2685600" y="1979640"/>
              <a:ext cx="1270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8776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555640" y="1979640"/>
              <a:ext cx="1299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58880" y="190656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430000" y="1979640"/>
              <a:ext cx="1285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30360" y="190656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301480" y="1979640"/>
              <a:ext cx="1285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0364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174400" y="1979640"/>
              <a:ext cx="1270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7656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049120" y="1979640"/>
              <a:ext cx="1270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4948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1920600" y="1979640"/>
              <a:ext cx="1270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2096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1790640" y="1979640"/>
              <a:ext cx="13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9244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1666440" y="1979640"/>
              <a:ext cx="1256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66800" y="190656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536480" y="1979640"/>
              <a:ext cx="1285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38280" y="19065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86720" y="3316320"/>
              <a:ext cx="1440" cy="810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583320" y="3397320"/>
              <a:ext cx="2001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86560" y="3316320"/>
              <a:ext cx="1440" cy="810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6389280" y="3397320"/>
              <a:ext cx="1969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389640" y="3316320"/>
              <a:ext cx="1800" cy="810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186240" y="3397320"/>
              <a:ext cx="1998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88040" y="3316320"/>
              <a:ext cx="1800" cy="810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786720" y="3589200"/>
              <a:ext cx="1440" cy="810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583320" y="3670200"/>
              <a:ext cx="20016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86560" y="3589200"/>
              <a:ext cx="1440" cy="810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6389280" y="3670200"/>
              <a:ext cx="1969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89640" y="3589200"/>
              <a:ext cx="1800" cy="810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186240" y="3670200"/>
              <a:ext cx="19980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88040" y="3589200"/>
              <a:ext cx="1800" cy="810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96080" y="3805200"/>
              <a:ext cx="1440" cy="810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592680" y="3886200"/>
              <a:ext cx="1998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95920" y="3805200"/>
              <a:ext cx="1800" cy="810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6397200" y="3886200"/>
              <a:ext cx="1983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97560" y="3805200"/>
              <a:ext cx="1800" cy="810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6194160" y="3886200"/>
              <a:ext cx="1998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97760" y="3805200"/>
              <a:ext cx="1440" cy="810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360" y="1049400"/>
              <a:ext cx="239760" cy="15228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6600" y="1077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360" y="1585800"/>
              <a:ext cx="239760" cy="15264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6600" y="1614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360" y="1866960"/>
              <a:ext cx="239760" cy="15228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6600" y="189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92400" y="1593720"/>
              <a:ext cx="239760" cy="15264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11200" y="162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3440" y="1866960"/>
              <a:ext cx="239760" cy="15228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93680" y="189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520" y="2298600"/>
              <a:ext cx="238320" cy="15264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6320" y="2327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520" y="2571840"/>
              <a:ext cx="238320" cy="15228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6320" y="2600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520" y="2844720"/>
              <a:ext cx="238320" cy="15264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6320" y="2873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7520" y="3276720"/>
              <a:ext cx="238320" cy="15228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3280" y="330516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7520" y="3549600"/>
              <a:ext cx="238320" cy="15228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3280" y="357840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50000" y="3013200"/>
              <a:ext cx="239760" cy="15228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47200" y="304164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440" y="4519440"/>
              <a:ext cx="239760" cy="15264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3000" y="454824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440" y="3902040"/>
              <a:ext cx="239760" cy="15228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3000" y="393048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520" y="5448240"/>
              <a:ext cx="238320" cy="15264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3280" y="547704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520" y="5921280"/>
              <a:ext cx="238320" cy="15264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43280" y="595008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520" y="6194520"/>
              <a:ext cx="238320" cy="15228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3280" y="622296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99040" y="5448240"/>
              <a:ext cx="237960" cy="15264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96240" y="547704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520" y="6804000"/>
              <a:ext cx="238320" cy="15228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3280" y="683244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520" y="7277040"/>
              <a:ext cx="247680" cy="15264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7960" y="730584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520" y="7493040"/>
              <a:ext cx="247680" cy="16812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7960" y="752472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9560" y="7626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91080" y="7477200"/>
              <a:ext cx="268200" cy="15228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02680" y="750564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6600" y="8213760"/>
              <a:ext cx="247680" cy="15228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7040" y="824220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520" y="6804000"/>
              <a:ext cx="238320" cy="15228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3280" y="683244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65360" y="682776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3332160" y="6908760"/>
              <a:ext cx="12240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340080" y="68277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3206880" y="6908760"/>
              <a:ext cx="13320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06880" y="68277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3073320" y="6908760"/>
              <a:ext cx="1238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83040" y="6827760"/>
              <a:ext cx="1440" cy="136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947680" y="6908760"/>
              <a:ext cx="13500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48040" y="6827760"/>
              <a:ext cx="1440" cy="1447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814120" y="6908760"/>
              <a:ext cx="1256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24200" y="6827760"/>
              <a:ext cx="1440" cy="1447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690280" y="6908760"/>
              <a:ext cx="13356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0640" y="682776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557440" y="6908760"/>
              <a:ext cx="1238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67160" y="6827760"/>
              <a:ext cx="144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433240" y="6908760"/>
              <a:ext cx="13356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33600" y="682776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300400" y="6908760"/>
              <a:ext cx="1238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09760" y="682776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176560" y="6908760"/>
              <a:ext cx="1238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4480" y="68277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050560" y="6908760"/>
              <a:ext cx="13356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50920" y="6827760"/>
              <a:ext cx="1800" cy="1447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917720" y="6908760"/>
              <a:ext cx="1238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27080" y="682776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1793880" y="6908760"/>
              <a:ext cx="13320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93880" y="68277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660680" y="6908760"/>
              <a:ext cx="1238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70040" y="6827760"/>
              <a:ext cx="1440" cy="136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1536840" y="6908760"/>
              <a:ext cx="13320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36840" y="68277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401840" y="6908760"/>
              <a:ext cx="1252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11200" y="6827760"/>
              <a:ext cx="1800" cy="136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278000" y="6908760"/>
              <a:ext cx="13320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78000" y="68277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1144440" y="6908760"/>
              <a:ext cx="1238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154160" y="682776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7520" y="7813800"/>
              <a:ext cx="247680" cy="16812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7960" y="784548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9560" y="7947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5823000" y="31680"/>
              <a:ext cx="982440" cy="484200"/>
              <a:chOff x="5823000" y="31680"/>
              <a:chExt cx="982440" cy="484200"/>
            </a:xfrm>
          </p:grpSpPr>
          <p:sp>
            <p:nvSpPr>
              <p:cNvPr id="476" name=""/>
              <p:cNvSpPr/>
              <p:nvPr/>
            </p:nvSpPr>
            <p:spPr>
              <a:xfrm>
                <a:off x="5841000" y="439560"/>
                <a:ext cx="17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823000" y="31680"/>
                <a:ext cx="982440" cy="407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78" name="" descr=""/>
            <p:cNvPicPr/>
            <p:nvPr/>
          </p:nvPicPr>
          <p:blipFill>
            <a:blip r:embed="rId2"/>
            <a:stretch/>
          </p:blipFill>
          <p:spPr>
            <a:xfrm>
              <a:off x="77760" y="31680"/>
              <a:ext cx="1019160" cy="3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9" name=""/>
            <p:cNvGrpSpPr/>
            <p:nvPr/>
          </p:nvGrpSpPr>
          <p:grpSpPr>
            <a:xfrm>
              <a:off x="4400640" y="4808520"/>
              <a:ext cx="237960" cy="120600"/>
              <a:chOff x="4400640" y="4808520"/>
              <a:chExt cx="237960" cy="120600"/>
            </a:xfrm>
          </p:grpSpPr>
          <p:sp>
            <p:nvSpPr>
              <p:cNvPr id="480" name=""/>
              <p:cNvSpPr/>
              <p:nvPr/>
            </p:nvSpPr>
            <p:spPr>
              <a:xfrm>
                <a:off x="4400640" y="4808520"/>
                <a:ext cx="23796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400640" y="4808520"/>
                <a:ext cx="237960" cy="12060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4522320" y="48164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46480" y="8213760"/>
              <a:ext cx="249120" cy="15228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446920" y="824220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48160" y="8213760"/>
              <a:ext cx="247680" cy="15228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48600" y="824220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62640" y="479520"/>
              <a:ext cx="230040" cy="12852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76400" y="504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79560" y="753264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81360" y="7605720"/>
              <a:ext cx="2602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41640" y="753264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41640" y="7605720"/>
              <a:ext cx="2635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05160" y="753264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08240" y="753264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09680" y="7605720"/>
              <a:ext cx="2602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69960" y="7532640"/>
              <a:ext cx="180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69960" y="7605720"/>
              <a:ext cx="2620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32040" y="7532640"/>
              <a:ext cx="1440" cy="730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86720" y="536400"/>
              <a:ext cx="1440" cy="55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6627600" y="592200"/>
              <a:ext cx="1587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27960" y="536400"/>
              <a:ext cx="1440" cy="55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467400" y="592200"/>
              <a:ext cx="1605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67400" y="536400"/>
              <a:ext cx="1800" cy="55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294600" y="592200"/>
              <a:ext cx="1728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94600" y="536400"/>
              <a:ext cx="1440" cy="55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135480" y="592200"/>
              <a:ext cx="1587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35840" y="536400"/>
              <a:ext cx="1440" cy="55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5975280" y="592200"/>
              <a:ext cx="1605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75280" y="536400"/>
              <a:ext cx="1800" cy="55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5802120" y="592200"/>
              <a:ext cx="1602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02480" y="536400"/>
              <a:ext cx="1440" cy="55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5013360" y="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2:23:17Z</dcterms:created>
  <dc:creator>José Luis Ortega</dc:creator>
  <dc:description/>
  <dc:language>en-US</dc:language>
  <cp:lastModifiedBy>Sergio Romero</cp:lastModifiedBy>
  <dcterms:modified xsi:type="dcterms:W3CDTF">2005-07-16T16:03:20Z</dcterms:modified>
  <cp:revision>3</cp:revision>
  <dc:subject/>
  <dc:title>Diapositiva 1</dc:title>
</cp:coreProperties>
</file>